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468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0000" y="4708080"/>
            <a:ext cx="4943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96AB7E-79DF-4E1F-870C-F475D47E1C7D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ED2FF6-D5DB-4CE5-AE10-C9A59FDAF25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DEEE3A-4237-45D4-A1F0-E55217AFD04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69C0EA-3C65-4866-8407-FDEAC562DAD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FFBD94-8719-41E9-9430-92B2B191775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229C73-CA8F-48E8-BA91-FFABD2E555C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DF7427-6DAF-4362-A9B0-DF22456197F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EF1F71-AC47-48E2-BE52-D08C0048999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B120F3-14DD-4589-8C27-02FEB2F7F60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DA29CF-E9A0-4ED3-9A50-745843AEBC9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AB990-E1E7-498B-B413-12342AA727E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131D6B-7549-4EA4-964D-6F80D720DE1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Hinweise zur Korrekthe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chleifeninvariante für die for Schleife: sortiert =&gt; for k: 0 &lt; k &lt;= i: a[k-1] &lt;= a[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gründung: Wenn die nächsten beiden Elemente für i und i+1 nicht richtig sortiert s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ein sollten, dann wird sortiert auf false gesetzt; damit ist die Schleifeninvariante trivial gült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ex falso quotlib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chleifeninvariante der while-Schleife: sortiert =&gt; for k: 0 &lt; k &lt; a.length: a[k-1] &lt;= a[k] (d.h. das Feld ist sortiert, wenn die Variable sortiert true i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gründung: Folgt unmittelbar aus der Schleifeninvariante der for-Schle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chleifenvariante der while-Schleife:   Anzahl der Paare (j,k) mit j &lt; k und a[j] &gt; a[k] (d.h. Anzahl der noch falsch sortierten  Pa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gründung: Wenn überhaupt noch so ein Paar existiert, wird  mind. eines davon in der for-Schleife umsortie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da nur benachbarte Paar umsortiert werden, wird durch jedes Umsortieren die Anzahl der fal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ortierten Paar um 1 reduzi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C883A6-639B-4FC5-93C1-09487E3F1DD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69D832-B46B-47B2-8730-0CC39F8AABD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59DA45-80A9-4E30-98BE-D0DA1F9B038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741999-EEBA-454D-9211-1E699412405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5AA0EA-DEDF-4938-9995-B7BC981C905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9A04CE-149B-4626-8778-9D9F5F0FCAD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406740-D9D7-4D8E-BC3C-88FE748D29A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090BB9-A9A4-41B7-ADAE-9825C0F0039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57D0B2-80FE-495B-8CC2-D18A398F448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5300FB-BA96-4C00-8B0A-0C76F68FB3A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62A36E-7B7B-46F1-80F9-BD7B0FF72FD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E75DAB-E434-4B07-948B-3BA7772E377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7B6F7C-2F73-4FEC-869C-06F259016CF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518598-2A88-4555-99ED-6C0A043EAF5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AFBDD2-A9D0-49CE-93B3-293AFBFAAD0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3822840" y="94186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63A411-83C6-4FAD-BF21-3BCF67F53E6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E98-CC16-4F43-A070-98B6A922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CC2-5ED6-4A53-A1BC-E6FD041E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B18-1D50-4B3F-81DC-B520EA4B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CAD-B078-43BF-9740-FF9E8426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43B-332E-48B6-BD3B-68EEB62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BCD-58BF-425C-AD1D-693F87E7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453-3B50-4BA9-8938-2A461FC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561-1DAA-465E-831E-FABA488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B1B-4C98-4A3E-B5C2-DB9244F7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02A-DDE1-4E74-9DA9-2F088A31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A93-2619-4542-A783-CD145804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164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5720" y="188604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164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5720" y="4063680"/>
            <a:ext cx="26323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714-775A-4F91-A23A-1F2068C0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60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6520" y="406368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6520" y="1886040"/>
            <a:ext cx="398952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3680"/>
            <a:ext cx="8175600" cy="19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56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18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75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na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7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280" y="6229440"/>
            <a:ext cx="2841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5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8EA086-9D93-44BE-B81C-B048BA4C9694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I.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ákladné elemen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7. D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átové štruktúry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olia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(Array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 programovacích jazykoch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stupnosť viacerých elementov (alebo objektov) rovnakéh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 x = new double[100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le so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vkami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čom každý prvok má počiatočnú hodnot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vky sú inicializované implicitne</a:t>
            </a:r>
            <a:br>
              <a:rPr sz="2800"/>
            </a:b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zo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vky majú index o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0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99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 (Java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[] matrix = new double[50]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vojdimenzionálne pole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Mat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vkami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le poyostáva 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50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–tich polí, každé po 1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0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vkov typ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čom kaˇydý prvok má hodnot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zo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rix[0][0], ..., matrix[49][99]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 (Java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[] matri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trix = new double[50][100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trix = new double[]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{0.0, 0.7}, {0.25, 0.0}, {0.0}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remenným typu polí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ôže byť priradená hocikedy hodnota zodpovedajúceho typu, t.j. musí zodpovedať počet a typ dimenzi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 (Java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Indexy v poliach začínajú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0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71520" indent="-371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7152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9012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a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ačína indexovanie prvkov poľa pevne a to indexom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1520" indent="-371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7152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9012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vky sú vždy oindexované zasebou idúcimi čísl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mpl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itná i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n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al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ácia (Jav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 pomoco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ríme nové pol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k hodnoty poľa nie sú pri inicializácii explcitne uvedené, ale je uvedený iba počet prvk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dobúdajú prvky nasledovné implicitné hodno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s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šetkých číselných typ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ls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typ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\u0000‘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typ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ull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ak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bude neskô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vysvetlen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7.3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stup k prvkom poľ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vok poľa sa správa presne ako premenná daného ty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trix[0][1]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yp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trix[0]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yp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vekto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ty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vektor[7]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ty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stup k prvkom poľ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Čítanie hodnoty vo výrazoch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erg = matrix[3][4] * vektor[2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riradenie hodnoty prvku poľa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rix[3][4] = vektor[2] + erg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rix[2] = vektor;  //!!!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Neskôr vi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čítanie s index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0920" y="1871280"/>
            <a:ext cx="8999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dex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ôže byť ľubovoľný výraz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.j. nielen konštanty ako doposiaľ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 vysledok = 0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int i = 0; i &lt; vektor.length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vysledok = vysledok + vektor[i] * vektor[i]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ystem.out.println(“l= “ + Math.sqrt(vysledok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ubble So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BubbleSort, Algoritmus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na usporiadanie poľ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class Bubble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 a = new int[args.length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 int i = 0; i &lt; args.length; i++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a[i] = Integer.parseInt(args[i]); }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ubble Sort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 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 int i = 0; i &lt; a.length - 1; i++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f ( a[i] &gt; a[i+1]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nt h  = a[i];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]   = a[i+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+1] = 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 while ( !sor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ed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181480" y="3581280"/>
            <a:ext cx="3505320" cy="24386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Tahoma"/>
              </a:rPr>
              <a:t>Pozor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] = a[i+1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+1] = a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vymení prvky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[i]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a[i+1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arametre príkazového riadk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rg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rgs[0], args[1], args[2]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i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eárn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ktor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vekto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vektor[0], vektor[1], vektor[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t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matrix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trix[i][j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ubble Sort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isla vo od najmensieho po najvacsi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 int i = 0; i &lt; a.length; i++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ystem.out.println(a[i]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54080" indent="0">
              <a:buNone/>
              <a:tabLst>
                <a:tab algn="l" pos="0"/>
                <a:tab algn="l" pos="105408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7.4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lia a point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ríme nové pole daného ty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priradení takto vytvoreného poľa na premennú sa vloží do premennej adresa vytvoreného poľa, teda premenná bude ukazovať na po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priradení poľa na do premennej teda pole nie je kopírova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457200" y="2514600"/>
            <a:ext cx="2817720" cy="3579840"/>
            <a:chOff x="457200" y="2514600"/>
            <a:chExt cx="2817720" cy="3579840"/>
          </a:xfrm>
        </p:grpSpPr>
        <p:sp>
          <p:nvSpPr>
            <p:cNvPr id="243" name="Rectangle 2"/>
            <p:cNvSpPr/>
            <p:nvPr/>
          </p:nvSpPr>
          <p:spPr>
            <a:xfrm>
              <a:off x="1143000" y="4952880"/>
              <a:ext cx="2131920" cy="1141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"/>
            <p:cNvSpPr/>
            <p:nvPr/>
          </p:nvSpPr>
          <p:spPr>
            <a:xfrm>
              <a:off x="457200" y="2514600"/>
              <a:ext cx="175104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Group 4"/>
          <p:cNvGrpSpPr/>
          <p:nvPr/>
        </p:nvGrpSpPr>
        <p:grpSpPr>
          <a:xfrm>
            <a:off x="2286000" y="2514600"/>
            <a:ext cx="3808440" cy="3579840"/>
            <a:chOff x="2286000" y="2514600"/>
            <a:chExt cx="3808440" cy="3579840"/>
          </a:xfrm>
        </p:grpSpPr>
        <p:sp>
          <p:nvSpPr>
            <p:cNvPr id="246" name="Rectangle 5"/>
            <p:cNvSpPr/>
            <p:nvPr/>
          </p:nvSpPr>
          <p:spPr>
            <a:xfrm>
              <a:off x="3352680" y="4952880"/>
              <a:ext cx="1827360" cy="1141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2286000" y="2514600"/>
              <a:ext cx="380844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Group 7"/>
          <p:cNvGrpSpPr/>
          <p:nvPr/>
        </p:nvGrpSpPr>
        <p:grpSpPr>
          <a:xfrm>
            <a:off x="3352680" y="5029200"/>
            <a:ext cx="1827360" cy="846720"/>
            <a:chOff x="3352680" y="5029200"/>
            <a:chExt cx="1827360" cy="846720"/>
          </a:xfrm>
        </p:grpSpPr>
        <p:sp>
          <p:nvSpPr>
            <p:cNvPr id="249" name="Text Box 8"/>
            <p:cNvSpPr/>
            <p:nvPr/>
          </p:nvSpPr>
          <p:spPr>
            <a:xfrm>
              <a:off x="3581280" y="502920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4191120" y="502920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4800600" y="502920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3352680" y="541620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3962520" y="541620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4572000" y="541620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1294920" y="5416200"/>
            <a:ext cx="1904040" cy="459720"/>
            <a:chOff x="1294920" y="5416200"/>
            <a:chExt cx="1904040" cy="459720"/>
          </a:xfrm>
        </p:grpSpPr>
        <p:grpSp>
          <p:nvGrpSpPr>
            <p:cNvPr id="256" name="Group 15"/>
            <p:cNvGrpSpPr/>
            <p:nvPr/>
          </p:nvGrpSpPr>
          <p:grpSpPr>
            <a:xfrm>
              <a:off x="1294920" y="5416200"/>
              <a:ext cx="913320" cy="459720"/>
              <a:chOff x="1294920" y="5416200"/>
              <a:chExt cx="913320" cy="459720"/>
            </a:xfrm>
          </p:grpSpPr>
          <p:sp>
            <p:nvSpPr>
              <p:cNvPr id="257" name="Text Box 16"/>
              <p:cNvSpPr/>
              <p:nvPr/>
            </p:nvSpPr>
            <p:spPr>
              <a:xfrm>
                <a:off x="1600200" y="54162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Text Box 17"/>
              <p:cNvSpPr/>
              <p:nvPr/>
            </p:nvSpPr>
            <p:spPr>
              <a:xfrm>
                <a:off x="1294920" y="548604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Line 18"/>
            <p:cNvSpPr/>
            <p:nvPr/>
          </p:nvSpPr>
          <p:spPr>
            <a:xfrm>
              <a:off x="1905120" y="5654520"/>
              <a:ext cx="1293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457200" y="1828800"/>
            <a:ext cx="2817720" cy="2894040"/>
            <a:chOff x="457200" y="1828800"/>
            <a:chExt cx="2817720" cy="2894040"/>
          </a:xfrm>
        </p:grpSpPr>
        <p:sp>
          <p:nvSpPr>
            <p:cNvPr id="261" name="Rectangle 20"/>
            <p:cNvSpPr/>
            <p:nvPr/>
          </p:nvSpPr>
          <p:spPr>
            <a:xfrm>
              <a:off x="1143000" y="3581280"/>
              <a:ext cx="2131920" cy="1141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457200" y="1828800"/>
              <a:ext cx="175104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22"/>
          <p:cNvGrpSpPr/>
          <p:nvPr/>
        </p:nvGrpSpPr>
        <p:grpSpPr>
          <a:xfrm>
            <a:off x="2286000" y="1828800"/>
            <a:ext cx="3808440" cy="2894040"/>
            <a:chOff x="2286000" y="1828800"/>
            <a:chExt cx="3808440" cy="2894040"/>
          </a:xfrm>
        </p:grpSpPr>
        <p:sp>
          <p:nvSpPr>
            <p:cNvPr id="264" name="Rectangle 23"/>
            <p:cNvSpPr/>
            <p:nvPr/>
          </p:nvSpPr>
          <p:spPr>
            <a:xfrm>
              <a:off x="3352680" y="3581280"/>
              <a:ext cx="1827360" cy="1141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24"/>
            <p:cNvSpPr/>
            <p:nvPr/>
          </p:nvSpPr>
          <p:spPr>
            <a:xfrm>
              <a:off x="2286000" y="1828800"/>
              <a:ext cx="380844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 a = new int[] {1, 2, 3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 b = new int[] {1, 2, 3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" name="Group 27"/>
          <p:cNvGrpSpPr/>
          <p:nvPr/>
        </p:nvGrpSpPr>
        <p:grpSpPr>
          <a:xfrm>
            <a:off x="3352680" y="3641760"/>
            <a:ext cx="1827360" cy="846720"/>
            <a:chOff x="3352680" y="3641760"/>
            <a:chExt cx="1827360" cy="846720"/>
          </a:xfrm>
        </p:grpSpPr>
        <p:sp>
          <p:nvSpPr>
            <p:cNvPr id="269" name="Text Box 28"/>
            <p:cNvSpPr/>
            <p:nvPr/>
          </p:nvSpPr>
          <p:spPr>
            <a:xfrm>
              <a:off x="3581280" y="3641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29"/>
            <p:cNvSpPr/>
            <p:nvPr/>
          </p:nvSpPr>
          <p:spPr>
            <a:xfrm>
              <a:off x="4191120" y="364176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30"/>
            <p:cNvSpPr/>
            <p:nvPr/>
          </p:nvSpPr>
          <p:spPr>
            <a:xfrm>
              <a:off x="4800600" y="3641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Text Box 31"/>
            <p:cNvSpPr/>
            <p:nvPr/>
          </p:nvSpPr>
          <p:spPr>
            <a:xfrm>
              <a:off x="335268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396252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33"/>
            <p:cNvSpPr/>
            <p:nvPr/>
          </p:nvSpPr>
          <p:spPr>
            <a:xfrm>
              <a:off x="457200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34"/>
          <p:cNvGrpSpPr/>
          <p:nvPr/>
        </p:nvGrpSpPr>
        <p:grpSpPr>
          <a:xfrm>
            <a:off x="1294920" y="4028760"/>
            <a:ext cx="1904040" cy="459720"/>
            <a:chOff x="1294920" y="4028760"/>
            <a:chExt cx="1904040" cy="459720"/>
          </a:xfrm>
        </p:grpSpPr>
        <p:grpSp>
          <p:nvGrpSpPr>
            <p:cNvPr id="276" name="Group 35"/>
            <p:cNvGrpSpPr/>
            <p:nvPr/>
          </p:nvGrpSpPr>
          <p:grpSpPr>
            <a:xfrm>
              <a:off x="1294920" y="4028760"/>
              <a:ext cx="913320" cy="459720"/>
              <a:chOff x="1294920" y="4028760"/>
              <a:chExt cx="913320" cy="459720"/>
            </a:xfrm>
          </p:grpSpPr>
          <p:sp>
            <p:nvSpPr>
              <p:cNvPr id="277" name="Text Box 36"/>
              <p:cNvSpPr/>
              <p:nvPr/>
            </p:nvSpPr>
            <p:spPr>
              <a:xfrm>
                <a:off x="1600200" y="402876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Text Box 37"/>
              <p:cNvSpPr/>
              <p:nvPr/>
            </p:nvSpPr>
            <p:spPr>
              <a:xfrm>
                <a:off x="1294920" y="409860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Line 38"/>
            <p:cNvSpPr/>
            <p:nvPr/>
          </p:nvSpPr>
          <p:spPr>
            <a:xfrm>
              <a:off x="1905120" y="4267080"/>
              <a:ext cx="1293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 a, b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 = new int[] {1, 2, 3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 = 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3352680" y="3641760"/>
            <a:ext cx="1827360" cy="846720"/>
            <a:chOff x="3352680" y="3641760"/>
            <a:chExt cx="1827360" cy="846720"/>
          </a:xfrm>
        </p:grpSpPr>
        <p:sp>
          <p:nvSpPr>
            <p:cNvPr id="283" name="Text Box 4"/>
            <p:cNvSpPr/>
            <p:nvPr/>
          </p:nvSpPr>
          <p:spPr>
            <a:xfrm>
              <a:off x="3581280" y="3641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4191120" y="364176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800600" y="3641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335268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396252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4572000" y="4028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Freeform 10"/>
          <p:cNvSpPr/>
          <p:nvPr/>
        </p:nvSpPr>
        <p:spPr>
          <a:xfrm>
            <a:off x="1905120" y="4267080"/>
            <a:ext cx="1295280" cy="1800"/>
          </a:xfrm>
          <a:custGeom>
            <a:avLst/>
            <a:gdLst/>
            <a:ahLst/>
            <a:rect l="l" t="t" r="r" b="b"/>
            <a:pathLst>
              <a:path w="3599" h="1">
                <a:moveTo>
                  <a:pt x="0" y="0"/>
                </a:moveTo>
                <a:lnTo>
                  <a:pt x="3598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1294920" y="4028760"/>
            <a:ext cx="913320" cy="1237680"/>
            <a:chOff x="1294920" y="4028760"/>
            <a:chExt cx="913320" cy="1237680"/>
          </a:xfrm>
        </p:grpSpPr>
        <p:grpSp>
          <p:nvGrpSpPr>
            <p:cNvPr id="291" name="Group 12"/>
            <p:cNvGrpSpPr/>
            <p:nvPr/>
          </p:nvGrpSpPr>
          <p:grpSpPr>
            <a:xfrm>
              <a:off x="1294920" y="4028760"/>
              <a:ext cx="913320" cy="459720"/>
              <a:chOff x="1294920" y="4028760"/>
              <a:chExt cx="913320" cy="459720"/>
            </a:xfrm>
          </p:grpSpPr>
          <p:grpSp>
            <p:nvGrpSpPr>
              <p:cNvPr id="292" name="Group 13"/>
              <p:cNvGrpSpPr/>
              <p:nvPr/>
            </p:nvGrpSpPr>
            <p:grpSpPr>
              <a:xfrm>
                <a:off x="1294920" y="4028760"/>
                <a:ext cx="913320" cy="459720"/>
                <a:chOff x="1294920" y="4028760"/>
                <a:chExt cx="913320" cy="459720"/>
              </a:xfrm>
            </p:grpSpPr>
            <p:sp>
              <p:nvSpPr>
                <p:cNvPr id="293" name="Text Box 14"/>
                <p:cNvSpPr/>
                <p:nvPr/>
              </p:nvSpPr>
              <p:spPr>
                <a:xfrm>
                  <a:off x="1600200" y="4028760"/>
                  <a:ext cx="608040" cy="45972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Text Box 15"/>
                <p:cNvSpPr/>
                <p:nvPr/>
              </p:nvSpPr>
              <p:spPr>
                <a:xfrm>
                  <a:off x="1294920" y="409860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Line 16"/>
              <p:cNvSpPr/>
              <p:nvPr/>
            </p:nvSpPr>
            <p:spPr>
              <a:xfrm>
                <a:off x="1905120" y="4267080"/>
                <a:ext cx="1508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7"/>
            <p:cNvGrpSpPr/>
            <p:nvPr/>
          </p:nvGrpSpPr>
          <p:grpSpPr>
            <a:xfrm>
              <a:off x="1294920" y="4806720"/>
              <a:ext cx="913320" cy="459720"/>
              <a:chOff x="1294920" y="4806720"/>
              <a:chExt cx="913320" cy="459720"/>
            </a:xfrm>
          </p:grpSpPr>
          <p:grpSp>
            <p:nvGrpSpPr>
              <p:cNvPr id="297" name="Group 18"/>
              <p:cNvGrpSpPr/>
              <p:nvPr/>
            </p:nvGrpSpPr>
            <p:grpSpPr>
              <a:xfrm>
                <a:off x="1294920" y="4806720"/>
                <a:ext cx="913320" cy="459720"/>
                <a:chOff x="1294920" y="4806720"/>
                <a:chExt cx="913320" cy="459720"/>
              </a:xfrm>
            </p:grpSpPr>
            <p:sp>
              <p:nvSpPr>
                <p:cNvPr id="298" name="Text Box 19"/>
                <p:cNvSpPr/>
                <p:nvPr/>
              </p:nvSpPr>
              <p:spPr>
                <a:xfrm>
                  <a:off x="1600200" y="4806720"/>
                  <a:ext cx="608040" cy="45972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0"/>
                <p:cNvSpPr/>
                <p:nvPr/>
              </p:nvSpPr>
              <p:spPr>
                <a:xfrm>
                  <a:off x="1294920" y="487656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Line 21"/>
              <p:cNvSpPr/>
              <p:nvPr/>
            </p:nvSpPr>
            <p:spPr>
              <a:xfrm>
                <a:off x="1905120" y="5029200"/>
                <a:ext cx="1508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AutoShape 22"/>
          <p:cNvSpPr/>
          <p:nvPr/>
        </p:nvSpPr>
        <p:spPr>
          <a:xfrm>
            <a:off x="1892160" y="4368960"/>
            <a:ext cx="1271880" cy="663480"/>
          </a:xfrm>
          <a:custGeom>
            <a:avLst/>
            <a:gdLst>
              <a:gd name="textAreaLeft" fmla="*/ 5023800 w 1271880"/>
              <a:gd name="textAreaRight" fmla="*/ 29283480 w 1271880"/>
              <a:gd name="textAreaTop" fmla="*/ 5023080 h 663480"/>
              <a:gd name="textAreaBottom" fmla="*/ 29280240 h 663480"/>
            </a:gdLst>
            <a:ahLst/>
            <a:rect l="textAreaLeft" t="textAreaTop" r="textAreaRight" b="textAreaBottom"/>
            <a:pathLst>
              <a:path w="801" h="418">
                <a:moveTo>
                  <a:pt x="0" y="416"/>
                </a:moveTo>
                <a:lnTo>
                  <a:pt x="208" y="416"/>
                </a:lnTo>
                <a:cubicBezTo>
                  <a:pt x="275" y="409"/>
                  <a:pt x="347" y="418"/>
                  <a:pt x="400" y="372"/>
                </a:cubicBezTo>
                <a:cubicBezTo>
                  <a:pt x="453" y="326"/>
                  <a:pt x="491" y="193"/>
                  <a:pt x="527" y="137"/>
                </a:cubicBezTo>
                <a:cubicBezTo>
                  <a:pt x="563" y="81"/>
                  <a:pt x="572" y="60"/>
                  <a:pt x="618" y="37"/>
                </a:cubicBezTo>
                <a:cubicBezTo>
                  <a:pt x="664" y="14"/>
                  <a:pt x="763" y="8"/>
                  <a:pt x="801" y="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638680" y="2743200"/>
            <a:ext cx="304812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Tahoma"/>
              </a:rPr>
              <a:t>Pozor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le nie je pri priradení kopírované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2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[1] = 7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Teraz platí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b[1] = 7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1294920" y="3657600"/>
            <a:ext cx="3885120" cy="1624680"/>
            <a:chOff x="1294920" y="3657600"/>
            <a:chExt cx="3885120" cy="1624680"/>
          </a:xfrm>
        </p:grpSpPr>
        <p:grpSp>
          <p:nvGrpSpPr>
            <p:cNvPr id="306" name="Group 4"/>
            <p:cNvGrpSpPr/>
            <p:nvPr/>
          </p:nvGrpSpPr>
          <p:grpSpPr>
            <a:xfrm>
              <a:off x="3352680" y="3657600"/>
              <a:ext cx="1827360" cy="846720"/>
              <a:chOff x="3352680" y="3657600"/>
              <a:chExt cx="1827360" cy="846720"/>
            </a:xfrm>
          </p:grpSpPr>
          <p:sp>
            <p:nvSpPr>
              <p:cNvPr id="307" name="Text Box 5"/>
              <p:cNvSpPr/>
              <p:nvPr/>
            </p:nvSpPr>
            <p:spPr>
              <a:xfrm>
                <a:off x="3581280" y="36576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Text Box 6"/>
              <p:cNvSpPr/>
              <p:nvPr/>
            </p:nvSpPr>
            <p:spPr>
              <a:xfrm>
                <a:off x="4191120" y="3657600"/>
                <a:ext cx="226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Text Box 7"/>
              <p:cNvSpPr/>
              <p:nvPr/>
            </p:nvSpPr>
            <p:spPr>
              <a:xfrm>
                <a:off x="4800600" y="36576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Text Box 8"/>
              <p:cNvSpPr/>
              <p:nvPr/>
            </p:nvSpPr>
            <p:spPr>
              <a:xfrm>
                <a:off x="335268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Text Box 9"/>
              <p:cNvSpPr/>
              <p:nvPr/>
            </p:nvSpPr>
            <p:spPr>
              <a:xfrm>
                <a:off x="396252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Text Box 10"/>
              <p:cNvSpPr/>
              <p:nvPr/>
            </p:nvSpPr>
            <p:spPr>
              <a:xfrm>
                <a:off x="457200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1"/>
            <p:cNvSpPr/>
            <p:nvPr/>
          </p:nvSpPr>
          <p:spPr>
            <a:xfrm>
              <a:off x="1905120" y="4282920"/>
              <a:ext cx="1293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Group 12"/>
            <p:cNvGrpSpPr/>
            <p:nvPr/>
          </p:nvGrpSpPr>
          <p:grpSpPr>
            <a:xfrm>
              <a:off x="1294920" y="4044600"/>
              <a:ext cx="913320" cy="459720"/>
              <a:chOff x="1294920" y="4044600"/>
              <a:chExt cx="913320" cy="459720"/>
            </a:xfrm>
          </p:grpSpPr>
          <p:grpSp>
            <p:nvGrpSpPr>
              <p:cNvPr id="315" name="Group 13"/>
              <p:cNvGrpSpPr/>
              <p:nvPr/>
            </p:nvGrpSpPr>
            <p:grpSpPr>
              <a:xfrm>
                <a:off x="1294920" y="4044600"/>
                <a:ext cx="913320" cy="459720"/>
                <a:chOff x="1294920" y="4044600"/>
                <a:chExt cx="913320" cy="459720"/>
              </a:xfrm>
            </p:grpSpPr>
            <p:sp>
              <p:nvSpPr>
                <p:cNvPr id="316" name="Text Box 14"/>
                <p:cNvSpPr/>
                <p:nvPr/>
              </p:nvSpPr>
              <p:spPr>
                <a:xfrm>
                  <a:off x="1600200" y="4044600"/>
                  <a:ext cx="608040" cy="45972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Text Box 15"/>
                <p:cNvSpPr/>
                <p:nvPr/>
              </p:nvSpPr>
              <p:spPr>
                <a:xfrm>
                  <a:off x="1294920" y="411444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Line 16"/>
              <p:cNvSpPr/>
              <p:nvPr/>
            </p:nvSpPr>
            <p:spPr>
              <a:xfrm>
                <a:off x="1905120" y="4282920"/>
                <a:ext cx="1508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17"/>
            <p:cNvGrpSpPr/>
            <p:nvPr/>
          </p:nvGrpSpPr>
          <p:grpSpPr>
            <a:xfrm>
              <a:off x="1294920" y="4822560"/>
              <a:ext cx="913320" cy="459720"/>
              <a:chOff x="1294920" y="4822560"/>
              <a:chExt cx="913320" cy="459720"/>
            </a:xfrm>
          </p:grpSpPr>
          <p:sp>
            <p:nvSpPr>
              <p:cNvPr id="320" name="Text Box 18"/>
              <p:cNvSpPr/>
              <p:nvPr/>
            </p:nvSpPr>
            <p:spPr>
              <a:xfrm>
                <a:off x="1600200" y="482256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19"/>
              <p:cNvSpPr/>
              <p:nvPr/>
            </p:nvSpPr>
            <p:spPr>
              <a:xfrm>
                <a:off x="1294920" y="489240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AutoShape 20"/>
            <p:cNvSpPr/>
            <p:nvPr/>
          </p:nvSpPr>
          <p:spPr>
            <a:xfrm>
              <a:off x="1892160" y="4384800"/>
              <a:ext cx="1270080" cy="662040"/>
            </a:xfrm>
            <a:custGeom>
              <a:avLst/>
              <a:gdLst>
                <a:gd name="textAreaLeft" fmla="*/ 5016600 w 1270080"/>
                <a:gd name="textAreaRight" fmla="*/ 29242080 w 1270080"/>
                <a:gd name="textAreaTop" fmla="*/ 5012280 h 662040"/>
                <a:gd name="textAreaBottom" fmla="*/ 29216880 h 662040"/>
              </a:gdLst>
              <a:ahLst/>
              <a:rect l="textAreaLeft" t="textAreaTop" r="textAreaRight" b="textAreaBottom"/>
              <a:pathLst>
                <a:path w="801" h="418">
                  <a:moveTo>
                    <a:pt x="0" y="416"/>
                  </a:moveTo>
                  <a:lnTo>
                    <a:pt x="208" y="416"/>
                  </a:lnTo>
                  <a:cubicBezTo>
                    <a:pt x="275" y="409"/>
                    <a:pt x="347" y="418"/>
                    <a:pt x="400" y="372"/>
                  </a:cubicBezTo>
                  <a:cubicBezTo>
                    <a:pt x="453" y="326"/>
                    <a:pt x="491" y="193"/>
                    <a:pt x="527" y="137"/>
                  </a:cubicBezTo>
                  <a:cubicBezTo>
                    <a:pt x="563" y="81"/>
                    <a:pt x="572" y="60"/>
                    <a:pt x="618" y="37"/>
                  </a:cubicBezTo>
                  <a:cubicBezTo>
                    <a:pt x="664" y="14"/>
                    <a:pt x="763" y="8"/>
                    <a:pt x="801" y="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21"/>
          <p:cNvSpPr/>
          <p:nvPr/>
        </p:nvSpPr>
        <p:spPr>
          <a:xfrm>
            <a:off x="5867280" y="2666880"/>
            <a:ext cx="30481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Tahoma"/>
              </a:rPr>
              <a:t>Pozor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radenie hodnoty prvk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[1]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enilo hodnotu prvk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[1]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eďže obidve premenné a aj b ukazujú na to isté po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962520" y="4038480"/>
            <a:ext cx="609480" cy="473040"/>
          </a:xfrm>
          <a:prstGeom prst="rect">
            <a:avLst/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2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 = new int[] { 0, 1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1294920" y="3657600"/>
            <a:ext cx="3885120" cy="1624680"/>
            <a:chOff x="1294920" y="3657600"/>
            <a:chExt cx="3885120" cy="1624680"/>
          </a:xfrm>
        </p:grpSpPr>
        <p:grpSp>
          <p:nvGrpSpPr>
            <p:cNvPr id="328" name="Group 4"/>
            <p:cNvGrpSpPr/>
            <p:nvPr/>
          </p:nvGrpSpPr>
          <p:grpSpPr>
            <a:xfrm>
              <a:off x="3352680" y="3657600"/>
              <a:ext cx="1827360" cy="846720"/>
              <a:chOff x="3352680" y="3657600"/>
              <a:chExt cx="1827360" cy="846720"/>
            </a:xfrm>
          </p:grpSpPr>
          <p:sp>
            <p:nvSpPr>
              <p:cNvPr id="329" name="Text Box 5"/>
              <p:cNvSpPr/>
              <p:nvPr/>
            </p:nvSpPr>
            <p:spPr>
              <a:xfrm>
                <a:off x="3581280" y="36576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6"/>
              <p:cNvSpPr/>
              <p:nvPr/>
            </p:nvSpPr>
            <p:spPr>
              <a:xfrm>
                <a:off x="4191120" y="3657600"/>
                <a:ext cx="226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7"/>
              <p:cNvSpPr/>
              <p:nvPr/>
            </p:nvSpPr>
            <p:spPr>
              <a:xfrm>
                <a:off x="4800600" y="36576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Text Box 8"/>
              <p:cNvSpPr/>
              <p:nvPr/>
            </p:nvSpPr>
            <p:spPr>
              <a:xfrm>
                <a:off x="335268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Text Box 9"/>
              <p:cNvSpPr/>
              <p:nvPr/>
            </p:nvSpPr>
            <p:spPr>
              <a:xfrm>
                <a:off x="396252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>
                <a:off x="4572000" y="40446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Line 11"/>
            <p:cNvSpPr/>
            <p:nvPr/>
          </p:nvSpPr>
          <p:spPr>
            <a:xfrm>
              <a:off x="1905120" y="4282920"/>
              <a:ext cx="1293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Group 12"/>
            <p:cNvGrpSpPr/>
            <p:nvPr/>
          </p:nvGrpSpPr>
          <p:grpSpPr>
            <a:xfrm>
              <a:off x="1294920" y="4044600"/>
              <a:ext cx="913320" cy="459720"/>
              <a:chOff x="1294920" y="4044600"/>
              <a:chExt cx="913320" cy="459720"/>
            </a:xfrm>
          </p:grpSpPr>
          <p:grpSp>
            <p:nvGrpSpPr>
              <p:cNvPr id="337" name="Group 13"/>
              <p:cNvGrpSpPr/>
              <p:nvPr/>
            </p:nvGrpSpPr>
            <p:grpSpPr>
              <a:xfrm>
                <a:off x="1294920" y="4044600"/>
                <a:ext cx="913320" cy="459720"/>
                <a:chOff x="1294920" y="4044600"/>
                <a:chExt cx="913320" cy="459720"/>
              </a:xfrm>
            </p:grpSpPr>
            <p:sp>
              <p:nvSpPr>
                <p:cNvPr id="338" name="Text Box 14"/>
                <p:cNvSpPr/>
                <p:nvPr/>
              </p:nvSpPr>
              <p:spPr>
                <a:xfrm>
                  <a:off x="1600200" y="4044600"/>
                  <a:ext cx="608040" cy="45972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15"/>
                <p:cNvSpPr/>
                <p:nvPr/>
              </p:nvSpPr>
              <p:spPr>
                <a:xfrm>
                  <a:off x="1294920" y="411444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Line 16"/>
              <p:cNvSpPr/>
              <p:nvPr/>
            </p:nvSpPr>
            <p:spPr>
              <a:xfrm>
                <a:off x="1905120" y="4282920"/>
                <a:ext cx="1508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17"/>
            <p:cNvGrpSpPr/>
            <p:nvPr/>
          </p:nvGrpSpPr>
          <p:grpSpPr>
            <a:xfrm>
              <a:off x="1294920" y="4822560"/>
              <a:ext cx="913320" cy="459720"/>
              <a:chOff x="1294920" y="4822560"/>
              <a:chExt cx="913320" cy="459720"/>
            </a:xfrm>
          </p:grpSpPr>
          <p:sp>
            <p:nvSpPr>
              <p:cNvPr id="342" name="Text Box 18"/>
              <p:cNvSpPr/>
              <p:nvPr/>
            </p:nvSpPr>
            <p:spPr>
              <a:xfrm>
                <a:off x="1600200" y="482256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Text Box 19"/>
              <p:cNvSpPr/>
              <p:nvPr/>
            </p:nvSpPr>
            <p:spPr>
              <a:xfrm>
                <a:off x="1294920" y="489240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" name="AutoShape 20"/>
            <p:cNvSpPr/>
            <p:nvPr/>
          </p:nvSpPr>
          <p:spPr>
            <a:xfrm>
              <a:off x="1892160" y="4384800"/>
              <a:ext cx="1270080" cy="662040"/>
            </a:xfrm>
            <a:custGeom>
              <a:avLst/>
              <a:gdLst>
                <a:gd name="textAreaLeft" fmla="*/ 5016600 w 1270080"/>
                <a:gd name="textAreaRight" fmla="*/ 29242080 w 1270080"/>
                <a:gd name="textAreaTop" fmla="*/ 5012280 h 662040"/>
                <a:gd name="textAreaBottom" fmla="*/ 29216880 h 662040"/>
              </a:gdLst>
              <a:ahLst/>
              <a:rect l="textAreaLeft" t="textAreaTop" r="textAreaRight" b="textAreaBottom"/>
              <a:pathLst>
                <a:path w="801" h="418">
                  <a:moveTo>
                    <a:pt x="0" y="416"/>
                  </a:moveTo>
                  <a:lnTo>
                    <a:pt x="208" y="416"/>
                  </a:lnTo>
                  <a:cubicBezTo>
                    <a:pt x="275" y="409"/>
                    <a:pt x="347" y="418"/>
                    <a:pt x="400" y="372"/>
                  </a:cubicBezTo>
                  <a:cubicBezTo>
                    <a:pt x="453" y="326"/>
                    <a:pt x="491" y="193"/>
                    <a:pt x="527" y="137"/>
                  </a:cubicBezTo>
                  <a:cubicBezTo>
                    <a:pt x="563" y="81"/>
                    <a:pt x="572" y="60"/>
                    <a:pt x="618" y="37"/>
                  </a:cubicBezTo>
                  <a:cubicBezTo>
                    <a:pt x="664" y="14"/>
                    <a:pt x="763" y="8"/>
                    <a:pt x="801" y="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Text Box 21"/>
          <p:cNvSpPr/>
          <p:nvPr/>
        </p:nvSpPr>
        <p:spPr>
          <a:xfrm>
            <a:off x="5562720" y="2362320"/>
            <a:ext cx="3047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Tahoma"/>
              </a:rPr>
              <a:t>Pozor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 priradení do premennej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 samozrejm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mení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menná b bude totiž ukazovať na iné pole ako premenná 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Group 22"/>
          <p:cNvGrpSpPr/>
          <p:nvPr/>
        </p:nvGrpSpPr>
        <p:grpSpPr>
          <a:xfrm>
            <a:off x="3352680" y="4724280"/>
            <a:ext cx="1217880" cy="846720"/>
            <a:chOff x="3352680" y="4724280"/>
            <a:chExt cx="1217880" cy="846720"/>
          </a:xfrm>
        </p:grpSpPr>
        <p:sp>
          <p:nvSpPr>
            <p:cNvPr id="347" name="Text Box 23"/>
            <p:cNvSpPr/>
            <p:nvPr/>
          </p:nvSpPr>
          <p:spPr>
            <a:xfrm>
              <a:off x="3581280" y="472428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Text Box 24"/>
            <p:cNvSpPr/>
            <p:nvPr/>
          </p:nvSpPr>
          <p:spPr>
            <a:xfrm>
              <a:off x="4191120" y="472428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Text Box 25"/>
            <p:cNvSpPr/>
            <p:nvPr/>
          </p:nvSpPr>
          <p:spPr>
            <a:xfrm>
              <a:off x="3352680" y="511128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26"/>
            <p:cNvSpPr/>
            <p:nvPr/>
          </p:nvSpPr>
          <p:spPr>
            <a:xfrm>
              <a:off x="3962520" y="511128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27"/>
          <p:cNvGrpSpPr/>
          <p:nvPr/>
        </p:nvGrpSpPr>
        <p:grpSpPr>
          <a:xfrm>
            <a:off x="1890720" y="4648320"/>
            <a:ext cx="1384200" cy="684000"/>
            <a:chOff x="1890720" y="4648320"/>
            <a:chExt cx="1384200" cy="684000"/>
          </a:xfrm>
        </p:grpSpPr>
        <p:sp>
          <p:nvSpPr>
            <p:cNvPr id="352" name="Line 28"/>
            <p:cNvSpPr/>
            <p:nvPr/>
          </p:nvSpPr>
          <p:spPr>
            <a:xfrm>
              <a:off x="1890720" y="5043600"/>
              <a:ext cx="1384200" cy="2887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Group 29"/>
            <p:cNvGrpSpPr/>
            <p:nvPr/>
          </p:nvGrpSpPr>
          <p:grpSpPr>
            <a:xfrm>
              <a:off x="2514600" y="4648320"/>
              <a:ext cx="303120" cy="226800"/>
              <a:chOff x="2514600" y="4648320"/>
              <a:chExt cx="303120" cy="226800"/>
            </a:xfrm>
          </p:grpSpPr>
          <p:sp>
            <p:nvSpPr>
              <p:cNvPr id="354" name="Line 30"/>
              <p:cNvSpPr/>
              <p:nvPr/>
            </p:nvSpPr>
            <p:spPr>
              <a:xfrm>
                <a:off x="2514600" y="4649760"/>
                <a:ext cx="303120" cy="2232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Line 31"/>
              <p:cNvSpPr/>
              <p:nvPr/>
            </p:nvSpPr>
            <p:spPr>
              <a:xfrm flipV="1">
                <a:off x="2514600" y="4648320"/>
                <a:ext cx="303120" cy="2268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3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iacdimenzionálne pol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[] k = new int[]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{ 1, 2, 3 }, {4, 5, 6}, {7, 8, 9, 0}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038480" y="32004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4648320" y="32004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5257800" y="32004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809880" y="3588120"/>
            <a:ext cx="60984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419720" y="358812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5029200" y="358812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4038480" y="41911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4648320" y="41911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5257800" y="41911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3809880" y="4578480"/>
            <a:ext cx="60984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4419720" y="457848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029200" y="457848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838440" y="32007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403848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464832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2578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3809880" y="5569200"/>
            <a:ext cx="60984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4419720" y="556920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5029200" y="5569200"/>
            <a:ext cx="60948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586728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5638680" y="5569200"/>
            <a:ext cx="609840" cy="45972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Group 24"/>
          <p:cNvGrpSpPr/>
          <p:nvPr/>
        </p:nvGrpSpPr>
        <p:grpSpPr>
          <a:xfrm>
            <a:off x="838080" y="4343400"/>
            <a:ext cx="912960" cy="1598760"/>
            <a:chOff x="838080" y="4343400"/>
            <a:chExt cx="912960" cy="1598760"/>
          </a:xfrm>
        </p:grpSpPr>
        <p:sp>
          <p:nvSpPr>
            <p:cNvPr id="380" name="Text Box 25"/>
            <p:cNvSpPr/>
            <p:nvPr/>
          </p:nvSpPr>
          <p:spPr>
            <a:xfrm>
              <a:off x="838080" y="4419720"/>
              <a:ext cx="206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Text Box 26"/>
            <p:cNvSpPr/>
            <p:nvPr/>
          </p:nvSpPr>
          <p:spPr>
            <a:xfrm>
              <a:off x="838080" y="4952880"/>
              <a:ext cx="206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Text Box 27"/>
            <p:cNvSpPr/>
            <p:nvPr/>
          </p:nvSpPr>
          <p:spPr>
            <a:xfrm>
              <a:off x="838080" y="5562720"/>
              <a:ext cx="276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143000" y="4343400"/>
              <a:ext cx="608040" cy="531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1143000" y="4876920"/>
              <a:ext cx="608040" cy="531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1143000" y="5410080"/>
              <a:ext cx="608040" cy="53208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Text Box 31"/>
          <p:cNvSpPr/>
          <p:nvPr/>
        </p:nvSpPr>
        <p:spPr>
          <a:xfrm>
            <a:off x="1143000" y="3124080"/>
            <a:ext cx="609480" cy="47304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32"/>
          <p:cNvSpPr/>
          <p:nvPr/>
        </p:nvSpPr>
        <p:spPr>
          <a:xfrm>
            <a:off x="1447920" y="3352680"/>
            <a:ext cx="1440" cy="914400"/>
          </a:xfrm>
          <a:custGeom>
            <a:avLst/>
            <a:gdLst/>
            <a:ahLst/>
            <a:rect l="l" t="t" r="r" b="b"/>
            <a:pathLst>
              <a:path w="1" h="2541">
                <a:moveTo>
                  <a:pt x="0" y="0"/>
                </a:moveTo>
                <a:lnTo>
                  <a:pt x="0" y="254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33"/>
          <p:cNvSpPr/>
          <p:nvPr/>
        </p:nvSpPr>
        <p:spPr>
          <a:xfrm>
            <a:off x="1447920" y="3886200"/>
            <a:ext cx="2286000" cy="762120"/>
          </a:xfrm>
          <a:custGeom>
            <a:avLst/>
            <a:gdLst/>
            <a:ahLst/>
            <a:rect l="l" t="t" r="r" b="b"/>
            <a:pathLst>
              <a:path w="6351" h="2118">
                <a:moveTo>
                  <a:pt x="0" y="2117"/>
                </a:moveTo>
                <a:lnTo>
                  <a:pt x="635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Freeform 34"/>
          <p:cNvSpPr/>
          <p:nvPr/>
        </p:nvSpPr>
        <p:spPr>
          <a:xfrm>
            <a:off x="1447920" y="4800600"/>
            <a:ext cx="2286000" cy="380880"/>
          </a:xfrm>
          <a:custGeom>
            <a:avLst/>
            <a:gdLst/>
            <a:ahLst/>
            <a:rect l="l" t="t" r="r" b="b"/>
            <a:pathLst>
              <a:path w="6351" h="1059">
                <a:moveTo>
                  <a:pt x="0" y="1058"/>
                </a:moveTo>
                <a:lnTo>
                  <a:pt x="635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35"/>
          <p:cNvSpPr/>
          <p:nvPr/>
        </p:nvSpPr>
        <p:spPr>
          <a:xfrm>
            <a:off x="1447920" y="5715000"/>
            <a:ext cx="2286000" cy="76320"/>
          </a:xfrm>
          <a:custGeom>
            <a:avLst/>
            <a:gdLst/>
            <a:ahLst/>
            <a:rect l="l" t="t" r="r" b="b"/>
            <a:pathLst>
              <a:path w="6351" h="213">
                <a:moveTo>
                  <a:pt x="0" y="0"/>
                </a:moveTo>
                <a:lnTo>
                  <a:pt x="6350" y="212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headEnd len="med" type="oval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3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k[1] = 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837720" y="2422440"/>
            <a:ext cx="5409000" cy="2904120"/>
            <a:chOff x="837720" y="2422440"/>
            <a:chExt cx="5409000" cy="2904120"/>
          </a:xfrm>
        </p:grpSpPr>
        <p:sp>
          <p:nvSpPr>
            <p:cNvPr id="394" name="Text Box 4"/>
            <p:cNvSpPr/>
            <p:nvPr/>
          </p:nvSpPr>
          <p:spPr>
            <a:xfrm>
              <a:off x="4038480" y="2498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4648320" y="249876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6"/>
            <p:cNvSpPr/>
            <p:nvPr/>
          </p:nvSpPr>
          <p:spPr>
            <a:xfrm>
              <a:off x="5257800" y="249876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3809880" y="2885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4419720" y="2885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9"/>
            <p:cNvSpPr/>
            <p:nvPr/>
          </p:nvSpPr>
          <p:spPr>
            <a:xfrm>
              <a:off x="5029200" y="288576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4038480" y="3489480"/>
              <a:ext cx="2271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4648320" y="3489480"/>
              <a:ext cx="2268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5257800" y="3489480"/>
              <a:ext cx="2271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3809880" y="387648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4"/>
            <p:cNvSpPr/>
            <p:nvPr/>
          </p:nvSpPr>
          <p:spPr>
            <a:xfrm>
              <a:off x="4419720" y="387648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5029200" y="387648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837720" y="24984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17"/>
            <p:cNvSpPr/>
            <p:nvPr/>
          </p:nvSpPr>
          <p:spPr>
            <a:xfrm>
              <a:off x="4038480" y="447984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4648320" y="4479840"/>
              <a:ext cx="226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19"/>
            <p:cNvSpPr/>
            <p:nvPr/>
          </p:nvSpPr>
          <p:spPr>
            <a:xfrm>
              <a:off x="5257800" y="447984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20"/>
            <p:cNvSpPr/>
            <p:nvPr/>
          </p:nvSpPr>
          <p:spPr>
            <a:xfrm>
              <a:off x="3809880" y="486684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21"/>
            <p:cNvSpPr/>
            <p:nvPr/>
          </p:nvSpPr>
          <p:spPr>
            <a:xfrm>
              <a:off x="4419720" y="486684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22"/>
            <p:cNvSpPr/>
            <p:nvPr/>
          </p:nvSpPr>
          <p:spPr>
            <a:xfrm>
              <a:off x="5029200" y="486684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23"/>
            <p:cNvSpPr/>
            <p:nvPr/>
          </p:nvSpPr>
          <p:spPr>
            <a:xfrm>
              <a:off x="5867280" y="4479840"/>
              <a:ext cx="227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24"/>
            <p:cNvSpPr/>
            <p:nvPr/>
          </p:nvSpPr>
          <p:spPr>
            <a:xfrm>
              <a:off x="5638680" y="4866840"/>
              <a:ext cx="6080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Group 25"/>
            <p:cNvGrpSpPr/>
            <p:nvPr/>
          </p:nvGrpSpPr>
          <p:grpSpPr>
            <a:xfrm>
              <a:off x="838080" y="3641760"/>
              <a:ext cx="912960" cy="1598400"/>
              <a:chOff x="838080" y="3641760"/>
              <a:chExt cx="912960" cy="1598400"/>
            </a:xfrm>
          </p:grpSpPr>
          <p:sp>
            <p:nvSpPr>
              <p:cNvPr id="416" name="Text Box 26"/>
              <p:cNvSpPr/>
              <p:nvPr/>
            </p:nvSpPr>
            <p:spPr>
              <a:xfrm>
                <a:off x="838080" y="3718080"/>
                <a:ext cx="2066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Text Box 27"/>
              <p:cNvSpPr/>
              <p:nvPr/>
            </p:nvSpPr>
            <p:spPr>
              <a:xfrm>
                <a:off x="838080" y="4251240"/>
                <a:ext cx="2066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Text Box 28"/>
              <p:cNvSpPr/>
              <p:nvPr/>
            </p:nvSpPr>
            <p:spPr>
              <a:xfrm>
                <a:off x="838080" y="4861080"/>
                <a:ext cx="2764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Text Box 29"/>
              <p:cNvSpPr/>
              <p:nvPr/>
            </p:nvSpPr>
            <p:spPr>
              <a:xfrm>
                <a:off x="1143000" y="3641760"/>
                <a:ext cx="608040" cy="531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Text Box 30"/>
              <p:cNvSpPr/>
              <p:nvPr/>
            </p:nvSpPr>
            <p:spPr>
              <a:xfrm>
                <a:off x="1143000" y="4175280"/>
                <a:ext cx="608040" cy="531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Text Box 31"/>
              <p:cNvSpPr/>
              <p:nvPr/>
            </p:nvSpPr>
            <p:spPr>
              <a:xfrm>
                <a:off x="1143000" y="4708440"/>
                <a:ext cx="608040" cy="531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" name="Text Box 32"/>
            <p:cNvSpPr/>
            <p:nvPr/>
          </p:nvSpPr>
          <p:spPr>
            <a:xfrm>
              <a:off x="1143000" y="2422440"/>
              <a:ext cx="608040" cy="47160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1447920" y="2651040"/>
              <a:ext cx="0" cy="912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1447920" y="3182760"/>
              <a:ext cx="2284200" cy="763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35"/>
            <p:cNvSpPr/>
            <p:nvPr/>
          </p:nvSpPr>
          <p:spPr>
            <a:xfrm flipV="1">
              <a:off x="1447920" y="4096800"/>
              <a:ext cx="2284200" cy="3826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36"/>
            <p:cNvSpPr/>
            <p:nvPr/>
          </p:nvSpPr>
          <p:spPr>
            <a:xfrm>
              <a:off x="1447920" y="5013360"/>
              <a:ext cx="2284200" cy="745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37"/>
          <p:cNvGrpSpPr/>
          <p:nvPr/>
        </p:nvGrpSpPr>
        <p:grpSpPr>
          <a:xfrm>
            <a:off x="837720" y="5486400"/>
            <a:ext cx="3885120" cy="846720"/>
            <a:chOff x="837720" y="5486400"/>
            <a:chExt cx="3885120" cy="846720"/>
          </a:xfrm>
        </p:grpSpPr>
        <p:grpSp>
          <p:nvGrpSpPr>
            <p:cNvPr id="428" name="Group 38"/>
            <p:cNvGrpSpPr/>
            <p:nvPr/>
          </p:nvGrpSpPr>
          <p:grpSpPr>
            <a:xfrm>
              <a:off x="2895480" y="5486400"/>
              <a:ext cx="1827360" cy="846720"/>
              <a:chOff x="2895480" y="5486400"/>
              <a:chExt cx="1827360" cy="846720"/>
            </a:xfrm>
          </p:grpSpPr>
          <p:sp>
            <p:nvSpPr>
              <p:cNvPr id="429" name="Text Box 39"/>
              <p:cNvSpPr/>
              <p:nvPr/>
            </p:nvSpPr>
            <p:spPr>
              <a:xfrm>
                <a:off x="3124080" y="54864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Text Box 40"/>
              <p:cNvSpPr/>
              <p:nvPr/>
            </p:nvSpPr>
            <p:spPr>
              <a:xfrm>
                <a:off x="3733920" y="5486400"/>
                <a:ext cx="226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Text Box 41"/>
              <p:cNvSpPr/>
              <p:nvPr/>
            </p:nvSpPr>
            <p:spPr>
              <a:xfrm>
                <a:off x="4343400" y="5486400"/>
                <a:ext cx="22716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Text Box 42"/>
              <p:cNvSpPr/>
              <p:nvPr/>
            </p:nvSpPr>
            <p:spPr>
              <a:xfrm>
                <a:off x="2895480" y="58734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Text Box 43"/>
              <p:cNvSpPr/>
              <p:nvPr/>
            </p:nvSpPr>
            <p:spPr>
              <a:xfrm>
                <a:off x="3505320" y="58734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Text Box 44"/>
              <p:cNvSpPr/>
              <p:nvPr/>
            </p:nvSpPr>
            <p:spPr>
              <a:xfrm>
                <a:off x="4114800" y="5873400"/>
                <a:ext cx="608040" cy="45972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5" name="Line 45"/>
            <p:cNvSpPr/>
            <p:nvPr/>
          </p:nvSpPr>
          <p:spPr>
            <a:xfrm>
              <a:off x="1447920" y="6111720"/>
              <a:ext cx="1293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oval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6" name="Group 46"/>
            <p:cNvGrpSpPr/>
            <p:nvPr/>
          </p:nvGrpSpPr>
          <p:grpSpPr>
            <a:xfrm>
              <a:off x="837720" y="5873400"/>
              <a:ext cx="913320" cy="459720"/>
              <a:chOff x="837720" y="5873400"/>
              <a:chExt cx="913320" cy="459720"/>
            </a:xfrm>
          </p:grpSpPr>
          <p:grpSp>
            <p:nvGrpSpPr>
              <p:cNvPr id="437" name="Group 47"/>
              <p:cNvGrpSpPr/>
              <p:nvPr/>
            </p:nvGrpSpPr>
            <p:grpSpPr>
              <a:xfrm>
                <a:off x="837720" y="5873400"/>
                <a:ext cx="913320" cy="459720"/>
                <a:chOff x="837720" y="5873400"/>
                <a:chExt cx="913320" cy="459720"/>
              </a:xfrm>
            </p:grpSpPr>
            <p:sp>
              <p:nvSpPr>
                <p:cNvPr id="438" name="Text Box 48"/>
                <p:cNvSpPr/>
                <p:nvPr/>
              </p:nvSpPr>
              <p:spPr>
                <a:xfrm>
                  <a:off x="1143000" y="5873400"/>
                  <a:ext cx="608040" cy="45972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Text Box 49"/>
                <p:cNvSpPr/>
                <p:nvPr/>
              </p:nvSpPr>
              <p:spPr>
                <a:xfrm>
                  <a:off x="837720" y="594324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Line 50"/>
              <p:cNvSpPr/>
              <p:nvPr/>
            </p:nvSpPr>
            <p:spPr>
              <a:xfrm>
                <a:off x="1447920" y="6111720"/>
                <a:ext cx="15084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Group 51"/>
          <p:cNvGrpSpPr/>
          <p:nvPr/>
        </p:nvGrpSpPr>
        <p:grpSpPr>
          <a:xfrm>
            <a:off x="2438280" y="4191120"/>
            <a:ext cx="303480" cy="226800"/>
            <a:chOff x="2438280" y="4191120"/>
            <a:chExt cx="303480" cy="226800"/>
          </a:xfrm>
        </p:grpSpPr>
        <p:sp>
          <p:nvSpPr>
            <p:cNvPr id="442" name="Line 52"/>
            <p:cNvSpPr/>
            <p:nvPr/>
          </p:nvSpPr>
          <p:spPr>
            <a:xfrm>
              <a:off x="2438280" y="4192560"/>
              <a:ext cx="303480" cy="223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53"/>
            <p:cNvSpPr/>
            <p:nvPr/>
          </p:nvSpPr>
          <p:spPr>
            <a:xfrm flipV="1">
              <a:off x="2438280" y="4191120"/>
              <a:ext cx="303480" cy="2268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44" name="Rovná spojovacia šípka 55"/>
          <p:cNvCxnSpPr/>
          <p:nvPr/>
        </p:nvCxnSpPr>
        <p:spPr>
          <a:xfrm>
            <a:off x="1447560" y="4479840"/>
            <a:ext cx="1448280" cy="138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šeobecn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dexované premen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[i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for ( int i = 1; i &lt;=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um = sum + x[i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7086600" y="3886200"/>
          <a:ext cx="11304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886200"/>
                    <a:ext cx="11304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4"/>
          <p:cNvGraphicFramePr/>
          <p:nvPr/>
        </p:nvGraphicFramePr>
        <p:xfrm>
          <a:off x="2743200" y="2362320"/>
          <a:ext cx="44604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362320"/>
                    <a:ext cx="446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7.1 Polia: Dekla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cia v Ja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[] args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 znakových reťazcov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args[]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o ist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 x, y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dve polia typ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double (Vektor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[] matrix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Jedno dvojdimenzionál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ypu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double (Ma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c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[] k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Dvojdimenzionálne pole typu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 vektor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ďalší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7.1 Polia: Dekla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cia v Ja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[] args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 znakových reťazcov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args[]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o ist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 x, y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dve polia typ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double (Vektor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[] matrix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Jedno dvojdimenzionál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l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ypu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double (Ma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c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[][] k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Dvojdimenzionálne pole typu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[] vektor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ďalší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ek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in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í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(Jav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double[] x, y;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double[][] matrix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609480" y="1600200"/>
            <a:ext cx="2210040" cy="1219320"/>
          </a:xfrm>
          <a:prstGeom prst="wedgeRoundRectCallout">
            <a:avLst>
              <a:gd name="adj1" fmla="val 59481"/>
              <a:gd name="adj2" fmla="val 75652"/>
              <a:gd name="adj3" fmla="val 16667"/>
            </a:avLst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Ty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971800" y="1447920"/>
            <a:ext cx="2819520" cy="1218960"/>
          </a:xfrm>
          <a:prstGeom prst="wedgeRoundRectCallout">
            <a:avLst>
              <a:gd name="adj1" fmla="val -13175"/>
              <a:gd name="adj2" fmla="val 92319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ole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yp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172200" y="1447920"/>
            <a:ext cx="2514600" cy="1218960"/>
          </a:xfrm>
          <a:prstGeom prst="wedgeRoundRectCallout">
            <a:avLst>
              <a:gd name="adj1" fmla="val -82134"/>
              <a:gd name="adj2" fmla="val 96615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Meno poľ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28600" y="4876920"/>
            <a:ext cx="2209680" cy="1218960"/>
          </a:xfrm>
          <a:prstGeom prst="wedgeRoundRectCallout">
            <a:avLst>
              <a:gd name="adj1" fmla="val 69180"/>
              <a:gd name="adj2" fmla="val -60287"/>
              <a:gd name="adj3" fmla="val 16667"/>
            </a:avLst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Ty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590920" y="5334120"/>
            <a:ext cx="2819160" cy="1218960"/>
          </a:xfrm>
          <a:prstGeom prst="wedgeRoundRectCallout">
            <a:avLst>
              <a:gd name="adj1" fmla="val -449"/>
              <a:gd name="adj2" fmla="val -92319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ole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yp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562720" y="5181480"/>
            <a:ext cx="3352680" cy="1676520"/>
          </a:xfrm>
          <a:prstGeom prst="wedgeRoundRectCallout">
            <a:avLst>
              <a:gd name="adj1" fmla="val -73625"/>
              <a:gd name="adj2" fmla="val -75189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 fontScale="99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ole t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yp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Pole typu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400800" y="3124080"/>
            <a:ext cx="2590920" cy="1219320"/>
          </a:xfrm>
          <a:prstGeom prst="wedgeRoundRectCallout">
            <a:avLst>
              <a:gd name="adj1" fmla="val -62500"/>
              <a:gd name="adj2" fmla="val 50912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Meno poľ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iacdimenzionálne polia (Jav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2590920" y="2590920"/>
            <a:ext cx="3120840" cy="834840"/>
            <a:chOff x="2590920" y="2590920"/>
            <a:chExt cx="3120840" cy="834840"/>
          </a:xfrm>
        </p:grpSpPr>
        <p:grpSp>
          <p:nvGrpSpPr>
            <p:cNvPr id="115" name="Group 3"/>
            <p:cNvGrpSpPr/>
            <p:nvPr/>
          </p:nvGrpSpPr>
          <p:grpSpPr>
            <a:xfrm>
              <a:off x="2590920" y="2971800"/>
              <a:ext cx="3120840" cy="453960"/>
              <a:chOff x="2590920" y="2971800"/>
              <a:chExt cx="3120840" cy="453960"/>
            </a:xfrm>
          </p:grpSpPr>
          <p:sp>
            <p:nvSpPr>
              <p:cNvPr id="116" name="Rectangle 4"/>
              <p:cNvSpPr/>
              <p:nvPr/>
            </p:nvSpPr>
            <p:spPr>
              <a:xfrm>
                <a:off x="2590920" y="2971800"/>
                <a:ext cx="3120840" cy="45396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>
                <a:off x="3048120" y="2971800"/>
                <a:ext cx="0" cy="453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3505320" y="2971800"/>
                <a:ext cx="0" cy="453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3962520" y="2971800"/>
                <a:ext cx="0" cy="453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4419720" y="2971800"/>
                <a:ext cx="0" cy="453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5257800" y="2971800"/>
                <a:ext cx="0" cy="453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10"/>
            <p:cNvSpPr/>
            <p:nvPr/>
          </p:nvSpPr>
          <p:spPr>
            <a:xfrm>
              <a:off x="2666880" y="2590920"/>
              <a:ext cx="22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3124080" y="2590920"/>
              <a:ext cx="22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3581280" y="2590920"/>
              <a:ext cx="22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4038480" y="2590920"/>
              <a:ext cx="22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334120" y="2590920"/>
              <a:ext cx="2253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4572000" y="3048120"/>
              <a:ext cx="530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533520" y="304812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Group 18"/>
          <p:cNvGrpSpPr/>
          <p:nvPr/>
        </p:nvGrpSpPr>
        <p:grpSpPr>
          <a:xfrm>
            <a:off x="2590920" y="3581280"/>
            <a:ext cx="3654360" cy="835200"/>
            <a:chOff x="2590920" y="3581280"/>
            <a:chExt cx="3654360" cy="835200"/>
          </a:xfrm>
        </p:grpSpPr>
        <p:sp>
          <p:nvSpPr>
            <p:cNvPr id="131" name="Rectangle 19"/>
            <p:cNvSpPr/>
            <p:nvPr/>
          </p:nvSpPr>
          <p:spPr>
            <a:xfrm>
              <a:off x="2590920" y="3962520"/>
              <a:ext cx="3654360" cy="45396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3048120" y="3962520"/>
              <a:ext cx="0" cy="453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3505320" y="3962520"/>
              <a:ext cx="0" cy="453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3962520" y="3962520"/>
              <a:ext cx="0" cy="453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4419720" y="3962520"/>
              <a:ext cx="0" cy="453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791320" y="3962520"/>
              <a:ext cx="0" cy="453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25"/>
            <p:cNvSpPr/>
            <p:nvPr/>
          </p:nvSpPr>
          <p:spPr>
            <a:xfrm>
              <a:off x="2666880" y="35812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26"/>
            <p:cNvSpPr/>
            <p:nvPr/>
          </p:nvSpPr>
          <p:spPr>
            <a:xfrm>
              <a:off x="3124080" y="35812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3581280" y="35812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28"/>
            <p:cNvSpPr/>
            <p:nvPr/>
          </p:nvSpPr>
          <p:spPr>
            <a:xfrm>
              <a:off x="4038480" y="35812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5867280" y="3581280"/>
              <a:ext cx="3016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4724280" y="4038480"/>
              <a:ext cx="530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31"/>
          <p:cNvGrpSpPr/>
          <p:nvPr/>
        </p:nvGrpSpPr>
        <p:grpSpPr>
          <a:xfrm>
            <a:off x="2590920" y="5181480"/>
            <a:ext cx="3120840" cy="835200"/>
            <a:chOff x="2590920" y="5181480"/>
            <a:chExt cx="3120840" cy="835200"/>
          </a:xfrm>
        </p:grpSpPr>
        <p:grpSp>
          <p:nvGrpSpPr>
            <p:cNvPr id="144" name="Group 32"/>
            <p:cNvGrpSpPr/>
            <p:nvPr/>
          </p:nvGrpSpPr>
          <p:grpSpPr>
            <a:xfrm>
              <a:off x="2590920" y="5181480"/>
              <a:ext cx="3120840" cy="835200"/>
              <a:chOff x="2590920" y="5181480"/>
              <a:chExt cx="3120840" cy="835200"/>
            </a:xfrm>
          </p:grpSpPr>
          <p:grpSp>
            <p:nvGrpSpPr>
              <p:cNvPr id="145" name="Group 33"/>
              <p:cNvGrpSpPr/>
              <p:nvPr/>
            </p:nvGrpSpPr>
            <p:grpSpPr>
              <a:xfrm>
                <a:off x="2590920" y="5562720"/>
                <a:ext cx="3120840" cy="453960"/>
                <a:chOff x="2590920" y="5562720"/>
                <a:chExt cx="3120840" cy="453960"/>
              </a:xfrm>
            </p:grpSpPr>
            <p:sp>
              <p:nvSpPr>
                <p:cNvPr id="146" name="Rectangle 34"/>
                <p:cNvSpPr/>
                <p:nvPr/>
              </p:nvSpPr>
              <p:spPr>
                <a:xfrm>
                  <a:off x="2590920" y="5562720"/>
                  <a:ext cx="3120840" cy="453960"/>
                </a:xfrm>
                <a:prstGeom prst="rect">
                  <a:avLst/>
                </a:prstGeom>
                <a:noFill/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35"/>
                <p:cNvSpPr/>
                <p:nvPr/>
              </p:nvSpPr>
              <p:spPr>
                <a:xfrm>
                  <a:off x="3048120" y="5562720"/>
                  <a:ext cx="0" cy="45396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36"/>
                <p:cNvSpPr/>
                <p:nvPr/>
              </p:nvSpPr>
              <p:spPr>
                <a:xfrm>
                  <a:off x="3505320" y="5562720"/>
                  <a:ext cx="0" cy="45396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37"/>
                <p:cNvSpPr/>
                <p:nvPr/>
              </p:nvSpPr>
              <p:spPr>
                <a:xfrm>
                  <a:off x="3962520" y="5562720"/>
                  <a:ext cx="0" cy="45396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38"/>
                <p:cNvSpPr/>
                <p:nvPr/>
              </p:nvSpPr>
              <p:spPr>
                <a:xfrm>
                  <a:off x="4419720" y="5562720"/>
                  <a:ext cx="0" cy="45396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39"/>
                <p:cNvSpPr/>
                <p:nvPr/>
              </p:nvSpPr>
              <p:spPr>
                <a:xfrm>
                  <a:off x="5257800" y="5562720"/>
                  <a:ext cx="0" cy="45396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Text Box 40"/>
              <p:cNvSpPr/>
              <p:nvPr/>
            </p:nvSpPr>
            <p:spPr>
              <a:xfrm>
                <a:off x="2666880" y="5181480"/>
                <a:ext cx="225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Text Box 41"/>
              <p:cNvSpPr/>
              <p:nvPr/>
            </p:nvSpPr>
            <p:spPr>
              <a:xfrm>
                <a:off x="3124080" y="5181480"/>
                <a:ext cx="225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Text Box 42"/>
              <p:cNvSpPr/>
              <p:nvPr/>
            </p:nvSpPr>
            <p:spPr>
              <a:xfrm>
                <a:off x="3581280" y="5181480"/>
                <a:ext cx="225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Text Box 43"/>
              <p:cNvSpPr/>
              <p:nvPr/>
            </p:nvSpPr>
            <p:spPr>
              <a:xfrm>
                <a:off x="4038480" y="5181480"/>
                <a:ext cx="225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44"/>
              <p:cNvSpPr/>
              <p:nvPr/>
            </p:nvSpPr>
            <p:spPr>
              <a:xfrm>
                <a:off x="5334120" y="5181480"/>
                <a:ext cx="22536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45"/>
              <p:cNvSpPr/>
              <p:nvPr/>
            </p:nvSpPr>
            <p:spPr>
              <a:xfrm>
                <a:off x="4572000" y="5638680"/>
                <a:ext cx="5302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46"/>
            <p:cNvSpPr/>
            <p:nvPr/>
          </p:nvSpPr>
          <p:spPr>
            <a:xfrm>
              <a:off x="5334120" y="5181480"/>
              <a:ext cx="3016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47"/>
          <p:cNvGrpSpPr/>
          <p:nvPr/>
        </p:nvGrpSpPr>
        <p:grpSpPr>
          <a:xfrm>
            <a:off x="1600200" y="2514600"/>
            <a:ext cx="5483160" cy="3807000"/>
            <a:chOff x="1600200" y="2514600"/>
            <a:chExt cx="5483160" cy="3807000"/>
          </a:xfrm>
        </p:grpSpPr>
        <p:sp>
          <p:nvSpPr>
            <p:cNvPr id="160" name="Text Box 48"/>
            <p:cNvSpPr/>
            <p:nvPr/>
          </p:nvSpPr>
          <p:spPr>
            <a:xfrm>
              <a:off x="4038480" y="4648320"/>
              <a:ext cx="9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Group 49"/>
            <p:cNvGrpSpPr/>
            <p:nvPr/>
          </p:nvGrpSpPr>
          <p:grpSpPr>
            <a:xfrm>
              <a:off x="1600200" y="2514600"/>
              <a:ext cx="5483160" cy="3807000"/>
              <a:chOff x="1600200" y="2514600"/>
              <a:chExt cx="5483160" cy="3807000"/>
            </a:xfrm>
          </p:grpSpPr>
          <p:sp>
            <p:nvSpPr>
              <p:cNvPr id="162" name="Rectangle 50"/>
              <p:cNvSpPr/>
              <p:nvPr/>
            </p:nvSpPr>
            <p:spPr>
              <a:xfrm>
                <a:off x="2057400" y="2514600"/>
                <a:ext cx="5025960" cy="380700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51"/>
              <p:cNvSpPr/>
              <p:nvPr/>
            </p:nvSpPr>
            <p:spPr>
              <a:xfrm>
                <a:off x="2057400" y="3505320"/>
                <a:ext cx="502596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52"/>
              <p:cNvSpPr/>
              <p:nvPr/>
            </p:nvSpPr>
            <p:spPr>
              <a:xfrm>
                <a:off x="2057400" y="4572000"/>
                <a:ext cx="502596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53"/>
              <p:cNvSpPr/>
              <p:nvPr/>
            </p:nvSpPr>
            <p:spPr>
              <a:xfrm>
                <a:off x="2057400" y="5181480"/>
                <a:ext cx="5025960" cy="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1676520" y="2819520"/>
                <a:ext cx="2253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55"/>
              <p:cNvSpPr/>
              <p:nvPr/>
            </p:nvSpPr>
            <p:spPr>
              <a:xfrm>
                <a:off x="1676520" y="3886200"/>
                <a:ext cx="22536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Text Box 56"/>
              <p:cNvSpPr/>
              <p:nvPr/>
            </p:nvSpPr>
            <p:spPr>
              <a:xfrm>
                <a:off x="1600200" y="5638680"/>
                <a:ext cx="3016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Text Box 57"/>
          <p:cNvSpPr/>
          <p:nvPr/>
        </p:nvSpPr>
        <p:spPr>
          <a:xfrm>
            <a:off x="1828800" y="205740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[][]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5396040" y="256212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7.2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li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iradenie (Jav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tring[]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mesiac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= new String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"Jan","Feb","Mrc","Apr","Ma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","Jun"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"Jul","Aug","Sep","Okt","Nov","De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"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304920" y="4495680"/>
            <a:ext cx="8226360" cy="1009800"/>
            <a:chOff x="304920" y="4495680"/>
            <a:chExt cx="8226360" cy="1009800"/>
          </a:xfrm>
        </p:grpSpPr>
        <p:sp>
          <p:nvSpPr>
            <p:cNvPr id="174" name="Text Box 4"/>
            <p:cNvSpPr/>
            <p:nvPr/>
          </p:nvSpPr>
          <p:spPr>
            <a:xfrm>
              <a:off x="2133720" y="4495680"/>
              <a:ext cx="2253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5"/>
            <p:cNvSpPr/>
            <p:nvPr/>
          </p:nvSpPr>
          <p:spPr>
            <a:xfrm>
              <a:off x="3276720" y="4495680"/>
              <a:ext cx="2253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419720" y="4495680"/>
              <a:ext cx="2253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5562720" y="4495680"/>
              <a:ext cx="2253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7772400" y="4495680"/>
              <a:ext cx="3780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304920" y="5029920"/>
              <a:ext cx="12160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sk-SK" sz="2400" spc="-1" strike="noStrike">
                  <a:solidFill>
                    <a:srgbClr val="000000"/>
                  </a:solidFill>
                  <a:latin typeface="Courier New"/>
                </a:rPr>
                <a:t>esiac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1676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Jan"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2819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Feb"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3962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Mrc"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5105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Apr"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7391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De</a:t>
              </a:r>
              <a:r>
                <a:rPr b="1" lang="sk-SK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6248520" y="4959360"/>
              <a:ext cx="1139760" cy="5461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 (Java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[][] k = new int[]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{ 1, 2, 3 }, {4, 5, 6}, {7, 8, 9, 0}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979280" y="3124080"/>
            <a:ext cx="4570920" cy="3044880"/>
            <a:chOff x="1979280" y="3124080"/>
            <a:chExt cx="4570920" cy="3044880"/>
          </a:xfrm>
        </p:grpSpPr>
        <p:sp>
          <p:nvSpPr>
            <p:cNvPr id="189" name="Text Box 4"/>
            <p:cNvSpPr/>
            <p:nvPr/>
          </p:nvSpPr>
          <p:spPr>
            <a:xfrm>
              <a:off x="4038480" y="320040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4648320" y="3200400"/>
              <a:ext cx="2253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5257800" y="3200400"/>
              <a:ext cx="2253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3809880" y="358740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4419720" y="3587400"/>
              <a:ext cx="6062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029200" y="358740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4038480" y="4191120"/>
              <a:ext cx="22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4648320" y="4191120"/>
              <a:ext cx="2253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257800" y="4191120"/>
              <a:ext cx="2253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3809880" y="457812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4419720" y="4578120"/>
              <a:ext cx="6062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5029200" y="457812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Group 16"/>
            <p:cNvGrpSpPr/>
            <p:nvPr/>
          </p:nvGrpSpPr>
          <p:grpSpPr>
            <a:xfrm>
              <a:off x="1979280" y="3124080"/>
              <a:ext cx="4570920" cy="3044880"/>
              <a:chOff x="1979280" y="3124080"/>
              <a:chExt cx="4570920" cy="3044880"/>
            </a:xfrm>
          </p:grpSpPr>
          <p:sp>
            <p:nvSpPr>
              <p:cNvPr id="202" name="Text Box 17"/>
              <p:cNvSpPr/>
              <p:nvPr/>
            </p:nvSpPr>
            <p:spPr>
              <a:xfrm>
                <a:off x="1979280" y="335232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3581280" y="3124080"/>
                <a:ext cx="2968920" cy="304488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19"/>
            <p:cNvSpPr/>
            <p:nvPr/>
          </p:nvSpPr>
          <p:spPr>
            <a:xfrm>
              <a:off x="3581280" y="4114800"/>
              <a:ext cx="296892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3581280" y="5105520"/>
              <a:ext cx="296892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3124080" y="3429000"/>
              <a:ext cx="2048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3124080" y="4495680"/>
              <a:ext cx="2048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23"/>
            <p:cNvSpPr/>
            <p:nvPr/>
          </p:nvSpPr>
          <p:spPr>
            <a:xfrm>
              <a:off x="3048120" y="5562720"/>
              <a:ext cx="274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4038480" y="51814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25"/>
            <p:cNvSpPr/>
            <p:nvPr/>
          </p:nvSpPr>
          <p:spPr>
            <a:xfrm>
              <a:off x="4648320" y="5181480"/>
              <a:ext cx="2253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26"/>
            <p:cNvSpPr/>
            <p:nvPr/>
          </p:nvSpPr>
          <p:spPr>
            <a:xfrm>
              <a:off x="5257800" y="5181480"/>
              <a:ext cx="2253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Text Box 27"/>
            <p:cNvSpPr/>
            <p:nvPr/>
          </p:nvSpPr>
          <p:spPr>
            <a:xfrm>
              <a:off x="3809880" y="556848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4419720" y="5568480"/>
              <a:ext cx="60624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29"/>
            <p:cNvSpPr/>
            <p:nvPr/>
          </p:nvSpPr>
          <p:spPr>
            <a:xfrm>
              <a:off x="5029200" y="556848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30"/>
            <p:cNvSpPr/>
            <p:nvPr/>
          </p:nvSpPr>
          <p:spPr>
            <a:xfrm>
              <a:off x="5867280" y="5181480"/>
              <a:ext cx="22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31"/>
            <p:cNvSpPr/>
            <p:nvPr/>
          </p:nvSpPr>
          <p:spPr>
            <a:xfrm>
              <a:off x="5638680" y="5568480"/>
              <a:ext cx="606600" cy="4597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1-02-22T11:36:31Z</dcterms:modified>
  <cp:revision>218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