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46400" cy="9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24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22840" y="0"/>
            <a:ext cx="2923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895320" y="742680"/>
            <a:ext cx="4957920" cy="37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418680"/>
            <a:ext cx="2924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CFD0-7261-4321-9673-E36684B2786A}" type="slidenum">
              <a:rPr b="1" lang="de-D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Zástupný objekt pre číslo snímky 3"/>
          <p:cNvSpPr/>
          <p:nvPr/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9224-16BF-4387-857A-2BC8A1EB4914}" type="slidenum">
              <a:rPr b="1" lang="de-D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410D-2DD4-46B7-BE32-02B70283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3C77-4E92-4880-B2F1-8CB14FE8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8A13-6B29-4B9A-8B6B-F907AB008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21EB-EC84-4980-8403-D2765FE8F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C554-A068-4460-BB36-995E6DDC5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42B4-01A9-4820-B2B2-66D3E80E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0509-C26B-409E-A716-9412730D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8CD8-2C74-42C6-94EA-3A94C46A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E983-A2EA-4CF9-808E-1CADA117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5F93-F5D9-48CC-9D52-E2BED1CB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5D89-6360-46EA-8F7D-E1B145E0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9D0B-890E-4A60-8226-57C2E77A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8705-4145-43A3-9B85-0ACC736A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8415-D823-4AED-A513-C5EF750D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F0C5-FE78-4E45-BDAB-E465991F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606F-5A48-49E6-89CD-D829183B8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70C3-6529-4EDA-A10C-3EE615DC8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8E20-97FB-4B90-A36D-47A8EC14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0DB1-6468-45BF-840B-0E89B001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4252-7DC2-4ECB-B5C4-8BEFF8A1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FF7B-D54F-4989-A7F3-8F09CF37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75AD-CFE2-4C2B-B10A-C69C50D2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6757-F591-4223-BB66-69C33D93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7DA3-2F4D-47E5-8E90-7BE472EA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5e574e"/>
                </a:solidFill>
                <a:latin typeface="Arial"/>
              </a:rPr>
              <a:t>WS 2006/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81320" y="4674240"/>
            <a:ext cx="981360" cy="201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G. Juhás, KAIVT FEI STU, Algoritmzácia a Programovanie, Fólie 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BF55-97AD-4355-AB5D-F584ECD6D2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5e574e"/>
                </a:solidFill>
                <a:latin typeface="Arial"/>
              </a:rPr>
              <a:t>WS 2006/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010200"/>
            <a:ext cx="28447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© G. Juhás, KAIVT FEI STU, Algoritmzácia a Programovanie, Fólie 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8DAF-07D0-4F8F-98B9-F4C963B80E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ástupný objekt pre číslo snímky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6FE9-0F99-43FC-88A5-26F2D7FE9B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III. Objekt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ovo orientované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ogramovani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incíp </a:t>
            </a: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objek</a:t>
            </a: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tovo orientovaného p</a:t>
            </a: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rogram</a:t>
            </a: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ovania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efinovať dátové typy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Triedy,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Atrib</a:t>
            </a: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úty, </a:t>
            </a: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Objek</a:t>
            </a: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Objekt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 vlastými operáciami (funkciami)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Met</a:t>
            </a: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ód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Zástupný objekt pre číslo snímky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E50F-5A83-4E53-89D0-265B67A931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public static void print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Zaznam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Zaznam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{ System.out.println(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meno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priezvisko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cislo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public static void main(String[]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pole_parametrov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Zaznam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zoznam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= new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Zaznam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[10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pocetZaznamov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har c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6324480" y="2666880"/>
            <a:ext cx="2514600" cy="1752840"/>
          </a:xfrm>
          <a:prstGeom prst="wedgeRoundRectCallout">
            <a:avLst>
              <a:gd name="adj1" fmla="val -45453"/>
              <a:gd name="adj2" fmla="val 78712"/>
              <a:gd name="adj3" fmla="val 16667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Tu vytvoríme pole pre sto záznamov – náš telefónny zoznam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(a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ko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lok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álnu premennú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Úplný príkla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Zástupný objekt pre číslo snímky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E6B5-6E11-4DA9-AB80-73671873857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do {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 = readChar(„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Zvol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-na zadanie zaznamu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, 2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-na vyhladanie zaznamu alebo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-na vypis vsetkych zaznamov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witch (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{ case '1' : if (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pocetZaznamov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&lt; 100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zoznam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pocetZaznamov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]= read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Zaznam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pocetZazna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609480" y="5440320"/>
            <a:ext cx="74678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// Funk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cia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read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je nami napísa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funkcia na načítanie reťazca znak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z klávesnice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pozri ďalej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Úplný príkla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Zástupný objekt pre číslo snímky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191E-5626-4835-B44D-63F0A0ABB0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914400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ase '2' : String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priezvisko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= readString("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Priezvisko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: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pocetZaznamov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; i++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{ if (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priezvisko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.equals(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zoznam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[i].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priezvisko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{ print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Zaznam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zoznam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[i]); }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ase '3' : for (int i = 0; i &lt;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pocetZaznamov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; i++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{ print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Zaznam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zoznam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[i]); }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while ( c == '1' || c == '2' || c == '3'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Úplný príkla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914400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public static String readString(String napis_pre_uzivatel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{ String 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BufferedReader zklavesnice = new BufferedReader(new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InputStreamReader(System.in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System.out.println(napis_pre_uzivatela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s = zklavesnice.readLin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//System.out.println("Nacital som " + 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catch (Exception 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System.out.println("nepodarilo sa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s = readString(napis_pre_uzivatela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return 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Úplný príkla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Zástupný objekt pre číslo snímky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8C63-5C02-4EBD-8660-86746EF0BC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Zástupný objekt pre číslo snímky 5"/>
          <p:cNvSpPr/>
          <p:nvPr/>
        </p:nvSpPr>
        <p:spPr>
          <a:xfrm>
            <a:off x="6730920" y="6211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095D-7B57-44FA-BF9D-346BC57709F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914400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ublic static char readChar(String napis_pre_uzivatel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har c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=' '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putStreamReader zklavesnice = new InputStreamReader(System.in);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ystem.out.println(napis_pre_uzivatela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 = (char) zklavesnice.read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//System.out.println("Nacital som " + c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atch (Exception 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ystem.out.println("nepodarilo sa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 = readChar(napis_pre_uzivatela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turn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Úplný príkla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Zástupný objekt pre číslo snímky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17E7-CD74-4BEC-941D-35BA38E3B7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oužitie vlastných dátových typov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lastný (t.j. nami definovaný) dátový typ môžeme použiť ako ktorýkoľvek preddefinovaný dátový typ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Samozrejme môžeme definovať polia nad vlastnými dátovými typm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Zástupný objekt pre číslo snímky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45D5-8510-446C-A271-61AC342174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lastný dátový typ môže byť použitý parameter funkcie a tiež ako návratový typ funkcie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Dátový typ môže byť taktiež použitý ako atribút iného dátového typu (ďalšia fólia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oužitie vlastných dátových typov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Zástupný objekt pre číslo snímky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F8B5-4B4B-4979-997F-C6AD01FD45A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íkla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Me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{ String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krstne_meno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priezvisko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lass A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dre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{ String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ulica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cislo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mesto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4" name="Group 7"/>
          <p:cNvGrpSpPr/>
          <p:nvPr/>
        </p:nvGrpSpPr>
        <p:grpSpPr>
          <a:xfrm>
            <a:off x="4191120" y="1981080"/>
            <a:ext cx="4419360" cy="4114800"/>
            <a:chOff x="4191120" y="1981080"/>
            <a:chExt cx="4419360" cy="4114800"/>
          </a:xfrm>
        </p:grpSpPr>
        <p:sp>
          <p:nvSpPr>
            <p:cNvPr id="155" name="Text Box 5"/>
            <p:cNvSpPr/>
            <p:nvPr/>
          </p:nvSpPr>
          <p:spPr>
            <a:xfrm>
              <a:off x="5105520" y="2895480"/>
              <a:ext cx="3504960" cy="32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noAutofit/>
            </a:bodyPr>
            <a:p>
              <a:pPr marL="476280" indent="-4762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class </a:t>
              </a:r>
              <a:r>
                <a:rPr b="1" lang="sk-SK" sz="2000" spc="-1" strike="noStrike">
                  <a:solidFill>
                    <a:srgbClr val="000000"/>
                  </a:solidFill>
                  <a:latin typeface="Courier New"/>
                </a:rPr>
                <a:t>Osob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marL="476280" indent="-4762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{ </a:t>
              </a:r>
              <a:r>
                <a:rPr b="1" lang="sk-SK" sz="2000" spc="-1" strike="noStrike">
                  <a:solidFill>
                    <a:srgbClr val="000000"/>
                  </a:solidFill>
                  <a:latin typeface="Courier New"/>
                </a:rPr>
                <a:t>Meno</a:t>
              </a: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k-SK" sz="2000" spc="-1" strike="noStrike">
                  <a:solidFill>
                    <a:srgbClr val="000000"/>
                  </a:solidFill>
                  <a:latin typeface="Courier New"/>
                </a:rPr>
                <a:t>meno</a:t>
              </a: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marL="476280" indent="-4762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k-SK" sz="2000" spc="-1" strike="noStrike">
                  <a:solidFill>
                    <a:srgbClr val="000000"/>
                  </a:solidFill>
                  <a:latin typeface="Courier New"/>
                </a:rPr>
                <a:t>Adresa</a:t>
              </a: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 a</a:t>
              </a:r>
              <a:r>
                <a:rPr b="1" lang="sk-SK" sz="2000" spc="-1" strike="noStrike">
                  <a:solidFill>
                    <a:srgbClr val="000000"/>
                  </a:solidFill>
                  <a:latin typeface="Courier New"/>
                </a:rPr>
                <a:t>dresa</a:t>
              </a: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marL="476280" indent="-4762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marL="476280" indent="-4762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marL="476280" indent="-4762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marL="476280" indent="-4762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4191120" y="1981080"/>
              <a:ext cx="533160" cy="3276720"/>
            </a:xfrm>
            <a:custGeom>
              <a:avLst/>
              <a:gdLst>
                <a:gd name="textAreaLeft" fmla="*/ 0 w 533160"/>
                <a:gd name="textAreaRight" fmla="*/ 192600 w 533160"/>
                <a:gd name="textAreaTop" fmla="*/ 85320 h 3276720"/>
                <a:gd name="textAreaBottom" fmla="*/ 3191400 h 327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>
              <a:sp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Zástupný objekt pre číslo snímky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649C-84DD-4A8C-B1B6-46F9ACBEA4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oužitie vlastných dátových typov </a:t>
            </a:r>
            <a:r>
              <a:rPr b="0" lang="sk-SK" sz="2800" spc="-1" strike="noStrike">
                <a:solidFill>
                  <a:srgbClr val="000000"/>
                </a:solidFill>
                <a:latin typeface="Arial Black"/>
              </a:rPr>
              <a:t>(Pokračovanie</a:t>
            </a: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odobne ako polia musia byť nové objekty vlastného dátového typu vytvorené pomocou kľúčového slova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íklad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Zaznam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= new 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Zaznam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odobne ako pri poliach je premenná 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iba pointer na objekt typu 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Zaznam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t.j. z obsahuje adresu objektu vytvoreneho v pamäti pomocou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Zaznam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4038480" y="2971800"/>
            <a:ext cx="3581640" cy="762120"/>
          </a:xfrm>
          <a:prstGeom prst="wedgeRoundRectCallout">
            <a:avLst>
              <a:gd name="adj1" fmla="val 7935"/>
              <a:gd name="adj2" fmla="val 73958"/>
              <a:gd name="adj3" fmla="val 16667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Pozor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guľaté zátvorky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Zástupný objekt pre číslo snímky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1BCD-C100-4F8A-8675-9E58B2CEA5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6840" y="16956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trib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ú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meno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jakého o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jek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tu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obj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ôže byť získaný pomocou notácie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obj.name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obj.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meno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ôžeme teda použiť hocikde, kde sa môže byť použitá premenná rovnakého typu ako je atribút 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meno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odobne ako pri poliach, môžeme ho tejto premennej priradiť hodnotu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i vnorenom použití dátových typov môžeme pristupovať k atribútom viacnásobným použitím „bodkovej“ notácie, napr. pre objekt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obj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typu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o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soba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ôžeme použiť 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obj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meno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krstne_meno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lebo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obj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adresa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mes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oužitie vlastných dátových typov </a:t>
            </a:r>
            <a:r>
              <a:rPr b="0" lang="sk-SK" sz="2800" spc="-1" strike="noStrike">
                <a:solidFill>
                  <a:srgbClr val="000000"/>
                </a:solidFill>
                <a:latin typeface="Arial Black"/>
              </a:rPr>
              <a:t>(Pokračovanie</a:t>
            </a: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Zástupný objekt pre číslo snímky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BEBD-FA78-430E-90C3-79F7C06ABF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1. D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efinícia dátových typov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Motiv</a:t>
            </a:r>
            <a:r>
              <a:rPr b="1" lang="sk-SK" sz="3200" spc="-1" strike="noStrike">
                <a:solidFill>
                  <a:srgbClr val="000000"/>
                </a:solidFill>
                <a:latin typeface="Tahoma"/>
              </a:rPr>
              <a:t>á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Dáta, ktoré logicky patria k sebe, definovať ako dátový typ 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ďalšia fólia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Dátový typ nazývame </a:t>
            </a:r>
            <a:r>
              <a:rPr b="1" lang="sk-SK" sz="3200" spc="-1" strike="noStrike">
                <a:solidFill>
                  <a:srgbClr val="000000"/>
                </a:solidFill>
                <a:latin typeface="Tahoma"/>
              </a:rPr>
              <a:t>trieda (class),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konkrétne inštancie triedy nazývame 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k-SK" sz="3200" spc="-1" strike="noStrike">
                <a:solidFill>
                  <a:srgbClr val="000000"/>
                </a:solidFill>
                <a:latin typeface="Tahoma"/>
              </a:rPr>
              <a:t>ob</a:t>
            </a: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jekt</a:t>
            </a:r>
            <a:r>
              <a:rPr b="1" lang="sk-SK" sz="3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Zástupný objekt pre číslo snímky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67DC-23DD-4397-8374-84DB19F18C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Ďalšie príklady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838080" y="2133720"/>
            <a:ext cx="2057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476280" indent="-476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Bo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6280" indent="-476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6280" indent="-476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6280" indent="-476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6280" indent="-476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4191120" y="2057400"/>
            <a:ext cx="3809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476280" indent="-476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Komplexne_cis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6280" indent="-476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{ double r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6280" indent="-476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double im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6280" indent="-476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6280" indent="-476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80880" y="4114800"/>
            <a:ext cx="3429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476280" indent="-476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Obdlzn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6280" indent="-476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Bod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lavy_horny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6280" indent="-476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int vyska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6280" indent="-476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int dlzka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6280" indent="-476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6280" indent="-476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4191120" y="4114800"/>
            <a:ext cx="4267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476280" indent="-476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lass PseudoSt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6280" indent="-476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{ char[]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retazec_znakov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6280" indent="-476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 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6280" indent="-476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6280" indent="-476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Zástupný objekt pre číslo snímky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6EF4-B484-4424-A544-A445246CBA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D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átový typ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:</a:t>
            </a:r>
            <a:br>
              <a:rPr sz="4000"/>
            </a:b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íklad - Adres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dres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a pozostáva 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e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iezvisk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Ul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Čís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S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es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0" name="Group 6"/>
          <p:cNvGrpSpPr/>
          <p:nvPr/>
        </p:nvGrpSpPr>
        <p:grpSpPr>
          <a:xfrm>
            <a:off x="3733920" y="2552760"/>
            <a:ext cx="3581280" cy="2971800"/>
            <a:chOff x="3733920" y="2552760"/>
            <a:chExt cx="3581280" cy="2971800"/>
          </a:xfrm>
        </p:grpSpPr>
        <p:sp>
          <p:nvSpPr>
            <p:cNvPr id="101" name="AutoShape 4"/>
            <p:cNvSpPr/>
            <p:nvPr/>
          </p:nvSpPr>
          <p:spPr>
            <a:xfrm>
              <a:off x="3733920" y="2552760"/>
              <a:ext cx="533160" cy="2971800"/>
            </a:xfrm>
            <a:custGeom>
              <a:avLst/>
              <a:gdLst>
                <a:gd name="textAreaLeft" fmla="*/ 0 w 533160"/>
                <a:gd name="textAreaRight" fmla="*/ 192600 w 53316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>
              <a:sp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Text Box 5"/>
            <p:cNvSpPr/>
            <p:nvPr/>
          </p:nvSpPr>
          <p:spPr>
            <a:xfrm>
              <a:off x="4800600" y="3276720"/>
              <a:ext cx="251460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Tahoma"/>
                </a:rPr>
                <a:t>Atr</a:t>
              </a:r>
              <a:r>
                <a:rPr b="0" lang="sk-SK" sz="2800" spc="-1" strike="noStrike">
                  <a:solidFill>
                    <a:srgbClr val="000000"/>
                  </a:solidFill>
                  <a:latin typeface="Tahoma"/>
                </a:rPr>
                <a:t>ibúty</a:t>
              </a:r>
              <a:r>
                <a:rPr b="0" lang="de-DE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de-DE" sz="2800" spc="-1" strike="noStrike">
                  <a:solidFill>
                    <a:srgbClr val="000000"/>
                  </a:solidFill>
                  <a:latin typeface="Tahoma"/>
                </a:rPr>
                <a:t>Objek</a:t>
              </a:r>
              <a:r>
                <a:rPr b="1" lang="sk-SK" sz="2800" spc="-1" strike="noStrike">
                  <a:solidFill>
                    <a:srgbClr val="000000"/>
                  </a:solidFill>
                  <a:latin typeface="Tahoma"/>
                </a:rPr>
                <a:t>tov</a:t>
              </a:r>
              <a:r>
                <a:rPr b="0" lang="de-DE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sk-SK" sz="2800" spc="-1" strike="noStrike">
                  <a:solidFill>
                    <a:srgbClr val="000000"/>
                  </a:solidFill>
                  <a:latin typeface="Tahoma"/>
                </a:rPr>
                <a:t>Triedy </a:t>
              </a:r>
              <a:r>
                <a:rPr b="0" lang="de-DE" sz="2800" spc="-1" strike="noStrike">
                  <a:solidFill>
                    <a:srgbClr val="000000"/>
                  </a:solidFill>
                  <a:latin typeface="Tahoma"/>
                </a:rPr>
                <a:t>Adres</a:t>
              </a:r>
              <a:r>
                <a:rPr b="0" lang="sk-SK" sz="2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Zástupný objekt pre číslo snímky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C73A-E543-4DDB-977D-F2F8377F653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 Jav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e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class Adres</a:t>
            </a: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{ String </a:t>
            </a: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meno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 = ““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priezvisko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 = ““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ulica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 = ““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cislo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 = ““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PSC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 = ““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mesto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 = ““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6" name="Group 7"/>
          <p:cNvGrpSpPr/>
          <p:nvPr/>
        </p:nvGrpSpPr>
        <p:grpSpPr>
          <a:xfrm>
            <a:off x="5334120" y="2400480"/>
            <a:ext cx="3581280" cy="2971800"/>
            <a:chOff x="5334120" y="2400480"/>
            <a:chExt cx="3581280" cy="2971800"/>
          </a:xfrm>
        </p:grpSpPr>
        <p:sp>
          <p:nvSpPr>
            <p:cNvPr id="107" name="AutoShape 5"/>
            <p:cNvSpPr/>
            <p:nvPr/>
          </p:nvSpPr>
          <p:spPr>
            <a:xfrm>
              <a:off x="5334120" y="2400480"/>
              <a:ext cx="533160" cy="2971800"/>
            </a:xfrm>
            <a:custGeom>
              <a:avLst/>
              <a:gdLst>
                <a:gd name="textAreaLeft" fmla="*/ 0 w 533160"/>
                <a:gd name="textAreaRight" fmla="*/ 192600 w 53316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>
              <a:sp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Text Box 6"/>
            <p:cNvSpPr/>
            <p:nvPr/>
          </p:nvSpPr>
          <p:spPr>
            <a:xfrm>
              <a:off x="6400800" y="2743200"/>
              <a:ext cx="25146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Tahoma"/>
                </a:rPr>
                <a:t>At</a:t>
              </a:r>
              <a:r>
                <a:rPr b="0" lang="sk-SK" sz="2800" spc="-1" strike="noStrike">
                  <a:solidFill>
                    <a:srgbClr val="000000"/>
                  </a:solidFill>
                  <a:latin typeface="Tahoma"/>
                </a:rPr>
                <a:t>ribúty objektov triedy sú deklarované ako (globálne) premenné</a:t>
              </a:r>
              <a:r>
                <a:rPr b="0" lang="de-DE" sz="28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Zástupný objekt pre číslo snímky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064B-5746-4D16-9575-F1C2DD1500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V Jave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 (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okračovanie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)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Dátový typ, t.j. trieda, definuje množinu objektov rovnakého typu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Dátový typ definuje mená a typy spoločných atribútov objektov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Dátový typ samotný má meno, ktoré je možné v programe používať pri definícii nových objektov daného dátového typu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Zástupný objekt pre číslo snímky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F819-3576-4782-ADB5-2E402BD6F9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Jav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e je dátový typ definovaný pomocou kľúčového slova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asledovaným menom dátového typu a deklaráciou všetkých atribútov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eklarácie bez inicializácie sú povolené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Neskôr uvidíme, že 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Trieda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môže mať aj funkcie, nazývané aj metódy.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V Jave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 (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okračovanie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)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Zástupný objekt pre číslo snímky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1363-FDC4-4A11-8F1C-CF8BC754DD7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Telefónny zozna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efinujme dátový typ „záznam v telefónnom zozname“, pre jednoduchosť iba „Zaznam“, ktorý pozostáva z mena, priezviska a telefónneho čísla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Zazn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{ String </a:t>
            </a: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meno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 = ““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priezvisko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 = ““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cislo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 = ““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Zástupný objekt pre číslo snímky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DD71-3F1A-429F-B681-7105B35883F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mport java.io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Zazn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{ String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meno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= ““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priezvisko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= ““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cislo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= ““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Telefonny_zozn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Úplný príkla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Zástupný objekt pre číslo snímky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5144-1F6F-41CF-92E9-DFDCA0EC61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28600" y="1885680"/>
            <a:ext cx="86104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Zaznam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read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Zaznam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Zaznam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= new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Zaznam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meno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= readString("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Zadaj meno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priezvisko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= readString(„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Zadaj priezvisko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cislo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= readString(„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Zadaj telefonne cislo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457200" y="3718080"/>
            <a:ext cx="7315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533520" y="5181480"/>
            <a:ext cx="746748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// Funk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cia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readString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je nami napísa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funkcia na načítanie reťazca znak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z klávesnice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pozri ďalej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6324480" y="1219320"/>
            <a:ext cx="2362320" cy="1143000"/>
          </a:xfrm>
          <a:prstGeom prst="wedgeRoundRectCallout">
            <a:avLst>
              <a:gd name="adj1" fmla="val -92944"/>
              <a:gd name="adj2" fmla="val 52638"/>
              <a:gd name="adj3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Tu je vytvorený nový objekt typu Zaznam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5562720" y="4038480"/>
            <a:ext cx="3429000" cy="1143000"/>
          </a:xfrm>
          <a:prstGeom prst="wedgeRoundRectCallout">
            <a:avLst>
              <a:gd name="adj1" fmla="val -146712"/>
              <a:gd name="adj2" fmla="val -50555"/>
              <a:gd name="adj3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Tu sú načítané a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rib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uty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záznamu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Úplný príkla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4T13:59:44Z</dcterms:created>
  <dc:creator>mga121</dc:creator>
  <dc:description/>
  <dc:language>en-US</dc:language>
  <cp:lastModifiedBy>Gabriel Juhás</cp:lastModifiedBy>
  <dcterms:modified xsi:type="dcterms:W3CDTF">2021-03-01T10:51:57Z</dcterms:modified>
  <cp:revision>294</cp:revision>
  <dc:subject/>
  <dc:title>Programmiertechnik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Test.html</vt:lpwstr>
  </property>
  <property fmtid="{D5CDD505-2E9C-101B-9397-08002B2CF9AE}" pid="9" name="LinkColor">
    <vt:r8>16711782</vt:r8>
  </property>
  <property fmtid="{D5CDD505-2E9C-101B-9397-08002B2CF9AE}" pid="10" name="MailAddress">
    <vt:lpwstr>Kindler@xxx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WINNT\Profiles\mga121\Eigene Dateien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