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utoShape 1"/>
          <p:cNvSpPr/>
          <p:nvPr/>
        </p:nvSpPr>
        <p:spPr>
          <a:xfrm>
            <a:off x="0" y="0"/>
            <a:ext cx="6746760" cy="991404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914040"/>
              <a:gd name="textAreaBottom" fmla="*/ 9913680 h 9914040"/>
            </a:gdLst>
            <a:ahLst/>
            <a:rect l="textAreaLeft" t="textAreaTop" r="textAreaRight" b="textAreaBottom"/>
            <a:pathLst>
              <a:path w="21600" h="31740">
                <a:moveTo>
                  <a:pt x="5" y="0"/>
                </a:moveTo>
                <a:arcTo wR="5" hR="5" stAng="16200000" swAng="-5400000"/>
                <a:lnTo>
                  <a:pt x="0" y="31735"/>
                </a:lnTo>
                <a:arcTo wR="5" hR="5" stAng="10800000" swAng="-5400000"/>
                <a:lnTo>
                  <a:pt x="21595" y="31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2284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94960" y="742680"/>
            <a:ext cx="495612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532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941832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22840" y="941832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86F65C-88DD-4C32-9D27-220040E1DB4B}" type="slidenum">
              <a:rPr b="1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038A6F-2B14-4F52-B9EF-D47384BDCFFD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840E04-2C9A-488A-8052-4BF9CE61CC4C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8B4D12-4304-414A-AB3F-B93D83AC41D5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76A201-FDCA-496A-9BC2-E68FAC8286CC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6CBBB8-3840-4608-8CE7-F924927C7BE7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89FA3B-3643-41AA-842B-B8A56F04AB05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32F0D6-FBA9-4659-9DA1-F6691BFFC70D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D9F1B4-668B-42B0-B094-7AAC025AC75D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E9EAB9-8662-4559-8173-C7973C4E3A7E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B801DF-BDC2-4C89-8142-1F1043A53C6A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651D9B-BEF8-437A-8879-2CE0961E539D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63F2CB-694E-4282-8B3F-1D326A831B74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5B71DD-54D6-402D-B797-15852AB0B9A1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27E81A-BF5C-4163-A26D-AC1FE43D300A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E00CB6-C8FE-4958-AE2C-82584EEC1A74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E77643-7FE1-462F-9D2C-10814B9660AF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BAE2E2-B639-45B9-A07A-79E9A57E97DA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F62106-0880-493C-B6D6-62CA093B81FA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9A62B0-5898-4565-8692-B9DD48EE9625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235CE9-74E5-499A-8B8E-4B47928C7929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ED09F7-737F-40D4-A780-8649D48EF3B9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FC7419-FED2-422B-A079-192D02F7A3A8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5AFD8E-2C81-4AA3-AA97-45E11FCBE4CF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1C2A0A-DF40-4AC6-AE3B-48DECA43D439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38F207-485F-4428-9D3C-2A54E7C52323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D9A64E-FB4A-48A8-A563-5D283986C082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991ABB-C98B-4CF7-8D09-6A1D5A083D22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Beispiele dazu an der Taf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6D488E-EC8F-4E2F-9FFB-10B4C8BAA481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ECEACD-3275-493A-83C8-DBF86956DD75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7BEB73-7E32-46AD-BDD3-42899B511C18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524C90-9B63-408F-8702-13D397B27AD9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7CD6AD-7B36-4233-A221-7BE11781484C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68D7AB-111B-4CB7-BA6D-5D3D90969C3C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82B72A-DF2C-4738-AC73-4BEC10AD8903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C99CD3-92CB-475C-B1BC-AEF0FDFE69F2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04F6CC-C45C-40EB-A0CE-CFB3E5E794DC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F82512-5DAD-4545-878F-251A10F26982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3D274B-D23B-4EEF-977B-2BB0756B5CE5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1225B7-0D7C-463E-96EC-3810601D98BF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8A6B8E-7493-4C2B-81CC-3AC6F79221A4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9B255E-6CE8-45FE-AD77-FA3D119155C3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FD1EDD-61DE-4611-AE83-889B952598BD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B05933-571C-48AE-9654-C4FF10E8E89C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3DA8-2143-47E2-9FDC-AE335001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23EE-AD28-452E-AC62-A1AE7894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A193-F7C5-4930-8B31-FCE0361A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A010-46CE-49E5-8565-5732BBF7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841-466E-499E-98CB-A95496EE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7770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8C30-951C-4EF1-BFC6-503925FA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1B45-29FB-40D9-9A3E-A7F15593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679-2104-4E34-866B-8256AB65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7B6-F518-4A01-8F26-04AD90C4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A558-4442-47FD-B044-03CDE436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FE69-DD63-4FBD-AEB5-D00E9C25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2075-A49A-4954-B84E-4A58C12D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7770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19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2133720" y="3886200"/>
            <a:ext cx="63990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Kliknúť pre vloženie tex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711000" y="6229440"/>
            <a:ext cx="19285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49640" y="622944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44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DA4098D-53E2-4BBB-BC7A-BDFD1F14E99C}" type="slidenum">
              <a:rPr b="0" lang="en-US" sz="1400" spc="-1" strike="noStrike">
                <a:solidFill>
                  <a:srgbClr val="5e574e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I. Java - Základné elemen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1001"/>
              </a:spcBef>
              <a:buNone/>
              <a:tabLst>
                <a:tab algn="l" pos="0"/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ahoma"/>
              </a:rPr>
              <a:t>2. Dátové typ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89080" indent="-287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imitívne dátové ty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9080" indent="-287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klarácia premenný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9080" indent="-287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iraden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9080" indent="-287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ide eff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avdivostné hodno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(nie je v jazyku C)</a:t>
            </a:r>
            <a:r>
              <a:rPr b="1" lang="de-DE" sz="3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3600"/>
            </a:br>
            <a:br>
              <a:rPr sz="3600"/>
            </a:b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hodnoty</a:t>
            </a:r>
            <a:r>
              <a:rPr b="0" lang="de-DE" sz="3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de-DE" sz="3600" spc="-1" strike="noStrike">
                <a:solidFill>
                  <a:srgbClr val="000000"/>
                </a:solidFill>
                <a:latin typeface="Courier New"/>
              </a:rPr>
              <a:t> false  </a:t>
            </a: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DE" sz="3600" spc="-1" strike="noStrike">
                <a:solidFill>
                  <a:srgbClr val="000000"/>
                </a:solidFill>
                <a:latin typeface="Courier New"/>
              </a:rPr>
              <a:t>  tru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V C pre pravdivostné hodnoty int – 0 je false a 1 je tru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Budeme používať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 (nie je v jayzku 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e iné dátové typy platia väčšinou analogické pravidl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09880" y="1906560"/>
            <a:ext cx="4419720" cy="211320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Iné programovacie jazyky poskytujú podobné primitívne dátové typy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iac alebo menej typov, iné názvy typov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.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nat , r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051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2.1. Deklarácie premennýc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aždá premenná má jednoznačne priradený dátový ty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yp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emennej je pevne daný deklaráciou premennej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nt n;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nt sum;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double x;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Deklarácie premennýc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emenné môžu byť deklarované v texte programu na hociktorom mieste (ale iba jeden krát, presnejšie vysvetlíme neskô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0840" indent="-330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iaceré premenné môžu byť deklarované spolu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nt sum1, sum2, test;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double x, y, z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EBNF: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Deklarácie premennýc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Deklaration&gt; = &lt;Typ&gt; &l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oznamIdentifikátorov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 “;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Typ&gt; =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“int“ | “long“ | “byte“ | “short“ |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“double“  | “float“ |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“char“    |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“boolean“ |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“String“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oznamIdentifikátorov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 =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Identifikátor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oznamIdentifikátorov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&gt; “,“ &l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Identifikátor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Identifikátor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 =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Identifikát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Identifikátory pozostávajú z reťazca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Písme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Číslic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Unicode),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čom prvý znak musí byť písme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jem písmeno je v tomto kontexte dosť šíroký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‘ä‘‚ ‘ö‘, ‘ü‘, ‘_‘, ‘$‘</a:t>
            </a:r>
            <a:br>
              <a:rPr sz="2400"/>
            </a:b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NIE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‘+‘‚ ‘-‘, ‘[‘, ‘%‘, ‘©‘, ...</a:t>
            </a:r>
            <a:br>
              <a:rPr sz="2800"/>
            </a:b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Viac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Character.isJavaIdentifierStart(c)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Character.isJavaIdentifierPart(c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Identifikátory – mená premennýc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šetky písmená v mene sú dôlež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Rozlišujú sa malé a veľké písmená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sum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ú dva rozdielne identifikátory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onven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ia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emenná začína s malým písmen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Arial Black"/>
              </a:rPr>
              <a:t>Typ</a:t>
            </a:r>
            <a:r>
              <a:rPr b="0" lang="sk-SK" sz="3800" spc="-1" strike="noStrike">
                <a:solidFill>
                  <a:srgbClr val="000000"/>
                </a:solidFill>
                <a:latin typeface="Arial Black"/>
              </a:rPr>
              <a:t>y</a:t>
            </a:r>
            <a:r>
              <a:rPr b="0" lang="de-DE" sz="3800" spc="-1" strike="noStrike">
                <a:solidFill>
                  <a:srgbClr val="000000"/>
                </a:solidFill>
                <a:latin typeface="Arial Black"/>
              </a:rPr>
              <a:t> Kon</a:t>
            </a:r>
            <a:r>
              <a:rPr b="0" lang="sk-SK" sz="3800" spc="-1" strike="noStrike">
                <a:solidFill>
                  <a:srgbClr val="000000"/>
                </a:solidFill>
                <a:latin typeface="Arial Black"/>
              </a:rPr>
              <a:t>štánt</a:t>
            </a:r>
            <a:endParaRPr b="0" lang="en-US" sz="3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aždá konštanta je jednoznačného typu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0, -1, 4711, 32768, -1000000</a:t>
            </a:r>
            <a:br>
              <a:rPr sz="2400"/>
            </a:b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ú typu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spoň pre nás, lebo short atď.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0.1, -1.7359e-34, 0.0</a:t>
            </a:r>
            <a:br>
              <a:rPr sz="24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ú typu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‘, ‘©‘</a:t>
            </a:r>
            <a:br>
              <a:rPr sz="24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ú typu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ch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Bla bla“, “Test\n Test\n“</a:t>
            </a:r>
            <a:br>
              <a:rPr sz="24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ú typu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Arial Black"/>
              </a:rPr>
              <a:t>Typ</a:t>
            </a:r>
            <a:r>
              <a:rPr b="0" lang="sk-SK" sz="3800" spc="-1" strike="noStrike">
                <a:solidFill>
                  <a:srgbClr val="000000"/>
                </a:solidFill>
                <a:latin typeface="Arial Black"/>
              </a:rPr>
              <a:t>y výrazov</a:t>
            </a:r>
            <a:endParaRPr b="0" lang="en-US" sz="3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849240"/>
                <a:tab algn="l" pos="295740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sk-SK" sz="3400" spc="-1" strike="noStrike">
                <a:solidFill>
                  <a:srgbClr val="000000"/>
                </a:solidFill>
                <a:latin typeface="Tahoma"/>
              </a:rPr>
              <a:t>Každý výraz je</a:t>
            </a:r>
            <a:r>
              <a:rPr b="0" lang="de-DE" sz="3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400" spc="-1" strike="noStrike">
                <a:solidFill>
                  <a:srgbClr val="000000"/>
                </a:solidFill>
                <a:latin typeface="Tahoma"/>
              </a:rPr>
              <a:t>jednoznačného typu</a:t>
            </a:r>
            <a:r>
              <a:rPr b="0" lang="de-DE" sz="3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//int n, m;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// double x, y;</a:t>
            </a:r>
            <a:br>
              <a:rPr sz="3200"/>
            </a:b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1 * 2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3200" spc="-1" strike="noStrike">
                <a:solidFill>
                  <a:srgbClr val="000000"/>
                </a:solidFill>
                <a:latin typeface="Courier New"/>
              </a:rPr>
              <a:t>je typu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 in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n  +  m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3200" spc="-1" strike="noStrike">
                <a:solidFill>
                  <a:srgbClr val="000000"/>
                </a:solidFill>
                <a:latin typeface="Courier New"/>
              </a:rPr>
              <a:t>je typu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 in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x  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3200" spc="-1" strike="noStrike">
                <a:solidFill>
                  <a:srgbClr val="000000"/>
                </a:solidFill>
                <a:latin typeface="Courier New"/>
              </a:rPr>
              <a:t>je typu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 double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x / y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3200" spc="-1" strike="noStrike">
                <a:solidFill>
                  <a:srgbClr val="000000"/>
                </a:solidFill>
                <a:latin typeface="Courier New"/>
              </a:rPr>
              <a:t>je typu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 double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x &lt; y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3200" spc="-1" strike="noStrike">
                <a:solidFill>
                  <a:srgbClr val="000000"/>
                </a:solidFill>
                <a:latin typeface="Courier New"/>
              </a:rPr>
              <a:t>je typu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 boolea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yp </a:t>
            </a:r>
            <a:r>
              <a:rPr b="0" lang="sk-SK" sz="3600" spc="-1" strike="noStrike">
                <a:solidFill>
                  <a:srgbClr val="000000"/>
                </a:solidFill>
                <a:latin typeface="Arial Black"/>
              </a:rPr>
              <a:t>operátorov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e každý operátor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a pre každú funkciu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a operandy s daným dátovým typom je jednoznačne dané akého typu je výsledok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7600" indent="-327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íklady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Math.min: int, int </a:t>
            </a:r>
            <a:r>
              <a:rPr b="1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int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Math.abs: int </a:t>
            </a:r>
            <a:r>
              <a:rPr b="1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int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. + . : int int </a:t>
            </a:r>
            <a:r>
              <a:rPr b="1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int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. &lt; . : int int </a:t>
            </a:r>
            <a:r>
              <a:rPr b="1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boole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2.1. Primitívne dátové typ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oteraz: iba programy s celými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číslam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elé čísla nie sú pre niektoré účely spracovania informácií vhodná a efektívna reprezentácia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unk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cie nad reálnymi čísl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pracovanie tex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yp </a:t>
            </a:r>
            <a:r>
              <a:rPr b="0" lang="sk-SK" sz="3600" spc="-1" strike="noStrike">
                <a:solidFill>
                  <a:srgbClr val="000000"/>
                </a:solidFill>
                <a:latin typeface="Arial Black"/>
              </a:rPr>
              <a:t>operátorov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ískame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(indukt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ívn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 Typ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o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š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án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emenných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perátor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funkci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nt n;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n * (n + 1) &lt;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4708440" y="2362320"/>
            <a:ext cx="3214800" cy="3632040"/>
            <a:chOff x="4708440" y="2362320"/>
            <a:chExt cx="3214800" cy="3632040"/>
          </a:xfrm>
        </p:grpSpPr>
        <p:grpSp>
          <p:nvGrpSpPr>
            <p:cNvPr id="135" name="Group 4"/>
            <p:cNvGrpSpPr/>
            <p:nvPr/>
          </p:nvGrpSpPr>
          <p:grpSpPr>
            <a:xfrm>
              <a:off x="5698800" y="2512080"/>
              <a:ext cx="2224440" cy="3464280"/>
              <a:chOff x="5698800" y="2512080"/>
              <a:chExt cx="2224440" cy="3464280"/>
            </a:xfrm>
          </p:grpSpPr>
          <p:sp>
            <p:nvSpPr>
              <p:cNvPr id="136" name="Line 5"/>
              <p:cNvSpPr/>
              <p:nvPr/>
            </p:nvSpPr>
            <p:spPr>
              <a:xfrm flipH="1">
                <a:off x="5850360" y="3675240"/>
                <a:ext cx="611280" cy="98892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Line 6"/>
              <p:cNvSpPr/>
              <p:nvPr/>
            </p:nvSpPr>
            <p:spPr>
              <a:xfrm>
                <a:off x="6461640" y="3675240"/>
                <a:ext cx="607680" cy="98892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Line 7"/>
              <p:cNvSpPr/>
              <p:nvPr/>
            </p:nvSpPr>
            <p:spPr>
              <a:xfrm>
                <a:off x="7071480" y="4665600"/>
                <a:ext cx="531720" cy="91296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Line 8"/>
              <p:cNvSpPr/>
              <p:nvPr/>
            </p:nvSpPr>
            <p:spPr>
              <a:xfrm flipH="1">
                <a:off x="6459840" y="4665600"/>
                <a:ext cx="611280" cy="98892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Line 9"/>
              <p:cNvSpPr/>
              <p:nvPr/>
            </p:nvSpPr>
            <p:spPr>
              <a:xfrm>
                <a:off x="7071480" y="2684520"/>
                <a:ext cx="608040" cy="98892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Line 10"/>
              <p:cNvSpPr/>
              <p:nvPr/>
            </p:nvSpPr>
            <p:spPr>
              <a:xfrm flipH="1">
                <a:off x="6459840" y="2684520"/>
                <a:ext cx="611280" cy="98892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Oval 11"/>
              <p:cNvSpPr/>
              <p:nvPr/>
            </p:nvSpPr>
            <p:spPr>
              <a:xfrm>
                <a:off x="6919200" y="2532240"/>
                <a:ext cx="303120" cy="30312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Oval 12"/>
              <p:cNvSpPr/>
              <p:nvPr/>
            </p:nvSpPr>
            <p:spPr>
              <a:xfrm>
                <a:off x="6309000" y="3522600"/>
                <a:ext cx="303120" cy="30312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Oval 13"/>
              <p:cNvSpPr/>
              <p:nvPr/>
            </p:nvSpPr>
            <p:spPr>
              <a:xfrm>
                <a:off x="6919200" y="4513320"/>
                <a:ext cx="303120" cy="30312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Text Box 14"/>
              <p:cNvSpPr/>
              <p:nvPr/>
            </p:nvSpPr>
            <p:spPr>
              <a:xfrm>
                <a:off x="6993000" y="251208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&lt;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Text Box 15"/>
              <p:cNvSpPr/>
              <p:nvPr/>
            </p:nvSpPr>
            <p:spPr>
              <a:xfrm>
                <a:off x="6376680" y="351684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Text Box 16"/>
              <p:cNvSpPr/>
              <p:nvPr/>
            </p:nvSpPr>
            <p:spPr>
              <a:xfrm>
                <a:off x="7008840" y="446796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+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Text Box 17"/>
              <p:cNvSpPr/>
              <p:nvPr/>
            </p:nvSpPr>
            <p:spPr>
              <a:xfrm>
                <a:off x="6306840" y="556344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Text Box 18"/>
              <p:cNvSpPr/>
              <p:nvPr/>
            </p:nvSpPr>
            <p:spPr>
              <a:xfrm>
                <a:off x="7605720" y="557748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Text Box 19"/>
              <p:cNvSpPr/>
              <p:nvPr/>
            </p:nvSpPr>
            <p:spPr>
              <a:xfrm>
                <a:off x="5698800" y="458712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Text Box 20"/>
              <p:cNvSpPr/>
              <p:nvPr/>
            </p:nvSpPr>
            <p:spPr>
              <a:xfrm>
                <a:off x="7680240" y="367272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2" name="Text Box 21"/>
            <p:cNvSpPr/>
            <p:nvPr/>
          </p:nvSpPr>
          <p:spPr>
            <a:xfrm>
              <a:off x="5394240" y="5529240"/>
              <a:ext cx="531720" cy="465120"/>
            </a:xfrm>
            <a:prstGeom prst="rect">
              <a:avLst/>
            </a:prstGeom>
            <a:noFill/>
            <a:ln cap="sq"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Text Box 22"/>
            <p:cNvSpPr/>
            <p:nvPr/>
          </p:nvSpPr>
          <p:spPr>
            <a:xfrm>
              <a:off x="6919200" y="5529240"/>
              <a:ext cx="379080" cy="465120"/>
            </a:xfrm>
            <a:prstGeom prst="rect">
              <a:avLst/>
            </a:prstGeom>
            <a:noFill/>
            <a:ln cap="sq"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Text Box 23"/>
            <p:cNvSpPr/>
            <p:nvPr/>
          </p:nvSpPr>
          <p:spPr>
            <a:xfrm>
              <a:off x="6156720" y="4562640"/>
              <a:ext cx="531720" cy="465120"/>
            </a:xfrm>
            <a:prstGeom prst="rect">
              <a:avLst/>
            </a:prstGeom>
            <a:noFill/>
            <a:ln cap="sq"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Text Box 24"/>
            <p:cNvSpPr/>
            <p:nvPr/>
          </p:nvSpPr>
          <p:spPr>
            <a:xfrm>
              <a:off x="4708440" y="4562640"/>
              <a:ext cx="531720" cy="465120"/>
            </a:xfrm>
            <a:prstGeom prst="rect">
              <a:avLst/>
            </a:prstGeom>
            <a:noFill/>
            <a:ln cap="sq"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Text Box 25"/>
            <p:cNvSpPr/>
            <p:nvPr/>
          </p:nvSpPr>
          <p:spPr>
            <a:xfrm>
              <a:off x="5318280" y="3505320"/>
              <a:ext cx="731520" cy="465120"/>
            </a:xfrm>
            <a:prstGeom prst="rect">
              <a:avLst/>
            </a:prstGeom>
            <a:noFill/>
            <a:ln cap="sq"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Text Box 26"/>
            <p:cNvSpPr/>
            <p:nvPr/>
          </p:nvSpPr>
          <p:spPr>
            <a:xfrm>
              <a:off x="6919200" y="3505320"/>
              <a:ext cx="379080" cy="465120"/>
            </a:xfrm>
            <a:prstGeom prst="rect">
              <a:avLst/>
            </a:prstGeom>
            <a:noFill/>
            <a:ln cap="sq"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Text Box 27"/>
            <p:cNvSpPr/>
            <p:nvPr/>
          </p:nvSpPr>
          <p:spPr>
            <a:xfrm>
              <a:off x="6004440" y="2362320"/>
              <a:ext cx="760320" cy="465120"/>
            </a:xfrm>
            <a:prstGeom prst="rect">
              <a:avLst/>
            </a:prstGeom>
            <a:noFill/>
            <a:ln cap="sq"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28"/>
            <p:cNvSpPr/>
            <p:nvPr/>
          </p:nvSpPr>
          <p:spPr>
            <a:xfrm flipH="1">
              <a:off x="6002640" y="5762520"/>
              <a:ext cx="230400" cy="0"/>
            </a:xfrm>
            <a:prstGeom prst="line">
              <a:avLst/>
            </a:prstGeom>
            <a:ln cap="sq" w="1584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Line 29"/>
            <p:cNvSpPr/>
            <p:nvPr/>
          </p:nvSpPr>
          <p:spPr>
            <a:xfrm flipH="1">
              <a:off x="5364000" y="4781520"/>
              <a:ext cx="230400" cy="0"/>
            </a:xfrm>
            <a:prstGeom prst="line">
              <a:avLst/>
            </a:prstGeom>
            <a:ln cap="sq" w="1584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Line 30"/>
            <p:cNvSpPr/>
            <p:nvPr/>
          </p:nvSpPr>
          <p:spPr>
            <a:xfrm flipH="1">
              <a:off x="7374960" y="5762520"/>
              <a:ext cx="230400" cy="0"/>
            </a:xfrm>
            <a:prstGeom prst="line">
              <a:avLst/>
            </a:prstGeom>
            <a:ln cap="sq" w="1584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2" name="Group 31"/>
            <p:cNvGrpSpPr/>
            <p:nvPr/>
          </p:nvGrpSpPr>
          <p:grpSpPr>
            <a:xfrm>
              <a:off x="6004440" y="4988520"/>
              <a:ext cx="835920" cy="650160"/>
              <a:chOff x="6004440" y="4988520"/>
              <a:chExt cx="835920" cy="650160"/>
            </a:xfrm>
          </p:grpSpPr>
          <p:sp>
            <p:nvSpPr>
              <p:cNvPr id="163" name="Line 32"/>
              <p:cNvSpPr/>
              <p:nvPr/>
            </p:nvSpPr>
            <p:spPr>
              <a:xfrm flipV="1">
                <a:off x="6004440" y="5103720"/>
                <a:ext cx="302400" cy="534960"/>
              </a:xfrm>
              <a:prstGeom prst="line">
                <a:avLst/>
              </a:prstGeom>
              <a:ln cap="sq" w="1584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Line 33"/>
              <p:cNvSpPr/>
              <p:nvPr/>
            </p:nvSpPr>
            <p:spPr>
              <a:xfrm flipH="1" flipV="1">
                <a:off x="6534720" y="5103720"/>
                <a:ext cx="305640" cy="534960"/>
              </a:xfrm>
              <a:prstGeom prst="line">
                <a:avLst/>
              </a:prstGeom>
              <a:ln cap="sq" w="1584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Text Box 34"/>
              <p:cNvSpPr/>
              <p:nvPr/>
            </p:nvSpPr>
            <p:spPr>
              <a:xfrm>
                <a:off x="6351840" y="498852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ff0000"/>
                    </a:solidFill>
                    <a:latin typeface="Courier New"/>
                  </a:rPr>
                  <a:t>+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Group 35"/>
            <p:cNvGrpSpPr/>
            <p:nvPr/>
          </p:nvGrpSpPr>
          <p:grpSpPr>
            <a:xfrm>
              <a:off x="5318280" y="3958920"/>
              <a:ext cx="759600" cy="609480"/>
              <a:chOff x="5318280" y="3958920"/>
              <a:chExt cx="759600" cy="609480"/>
            </a:xfrm>
          </p:grpSpPr>
          <p:sp>
            <p:nvSpPr>
              <p:cNvPr id="167" name="Line 36"/>
              <p:cNvSpPr/>
              <p:nvPr/>
            </p:nvSpPr>
            <p:spPr>
              <a:xfrm flipV="1">
                <a:off x="5318280" y="4036320"/>
                <a:ext cx="302400" cy="532080"/>
              </a:xfrm>
              <a:prstGeom prst="line">
                <a:avLst/>
              </a:prstGeom>
              <a:ln cap="sq" w="1584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Line 37"/>
              <p:cNvSpPr/>
              <p:nvPr/>
            </p:nvSpPr>
            <p:spPr>
              <a:xfrm flipH="1" flipV="1">
                <a:off x="5772240" y="4036320"/>
                <a:ext cx="305640" cy="532080"/>
              </a:xfrm>
              <a:prstGeom prst="line">
                <a:avLst/>
              </a:prstGeom>
              <a:ln cap="sq" w="1584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Text Box 38"/>
              <p:cNvSpPr/>
              <p:nvPr/>
            </p:nvSpPr>
            <p:spPr>
              <a:xfrm>
                <a:off x="5621040" y="395892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ff0000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0" name="Line 39"/>
            <p:cNvSpPr/>
            <p:nvPr/>
          </p:nvSpPr>
          <p:spPr>
            <a:xfrm flipH="1">
              <a:off x="7374960" y="3857760"/>
              <a:ext cx="230400" cy="0"/>
            </a:xfrm>
            <a:prstGeom prst="line">
              <a:avLst/>
            </a:prstGeom>
            <a:ln cap="sq" w="1584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928120" y="2815920"/>
              <a:ext cx="912240" cy="609480"/>
              <a:chOff x="5928120" y="2815920"/>
              <a:chExt cx="912240" cy="609480"/>
            </a:xfrm>
          </p:grpSpPr>
          <p:sp>
            <p:nvSpPr>
              <p:cNvPr id="172" name="Line 41"/>
              <p:cNvSpPr/>
              <p:nvPr/>
            </p:nvSpPr>
            <p:spPr>
              <a:xfrm flipH="1" flipV="1">
                <a:off x="6534720" y="2893320"/>
                <a:ext cx="305640" cy="532080"/>
              </a:xfrm>
              <a:prstGeom prst="line">
                <a:avLst/>
              </a:prstGeom>
              <a:ln cap="sq" w="1584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Line 42"/>
              <p:cNvSpPr/>
              <p:nvPr/>
            </p:nvSpPr>
            <p:spPr>
              <a:xfrm flipV="1">
                <a:off x="5928120" y="2893320"/>
                <a:ext cx="302400" cy="532080"/>
              </a:xfrm>
              <a:prstGeom prst="line">
                <a:avLst/>
              </a:prstGeom>
              <a:ln cap="sq" w="1584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Text Box 43"/>
              <p:cNvSpPr/>
              <p:nvPr/>
            </p:nvSpPr>
            <p:spPr>
              <a:xfrm>
                <a:off x="6289920" y="281592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ff0000"/>
                    </a:solidFill>
                    <a:latin typeface="Courier New"/>
                  </a:rPr>
                  <a:t>&lt;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" name="Text Box 44"/>
          <p:cNvSpPr/>
          <p:nvPr/>
        </p:nvSpPr>
        <p:spPr>
          <a:xfrm>
            <a:off x="5105520" y="5180040"/>
            <a:ext cx="10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h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45"/>
          <p:cNvSpPr/>
          <p:nvPr/>
        </p:nvSpPr>
        <p:spPr>
          <a:xfrm>
            <a:off x="4343400" y="4189320"/>
            <a:ext cx="10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h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6"/>
          <p:cNvSpPr/>
          <p:nvPr/>
        </p:nvSpPr>
        <p:spPr>
          <a:xfrm>
            <a:off x="6689880" y="5180040"/>
            <a:ext cx="10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h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47"/>
          <p:cNvSpPr/>
          <p:nvPr/>
        </p:nvSpPr>
        <p:spPr>
          <a:xfrm>
            <a:off x="6095880" y="4189320"/>
            <a:ext cx="10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h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48"/>
          <p:cNvSpPr/>
          <p:nvPr/>
        </p:nvSpPr>
        <p:spPr>
          <a:xfrm>
            <a:off x="4876920" y="3122640"/>
            <a:ext cx="10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h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49"/>
          <p:cNvSpPr/>
          <p:nvPr/>
        </p:nvSpPr>
        <p:spPr>
          <a:xfrm>
            <a:off x="6889680" y="3122640"/>
            <a:ext cx="10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h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50"/>
          <p:cNvSpPr/>
          <p:nvPr/>
        </p:nvSpPr>
        <p:spPr>
          <a:xfrm>
            <a:off x="6095880" y="2039760"/>
            <a:ext cx="16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oolean h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2.3 Polymor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z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(polymorhph = „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mnohoformný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“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per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or +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je rezervovaný pre sčítanie dvoch celých čísel typu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Radi by sme však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oužili pre sčítanie dvoch reálnych čísel typu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ahoma"/>
              </a:rPr>
              <a:t>Dá sa to</a:t>
            </a:r>
            <a:r>
              <a:rPr b="1" lang="de-DE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Polymorphism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Dá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eďže typy subvýrazov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toré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ú operandami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, sú znám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môžu byť tieto typy použité na identifikáciu operátora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.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Oper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or +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označuje rôzne operáci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. + . : int int </a:t>
            </a:r>
            <a:r>
              <a:rPr b="1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int</a:t>
            </a:r>
            <a:br>
              <a:rPr sz="2800"/>
            </a:b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. + . : double double </a:t>
            </a:r>
            <a:r>
              <a:rPr b="1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double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. + . : String String </a:t>
            </a:r>
            <a:r>
              <a:rPr b="1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urier New"/>
              </a:rPr>
              <a:t>. + . : int int </a:t>
            </a:r>
            <a:r>
              <a:rPr b="1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de-DE" sz="3600" spc="-1" strike="noStrike">
                <a:solidFill>
                  <a:srgbClr val="000000"/>
                </a:solidFill>
                <a:latin typeface="Courier New"/>
              </a:rPr>
              <a:t> i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číta dve čísla typu 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, výsledkom je číslo typu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. + . : double double </a:t>
            </a:r>
            <a:r>
              <a:rPr b="1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 doub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číta dve čísla typu 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sk-SK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ýsledkom je číslo typu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. + . : String String </a:t>
            </a:r>
            <a:r>
              <a:rPr b="1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 Str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(V Jave) Zreťazí obidva znakové reťazce do výsledného reťazca</a:t>
            </a:r>
            <a:br>
              <a:rPr sz="3200"/>
            </a:b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“abc“ + “def“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je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 “abcdef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Ďalšie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(impli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citné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)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orm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. + . : int double </a:t>
            </a:r>
            <a:r>
              <a:rPr b="1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dou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4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. + . : double int </a:t>
            </a:r>
            <a:r>
              <a:rPr b="1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dou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4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. + . : int String </a:t>
            </a:r>
            <a:r>
              <a:rPr b="1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4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. + . : String int </a:t>
            </a:r>
            <a:r>
              <a:rPr b="1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4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. + . : double String </a:t>
            </a:r>
            <a:r>
              <a:rPr b="1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4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. + . : String double </a:t>
            </a:r>
            <a:r>
              <a:rPr b="1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4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. + . : String boolean </a:t>
            </a:r>
            <a:r>
              <a:rPr b="1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4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44640"/>
                <a:tab algn="l" pos="1859040"/>
                <a:tab algn="l" pos="2773440"/>
                <a:tab algn="l" pos="3687840"/>
                <a:tab algn="l" pos="4602240"/>
                <a:tab algn="l" pos="5516640"/>
                <a:tab algn="l" pos="6431040"/>
                <a:tab algn="l" pos="7345440"/>
                <a:tab algn="l" pos="8259840"/>
                <a:tab algn="l" pos="9174240"/>
                <a:tab algn="l" pos="1008864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. + . : boolean String </a:t>
            </a:r>
            <a:r>
              <a:rPr b="1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7451640" y="2286000"/>
            <a:ext cx="15843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ždy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mpli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citná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nver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ia na typ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resp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Ďalšie operátory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Operato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To isté platí pre ďalšie aritmetické operátory: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-, *, 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Zvyšok po modulo delení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nie je definovaný pre reálne čís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e znakové reťazce nie sú definované operátory: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%, -, *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 a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íklad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2379600"/>
                <a:tab algn="l" pos="418320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abc“ + 1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je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“abc1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2379600"/>
                <a:tab algn="l" pos="418320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1 / 2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je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0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(celo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číselné deleni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2379600"/>
                <a:tab algn="l" pos="418320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1 / 2.0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j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0.5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reálne deleni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2379600"/>
                <a:tab algn="l" pos="418320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abc“ + false  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j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“abcfalse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2379600"/>
                <a:tab algn="l" pos="418320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abc“ + (1 + 2)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j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“abc3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2379600"/>
                <a:tab algn="l" pos="418320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2379600"/>
                <a:tab algn="l" pos="418320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Čo je výsledkom výraz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“abc“ + 1 + 2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2379600"/>
                <a:tab algn="l" pos="418320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Oper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át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logické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er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ácie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eg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ácia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un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árna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onjunk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cia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„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 súčasn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“ (bin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árna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isjunk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cia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„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lebo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“ (bin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árna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Porovnania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est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a rovnosť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bin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árna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, &lt;=, &gt;, &gt;=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enšie atď. , resp. väčši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bin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árn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Test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a nerovnosť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bin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árna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6477120" y="3124080"/>
            <a:ext cx="1522440" cy="1217880"/>
            <a:chOff x="6477120" y="3124080"/>
            <a:chExt cx="1522440" cy="1217880"/>
          </a:xfrm>
        </p:grpSpPr>
        <p:sp>
          <p:nvSpPr>
            <p:cNvPr id="202" name="AutoShape 4"/>
            <p:cNvSpPr/>
            <p:nvPr/>
          </p:nvSpPr>
          <p:spPr>
            <a:xfrm>
              <a:off x="6477120" y="3124080"/>
              <a:ext cx="1522440" cy="1217880"/>
            </a:xfrm>
            <a:prstGeom prst="wedgeRectCallout">
              <a:avLst>
                <a:gd name="adj1" fmla="val -48750"/>
                <a:gd name="adj2" fmla="val 87111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Text Box 5"/>
            <p:cNvSpPr/>
            <p:nvPr/>
          </p:nvSpPr>
          <p:spPr>
            <a:xfrm>
              <a:off x="6553080" y="3124080"/>
              <a:ext cx="13701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sk-SK" sz="3000" spc="-1" strike="noStrike">
                  <a:solidFill>
                    <a:srgbClr val="000000"/>
                  </a:solidFill>
                  <a:latin typeface="Tahoma"/>
                </a:rPr>
                <a:t>iba pri číslac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Primit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ívne dátové typ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celé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čísla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.., -3, -2, -1, 0, 1, 2, ..., 47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álne čísla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0.321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e, 0.777..., 3.1*1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ahoma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naky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‘a‘, ‘b‘, ‘c‘, ... , ‘A‘, ‘B‘, ... ‚‘0‘, ... ‘9‘, ‘&amp;‘, `*`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nakové reťazc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ogramovani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!“,  “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nakový reťazec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%$§.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avdivostné hodnoty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alse, tr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iorita operátorov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418140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un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árn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er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átory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najvyššia prior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418140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* / 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418140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+ 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418140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&lt; &lt;= &gt; &gt;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418140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== !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418140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418140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ajnižšia prior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 Black"/>
              </a:rPr>
              <a:t>3. </a:t>
            </a:r>
            <a:r>
              <a:rPr b="1" lang="sk-SK" sz="4800" spc="-1" strike="noStrike">
                <a:solidFill>
                  <a:srgbClr val="000000"/>
                </a:solidFill>
                <a:latin typeface="Arial Black"/>
              </a:rPr>
              <a:t>Priradeni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Hodnota výrazu môže byť priradená premennej rovnakého typu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nt n, m;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boolean b;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m = n * (n + 1);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b = m &lt; 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4800600" y="4114800"/>
            <a:ext cx="3962520" cy="91440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marL="101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1520"/>
                <a:tab algn="l" pos="1015920"/>
                <a:tab algn="l" pos="1930320"/>
                <a:tab algn="l" pos="2844720"/>
                <a:tab algn="l" pos="3759120"/>
                <a:tab algn="l" pos="4673520"/>
                <a:tab algn="l" pos="5587920"/>
                <a:tab algn="l" pos="6502320"/>
                <a:tab algn="l" pos="7416720"/>
                <a:tab algn="l" pos="8331120"/>
                <a:tab algn="l" pos="9245520"/>
                <a:tab algn="l" pos="1015992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Operátor priradenia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á najnižšiu prioritu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Typ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y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usia byť rovnaké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double x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9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x = 0.0;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9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9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9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n = 0.0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9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9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4343400" y="2057400"/>
            <a:ext cx="912960" cy="2589120"/>
            <a:chOff x="4343400" y="2057400"/>
            <a:chExt cx="912960" cy="2589120"/>
          </a:xfrm>
        </p:grpSpPr>
        <p:sp>
          <p:nvSpPr>
            <p:cNvPr id="212" name="Rectangle 4"/>
            <p:cNvSpPr/>
            <p:nvPr/>
          </p:nvSpPr>
          <p:spPr>
            <a:xfrm>
              <a:off x="4343400" y="2057400"/>
              <a:ext cx="912960" cy="988920"/>
            </a:xfrm>
            <a:prstGeom prst="rect">
              <a:avLst/>
            </a:prstGeom>
            <a:solidFill>
              <a:srgbClr val="ffffff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Oval 5"/>
            <p:cNvSpPr/>
            <p:nvPr/>
          </p:nvSpPr>
          <p:spPr>
            <a:xfrm>
              <a:off x="4343400" y="3657600"/>
              <a:ext cx="912960" cy="988920"/>
            </a:xfrm>
            <a:prstGeom prst="ellipse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Group 6"/>
          <p:cNvGrpSpPr/>
          <p:nvPr/>
        </p:nvGrpSpPr>
        <p:grpSpPr>
          <a:xfrm>
            <a:off x="4419720" y="2133720"/>
            <a:ext cx="760320" cy="836640"/>
            <a:chOff x="4419720" y="2133720"/>
            <a:chExt cx="760320" cy="836640"/>
          </a:xfrm>
        </p:grpSpPr>
        <p:sp>
          <p:nvSpPr>
            <p:cNvPr id="215" name="Rectangle 7"/>
            <p:cNvSpPr/>
            <p:nvPr/>
          </p:nvSpPr>
          <p:spPr>
            <a:xfrm>
              <a:off x="4419720" y="2133720"/>
              <a:ext cx="760320" cy="836640"/>
            </a:xfrm>
            <a:prstGeom prst="rect">
              <a:avLst/>
            </a:prstGeom>
            <a:noFill/>
            <a:ln cap="sq"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Text Box 8"/>
            <p:cNvSpPr/>
            <p:nvPr/>
          </p:nvSpPr>
          <p:spPr>
            <a:xfrm>
              <a:off x="4572000" y="2286000"/>
              <a:ext cx="60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Tahoma"/>
                </a:rPr>
                <a:t>0.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Group 9"/>
          <p:cNvGrpSpPr/>
          <p:nvPr/>
        </p:nvGrpSpPr>
        <p:grpSpPr>
          <a:xfrm>
            <a:off x="4419720" y="3733920"/>
            <a:ext cx="760320" cy="836640"/>
            <a:chOff x="4419720" y="3733920"/>
            <a:chExt cx="760320" cy="836640"/>
          </a:xfrm>
        </p:grpSpPr>
        <p:sp>
          <p:nvSpPr>
            <p:cNvPr id="218" name="Rectangle 10"/>
            <p:cNvSpPr/>
            <p:nvPr/>
          </p:nvSpPr>
          <p:spPr>
            <a:xfrm>
              <a:off x="4419720" y="3733920"/>
              <a:ext cx="760320" cy="836640"/>
            </a:xfrm>
            <a:prstGeom prst="rect">
              <a:avLst/>
            </a:prstGeom>
            <a:noFill/>
            <a:ln cap="sq"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Text Box 11"/>
            <p:cNvSpPr/>
            <p:nvPr/>
          </p:nvSpPr>
          <p:spPr>
            <a:xfrm>
              <a:off x="4572000" y="3886200"/>
              <a:ext cx="60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Tahoma"/>
                </a:rPr>
                <a:t>0.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Group 12"/>
          <p:cNvGrpSpPr/>
          <p:nvPr/>
        </p:nvGrpSpPr>
        <p:grpSpPr>
          <a:xfrm>
            <a:off x="685800" y="4267080"/>
            <a:ext cx="1598400" cy="684360"/>
            <a:chOff x="685800" y="4267080"/>
            <a:chExt cx="1598400" cy="684360"/>
          </a:xfrm>
        </p:grpSpPr>
        <p:sp>
          <p:nvSpPr>
            <p:cNvPr id="221" name="Line 13"/>
            <p:cNvSpPr/>
            <p:nvPr/>
          </p:nvSpPr>
          <p:spPr>
            <a:xfrm>
              <a:off x="685800" y="4343400"/>
              <a:ext cx="1597320" cy="608040"/>
            </a:xfrm>
            <a:prstGeom prst="line">
              <a:avLst/>
            </a:prstGeom>
            <a:ln cap="sq"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14"/>
            <p:cNvSpPr/>
            <p:nvPr/>
          </p:nvSpPr>
          <p:spPr>
            <a:xfrm flipH="1">
              <a:off x="759960" y="4267080"/>
              <a:ext cx="1524240" cy="684360"/>
            </a:xfrm>
            <a:prstGeom prst="line">
              <a:avLst/>
            </a:prstGeom>
            <a:ln cap="sq"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Expli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citná typová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konverz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Unárne operátory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(int),(float)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(double)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menia typ výrazu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(type casting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zor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ožná strata pres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i prekročení rozsahu daného typu (pri pretečení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žiadne chybové hlásenie v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Jav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e a v C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čo môže viesť k zlému výsledku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Deklar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ácia a i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ni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cializác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7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nt n;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n = 0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1440" indent="0">
              <a:spcBef>
                <a:spcPts val="700"/>
              </a:spcBef>
              <a:buNone/>
              <a:tabLst>
                <a:tab algn="l" pos="0"/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ôžu byť zapísané spolu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nt n = 0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1440" indent="0">
              <a:spcBef>
                <a:spcPts val="700"/>
              </a:spcBef>
              <a:buNone/>
              <a:tabLst>
                <a:tab algn="l" pos="0"/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 princípe musí byť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k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ál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emennej priradená hodnota predtým ako je použitá v nejakom výraze, ktorý sa bude vyhodnocovať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1440" indent="0">
              <a:spcBef>
                <a:spcPts val="700"/>
              </a:spcBef>
              <a:buNone/>
              <a:tabLst>
                <a:tab algn="l" pos="0"/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Globálne premenné sú inicializované autmatick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II.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Základné elemen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1001"/>
              </a:spcBef>
              <a:buNone/>
              <a:tabLst>
                <a:tab algn="l" pos="0"/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1" lang="sk-SK" sz="4000" spc="-1" strike="noStrike">
                <a:solidFill>
                  <a:srgbClr val="000000"/>
                </a:solidFill>
                <a:latin typeface="Tahoma"/>
              </a:rPr>
              <a:t>Špecial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89080" indent="-287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krat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9080" indent="-287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per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ácie v postrannými efektam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9080" indent="-287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krátené vyhodnotenie logických výrazo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9080" indent="0">
              <a:spcBef>
                <a:spcPts val="799"/>
              </a:spcBef>
              <a:buNone/>
              <a:tabLst>
                <a:tab algn="l" pos="0"/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Skratk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e premennú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yp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int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znamená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++;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++i;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krátený zápis pre</a:t>
            </a:r>
            <a:br>
              <a:rPr sz="32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--;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--i;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krátený zápis pre</a:t>
            </a:r>
            <a:br>
              <a:rPr sz="32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 = i - 1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Skratk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e aritmetický výraz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e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a premennú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x (int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double)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znamen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x *= e;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kratku pr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x = x * 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x /= e;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kratku pr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x = x / 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x %= e;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kratku pr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x = x % 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x += e;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kratku pr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x = x + 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x -= e;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kratku pr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x = x - 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stranné efek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onštrukcie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i++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++i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i--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nd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–-i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ú výrazy typu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++;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x = i--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emennej </a:t>
            </a:r>
            <a:r>
              <a:rPr b="0" lang="sk-SK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je priradená hodnota </a:t>
            </a:r>
            <a:r>
              <a:rPr b="0" lang="sk-SK" sz="2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zvýšen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, resp. znížen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++i;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x = –-i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emennej </a:t>
            </a:r>
            <a:r>
              <a:rPr b="0" lang="sk-SK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je priradená hodnota </a:t>
            </a:r>
            <a:r>
              <a:rPr b="0" lang="sk-SK" sz="2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zvýšení, resp. znížení </a:t>
            </a:r>
            <a:r>
              <a:rPr b="0" lang="sk-SK" sz="2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Pr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íklad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54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623960"/>
                <a:tab algn="l" pos="2538360"/>
                <a:tab algn="l" pos="3452760"/>
                <a:tab algn="l" pos="4367160"/>
                <a:tab algn="l" pos="5281560"/>
                <a:tab algn="l" pos="6195960"/>
                <a:tab algn="l" pos="7110360"/>
                <a:tab algn="l" pos="8024760"/>
                <a:tab algn="l" pos="8939160"/>
                <a:tab algn="l" pos="9853560"/>
                <a:tab algn="l" pos="1076796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r = n++ * n--;</a:t>
            </a:r>
            <a:br>
              <a:rPr sz="2800"/>
            </a:b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á rovnaký efekt ak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54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623960"/>
                <a:tab algn="l" pos="2538360"/>
                <a:tab algn="l" pos="3452760"/>
                <a:tab algn="l" pos="4367160"/>
                <a:tab algn="l" pos="5281560"/>
                <a:tab algn="l" pos="6195960"/>
                <a:tab algn="l" pos="7110360"/>
                <a:tab algn="l" pos="8024760"/>
                <a:tab algn="l" pos="8939160"/>
                <a:tab algn="l" pos="9853560"/>
                <a:tab algn="l" pos="1076796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r = n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* (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1)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54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623960"/>
                <a:tab algn="l" pos="2538360"/>
                <a:tab algn="l" pos="3452760"/>
                <a:tab algn="l" pos="4367160"/>
                <a:tab algn="l" pos="5281560"/>
                <a:tab algn="l" pos="6195960"/>
                <a:tab algn="l" pos="7110360"/>
                <a:tab algn="l" pos="8024760"/>
                <a:tab algn="l" pos="8939160"/>
                <a:tab algn="l" pos="9853560"/>
                <a:tab algn="l" pos="107679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54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623960"/>
                <a:tab algn="l" pos="2538360"/>
                <a:tab algn="l" pos="3452760"/>
                <a:tab algn="l" pos="4367160"/>
                <a:tab algn="l" pos="5281560"/>
                <a:tab algn="l" pos="6195960"/>
                <a:tab algn="l" pos="7110360"/>
                <a:tab algn="l" pos="8024760"/>
                <a:tab algn="l" pos="8939160"/>
                <a:tab algn="l" pos="9853560"/>
                <a:tab algn="l" pos="1076796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r = n++ * n;</a:t>
            </a:r>
            <a:br>
              <a:rPr sz="2800"/>
            </a:b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á rovnaký efekt ak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54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623960"/>
                <a:tab algn="l" pos="2538360"/>
                <a:tab algn="l" pos="3452760"/>
                <a:tab algn="l" pos="4367160"/>
                <a:tab algn="l" pos="5281560"/>
                <a:tab algn="l" pos="6195960"/>
                <a:tab algn="l" pos="7110360"/>
                <a:tab algn="l" pos="8024760"/>
                <a:tab algn="l" pos="8939160"/>
                <a:tab algn="l" pos="9853560"/>
                <a:tab algn="l" pos="1076796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r = n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* (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1)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54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623960"/>
                <a:tab algn="l" pos="2538360"/>
                <a:tab algn="l" pos="3452760"/>
                <a:tab algn="l" pos="4367160"/>
                <a:tab algn="l" pos="5281560"/>
                <a:tab algn="l" pos="6195960"/>
                <a:tab algn="l" pos="7110360"/>
                <a:tab algn="l" pos="8024760"/>
                <a:tab algn="l" pos="8939160"/>
                <a:tab algn="l" pos="9853560"/>
                <a:tab algn="l" pos="1076796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n = n + 1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838080" y="2819520"/>
            <a:ext cx="7696440" cy="53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Celé čísl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byt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    –128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ž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12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short 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–32768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ž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32767 (2 Byte)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v J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-2147483648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ž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2147483647 (4 Byte)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 Jave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long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-9223372036854775808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až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9223372036854775807</a:t>
            </a:r>
            <a:br>
              <a:rPr sz="20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         (8 Byte)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v Jav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avé celé čísla (bez obmedzenia) neexistujú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ko primitívne dátové typy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) 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ourier New"/>
              </a:rPr>
              <a:t>r = n++ * --n;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yhodnoteni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 Jave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ez elementárne operáci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 (pre n = 6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 h1 = n; h1 = 6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n = n + 1;  n = 7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n = n - 1;  n = 6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 h2 = n; h2 = 6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 h3 = h1 * h2; h3 = 6 * 6 = 36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 = h3; r = 36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3962520" y="2895480"/>
            <a:ext cx="1827000" cy="836640"/>
            <a:chOff x="3962520" y="2895480"/>
            <a:chExt cx="1827000" cy="836640"/>
          </a:xfrm>
        </p:grpSpPr>
        <p:sp>
          <p:nvSpPr>
            <p:cNvPr id="240" name="AutoShape 4"/>
            <p:cNvSpPr/>
            <p:nvPr/>
          </p:nvSpPr>
          <p:spPr>
            <a:xfrm>
              <a:off x="3962520" y="2895480"/>
              <a:ext cx="303120" cy="836640"/>
            </a:xfrm>
            <a:custGeom>
              <a:avLst/>
              <a:gdLst>
                <a:gd name="textAreaLeft" fmla="*/ 0 w 303120"/>
                <a:gd name="textAreaRight" fmla="*/ 109440 w 303120"/>
                <a:gd name="textAreaTop" fmla="*/ 21600 h 836640"/>
                <a:gd name="textAreaBottom" fmla="*/ 815040 h 8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Text Box 5"/>
            <p:cNvSpPr/>
            <p:nvPr/>
          </p:nvSpPr>
          <p:spPr>
            <a:xfrm>
              <a:off x="4876920" y="3048120"/>
              <a:ext cx="91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Courier New"/>
                </a:rPr>
                <a:t>n++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Group 6"/>
          <p:cNvGrpSpPr/>
          <p:nvPr/>
        </p:nvGrpSpPr>
        <p:grpSpPr>
          <a:xfrm>
            <a:off x="3962520" y="3733920"/>
            <a:ext cx="1827000" cy="836640"/>
            <a:chOff x="3962520" y="3733920"/>
            <a:chExt cx="1827000" cy="836640"/>
          </a:xfrm>
        </p:grpSpPr>
        <p:sp>
          <p:nvSpPr>
            <p:cNvPr id="243" name="AutoShape 7"/>
            <p:cNvSpPr/>
            <p:nvPr/>
          </p:nvSpPr>
          <p:spPr>
            <a:xfrm>
              <a:off x="3962520" y="3733920"/>
              <a:ext cx="303120" cy="836640"/>
            </a:xfrm>
            <a:custGeom>
              <a:avLst/>
              <a:gdLst>
                <a:gd name="textAreaLeft" fmla="*/ 0 w 303120"/>
                <a:gd name="textAreaRight" fmla="*/ 109440 w 303120"/>
                <a:gd name="textAreaTop" fmla="*/ 21600 h 836640"/>
                <a:gd name="textAreaBottom" fmla="*/ 815040 h 8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Text Box 8"/>
            <p:cNvSpPr/>
            <p:nvPr/>
          </p:nvSpPr>
          <p:spPr>
            <a:xfrm>
              <a:off x="4876920" y="3886200"/>
              <a:ext cx="91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Courier New"/>
                </a:rPr>
                <a:t>--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Text Box 9"/>
          <p:cNvSpPr/>
          <p:nvPr/>
        </p:nvSpPr>
        <p:spPr>
          <a:xfrm>
            <a:off x="6443640" y="2576520"/>
            <a:ext cx="2700360" cy="1923480"/>
          </a:xfrm>
          <a:prstGeom prst="rect">
            <a:avLst/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Pozor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!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Poradie vyhodnocovania (priradenie temporálnym premenným h1 a h2) je dôležité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Ďalšie postranné efek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 povolené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ale nebudeme to (často:-) používať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užiť priradenie priamo vo výraz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íklad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nt r2;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nt r1 = ( r2 = n * (n + 1) ) / 2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á najnižšiu prioritu z operátoro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okrem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átvork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a vyhodnocovanie prebieha zľava doprava, preto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r2 = n * (n + 1) 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r2 / 2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2666880" y="2666880"/>
            <a:ext cx="3200400" cy="1067040"/>
          </a:xfrm>
          <a:prstGeom prst="wedgeRoundRectCallout">
            <a:avLst>
              <a:gd name="adj1" fmla="val -7342"/>
              <a:gd name="adj2" fmla="val 76638"/>
              <a:gd name="adj3" fmla="val 16667"/>
            </a:avLst>
          </a:prstGeom>
          <a:noFill/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Toto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nie j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rovnani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Skrátené vyh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dnotenie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de-DE" sz="36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eď je prvý operand logického súčinu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yhodnotený ako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yhodnotenie druhého operandu sa nevykoná a výsledok j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íklad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nt n = 0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br>
              <a:rPr sz="3200"/>
            </a:br>
            <a:r>
              <a:rPr b="1" lang="de-DE" sz="2600" spc="-1" strike="noStrike">
                <a:solidFill>
                  <a:srgbClr val="000000"/>
                </a:solidFill>
                <a:latin typeface="Courier New"/>
              </a:rPr>
              <a:t>boolean b = (n != 0) &amp;&amp; (5 / n &gt;= 1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Skrátené vyh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dnotenie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de-DE" sz="3600" spc="-1" strike="noStrike">
                <a:solidFill>
                  <a:srgbClr val="000000"/>
                </a:solidFill>
                <a:latin typeface="Courier New"/>
              </a:rPr>
              <a:t>||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eď je prvý operand logického súčtu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) 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yhodnotenie druhého operandu sa nevykoná a výsledok j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íklad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nt n = 0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br>
              <a:rPr sz="3200"/>
            </a:br>
            <a:r>
              <a:rPr b="1" lang="de-DE" sz="2600" spc="-1" strike="noStrike">
                <a:solidFill>
                  <a:srgbClr val="000000"/>
                </a:solidFill>
                <a:latin typeface="Courier New"/>
              </a:rPr>
              <a:t>boolean b = (n = = 0) || (5 / n &gt;= 1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838080" y="4114800"/>
            <a:ext cx="708660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„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álne čísla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25653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  ca. –3*10</a:t>
            </a:r>
            <a:r>
              <a:rPr b="0" lang="de-DE" sz="2900" spc="-1" strike="noStrike" baseline="30000">
                <a:solidFill>
                  <a:srgbClr val="000000"/>
                </a:solidFill>
                <a:latin typeface="Tahoma"/>
              </a:rPr>
              <a:t>38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ž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3*10</a:t>
            </a:r>
            <a:r>
              <a:rPr b="0" lang="de-DE" sz="2900" spc="-1" strike="noStrike" baseline="30000">
                <a:solidFill>
                  <a:srgbClr val="000000"/>
                </a:solidFill>
                <a:latin typeface="Tahoma"/>
              </a:rPr>
              <a:t>38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(4 Byte)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ca. 6 bis 7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iest presnosť</a:t>
            </a:r>
            <a:br>
              <a:rPr sz="2800"/>
            </a:b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íklady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3.578671E+22F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0.0145456E-15F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25653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double 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ca. –2*10</a:t>
            </a:r>
            <a:r>
              <a:rPr b="0" lang="de-DE" sz="2900" spc="-1" strike="noStrike" baseline="30000">
                <a:solidFill>
                  <a:srgbClr val="000000"/>
                </a:solidFill>
                <a:latin typeface="Tahoma"/>
              </a:rPr>
              <a:t>308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ž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2*10</a:t>
            </a:r>
            <a:r>
              <a:rPr b="0" lang="de-DE" sz="2900" spc="-1" strike="noStrike" baseline="30000">
                <a:solidFill>
                  <a:srgbClr val="000000"/>
                </a:solidFill>
                <a:latin typeface="Tahoma"/>
              </a:rPr>
              <a:t>308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(8 Byte)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15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iest presnosť</a:t>
            </a:r>
            <a:br>
              <a:rPr sz="2800"/>
            </a:b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íklady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1.234567897897E+220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25653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-3.956745656e-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Z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naky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(Character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char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naky v tzv. Kódovaní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Unicode</a:t>
            </a:r>
            <a:br>
              <a:rPr sz="32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http://www.unicode.org/charts/web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 Unicode su zobraziteľné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šetky znaky sveta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“ (2 Byte):</a:t>
            </a:r>
            <a:br>
              <a:rPr sz="32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`a``, ... , `z`,`ä`, `ö`, `ü`, `ß`,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`A`, ... `Z`, ... , `0`, ... , `9`, `+`, `- `,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`\t`, `\n`, `\r`, `\\`, `\`` , ...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`\u2200`   , `\u24B8`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410080" y="54100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590920" y="5486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Z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naky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(Character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n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akové reťazce v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Unicode! (Jav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nakové reťazce sú na rozdiel od znakov v dvojitých úvodzovkách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br>
              <a:rPr sz="32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Toto je príklad pre jeden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\n</a:t>
            </a:r>
            <a:br>
              <a:rPr sz="2800"/>
            </a:b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znakový reťazec so zalomením riadku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!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zor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c‘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 jeden znak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c“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 znakový reťazec, ktorý pozostáva z jedného zna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\u2200“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 tiež znakový reťazec, ktorý pozostáva z jedného zna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\\u2200“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 znakový reťazec, ktorý pozostáva zo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6 (!)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nakov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\\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repr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ezentuje sp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ä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né lomítko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ackslas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zor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Znakové reťazce nie sú prísne vzaté primitívny dátový typ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! (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ysvetlíme neskôr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 Jave d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átový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typ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St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4T13:59:44Z</dcterms:created>
  <dc:creator>mga121</dc:creator>
  <dc:description/>
  <dc:language>en-US</dc:language>
  <cp:lastModifiedBy>Gabriel Juhás</cp:lastModifiedBy>
  <dcterms:modified xsi:type="dcterms:W3CDTF">2022-02-17T10:34:26Z</dcterms:modified>
  <cp:revision>156</cp:revision>
  <dc:subject/>
  <dc:title>Programmiertechnik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Test.html</vt:lpwstr>
  </property>
  <property fmtid="{D5CDD505-2E9C-101B-9397-08002B2CF9AE}" pid="9" name="LinkColor">
    <vt:r8>16711782</vt:r8>
  </property>
  <property fmtid="{D5CDD505-2E9C-101B-9397-08002B2CF9AE}" pid="10" name="MailAddress">
    <vt:lpwstr>Kindler@xxx.de</vt:lpwstr>
  </property>
  <property fmtid="{D5CDD505-2E9C-101B-9397-08002B2CF9AE}" pid="11" name="NavBtnPos">
    <vt:r8>1</vt:r8>
  </property>
  <property fmtid="{D5CDD505-2E9C-101B-9397-08002B2CF9AE}" pid="12" name="OutputDir">
    <vt:lpwstr>C:\WINNT\Profiles\mga121\Eigene Dateien\HTML</vt:lpwstr>
  </property>
  <property fmtid="{D5CDD505-2E9C-101B-9397-08002B2CF9AE}" pid="13" name="ScreenSize">
    <vt:r8>2</vt:r8>
  </property>
  <property fmtid="{D5CDD505-2E9C-101B-9397-08002B2CF9AE}" pid="14" name="ScreenUsage">
    <vt:r8>1</vt:r8>
  </property>
  <property fmtid="{D5CDD505-2E9C-101B-9397-08002B2CF9AE}" pid="15" name="ShowNotes">
    <vt:bool>0</vt:bool>
  </property>
  <property fmtid="{D5CDD505-2E9C-101B-9397-08002B2CF9AE}" pid="16" name="TemplateType">
    <vt:r8>1</vt:r8>
  </property>
  <property fmtid="{D5CDD505-2E9C-101B-9397-08002B2CF9AE}" pid="17" name="TextColor">
    <vt:r8>0</vt:r8>
  </property>
  <property fmtid="{D5CDD505-2E9C-101B-9397-08002B2CF9AE}" pid="18" name="TransparentButton">
    <vt:r8>0</vt:r8>
  </property>
  <property fmtid="{D5CDD505-2E9C-101B-9397-08002B2CF9AE}" pid="19" name="UseBrowserColor">
    <vt:bool>1</vt:bool>
  </property>
  <property fmtid="{D5CDD505-2E9C-101B-9397-08002B2CF9AE}" pid="20" name="VisitedColor">
    <vt:r8>10040268</vt:r8>
  </property>
</Properties>
</file>