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94960" y="74268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532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3822840" y="941832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E46933-53C8-4A52-80F5-EF08154A0FCA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6F2FB0-0FA0-44E4-8DAC-296601865EE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669EA2-A24A-4CD8-A82B-99841E72E3B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153F4D-50F7-4DC6-9559-9E4E950F3C9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89076E-4C2E-4E8E-83C4-82BBB02A2E0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567C33-74A8-4109-BE2D-458CF079F6A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6DCCA9-0040-4E90-B7BA-283540ED3AD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AD62FE-DEA3-4E7A-814D-7E416BCFD6FB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D81D78-26D4-4F34-AD63-381A69BE0E3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20C3BA-31C9-4802-809F-EA8AE78E447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C9E16C-16CF-4AA2-A7F4-0FC56022896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42FBE6-1A29-4AA8-BFCA-4988C63157E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1DD5BD-D893-4918-8D18-1455B288350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C58683-9F68-4136-811D-71F039858EE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1D61B0-B02C-4B94-B1B7-4078BD08B1A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E0ACB3-B564-46E6-9BFE-51AEC64E19C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CE56FF-D74F-43E4-A777-D593E31F224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CDA1FC-1C79-4073-822E-49D4D04E41DE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400E00-9493-4895-BD69-9CAD1868E74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8669E7-4043-40B7-8E81-00567F5463E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015473-8690-4336-8399-624531B876D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921BC0-8D88-41ED-9F08-9A776DC205B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0133FF-5D11-46D8-AE0B-07977D3E743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CDB841-565C-4E30-8CFA-B90BD9326DB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83BB0C-2EA9-4039-AEE6-0498A8848F0B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DB7B91-43D6-477C-91B2-F469AAF8492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4F611F-E990-4A84-9B72-9952D6AE359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Bem: Beispiel zur Umformung einer for-Schleife in eine while-Schleife und umgekehrt mac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FF0AC0-3EFD-415C-9EC1-2B0699080F9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063AD2-BE35-4F3B-B09D-15718B9898C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D0D99C-3384-40CF-90E4-3D75CCD48DF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84BDC3-BEF9-431D-AC4C-BCF0335EB67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3E2464-C7B9-4509-9188-3044CB9738E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3E26F2-8260-4A77-8A53-EDD37D7DFBC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823CBD-252A-484F-97FB-504AD87B882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C870FF-5963-4E64-8511-A1B3C32DD1B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E5EF67-330A-409C-8BB6-B7732833124F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F6B1C1-A152-494F-BA67-FCCA21FEEA1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8BDD2B-BE0D-43D9-BA95-DE22C5E2592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D78C5E-5247-468C-BE1B-E40A179B6B8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32B4B4-C9FC-459E-911C-E895A8E6658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D27F7B-C26A-4D70-86B7-5BEF7C755F2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62BAB7-81FD-49A0-A611-D6DCDA78756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540FC1-829F-4B3D-8F49-0E0AFF36064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D8E6B0-2BB8-4283-886A-86FFC1C45CEF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41F710-AC9D-4064-BB9D-3C5AF975DAAE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D91A13-F7A1-44A7-A1E8-C8BA9B1EE59B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564C08-C95C-4A69-B804-048C903B9BB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CB6340-456C-46FF-80C5-84CF6A4C3A4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Bem: Ein paar Techniken dazu später in der Vorlesu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D54332-429C-470D-BAC8-E860A65CF640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FE933D-B2FD-4BEF-A098-B397FECB5F6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CB9E6D-D615-49D8-ACD9-14B66804F97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0763BF-53C6-4DD1-90FD-D6AEDCA010A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F7D9E4-1D51-4525-A21F-D3FC7065191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552E0A-B917-429A-8822-E4F7E4408B3E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92E-26D2-4BA5-BFD8-B8DFBBD3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FB9-BB30-4753-B46E-98AE9234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46C-2526-42EB-B34A-DA43C3A7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F62-B969-4BC9-A8AA-74B6A6BE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D88-C8C8-4871-A6D4-DCDA908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0D2-3EAC-4EBD-B0A0-26677CD2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B38-87A8-4C93-AC42-F9A579E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8DB-793A-4876-8FA7-1D34A5D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72D-FF4D-4584-B44C-72500D86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7FC-8542-45DE-8057-C4BBED2E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7E1-660F-45CC-B1BF-68769CAB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1BA-C289-4642-ABDD-BFE56549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11000" y="6229440"/>
            <a:ext cx="19285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de-DE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ZS 2006/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49640" y="6009840"/>
            <a:ext cx="2843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© G. Juhás, FEI STU, Algoritmizácia a programovanie, Fólie 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44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AF2DC5-19EF-413A-A214-4E308DB55EDC}" type="slidenum">
              <a: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6.3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Riadiace štruktúry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(pokr.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6.3.2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Iteračné príkazy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Cykly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1: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ceme násobiť postupne všetky čísla od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počítať faktoriál čísla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n! = 1 * 2 * 3 * ... * n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7620120" y="4267080"/>
          <a:ext cx="609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4267080"/>
                    <a:ext cx="609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do-while-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ykl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886040"/>
            <a:ext cx="86868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Vstup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  double x;  x &gt;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0;         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podná hranica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očiatočného interval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x + 1;     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orná hranica počiatočného interval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eps = 1.0e-10; 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želaná relatívna presnos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 / 2;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if 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&gt;= x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 / 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 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 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&gt; eps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// Výstup: 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ývojový diagram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do-while-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yklu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6705720" y="1981080"/>
            <a:ext cx="1801800" cy="838440"/>
          </a:xfrm>
          <a:prstGeom prst="wedgeRoundRectCallout">
            <a:avLst>
              <a:gd name="adj1" fmla="val -106828"/>
              <a:gd name="adj2" fmla="val 72916"/>
              <a:gd name="adj3" fmla="val 16667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íkaz cyk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1600200" y="1752480"/>
            <a:ext cx="5051520" cy="4494240"/>
            <a:chOff x="1600200" y="1752480"/>
            <a:chExt cx="5051520" cy="4494240"/>
          </a:xfrm>
        </p:grpSpPr>
        <p:sp>
          <p:nvSpPr>
            <p:cNvPr id="143" name="AutoShape 5"/>
            <p:cNvSpPr/>
            <p:nvPr/>
          </p:nvSpPr>
          <p:spPr>
            <a:xfrm>
              <a:off x="3216240" y="2438280"/>
              <a:ext cx="3014640" cy="1217880"/>
            </a:xfrm>
            <a:prstGeom prst="flowChartProcess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276720" y="2863080"/>
              <a:ext cx="28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Príka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 flipH="1">
              <a:off x="2589120" y="4876920"/>
              <a:ext cx="99216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 flipH="1">
              <a:off x="5865840" y="4876920"/>
              <a:ext cx="70632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>
              <a:off x="6553080" y="4876920"/>
              <a:ext cx="0" cy="13698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4724280" y="1752480"/>
              <a:ext cx="0" cy="6843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9" name="Group 11"/>
            <p:cNvGrpSpPr/>
            <p:nvPr/>
          </p:nvGrpSpPr>
          <p:grpSpPr>
            <a:xfrm>
              <a:off x="3549600" y="4267080"/>
              <a:ext cx="2347920" cy="1217880"/>
              <a:chOff x="3549600" y="4267080"/>
              <a:chExt cx="2347920" cy="1217880"/>
            </a:xfrm>
          </p:grpSpPr>
          <p:sp>
            <p:nvSpPr>
              <p:cNvPr id="150" name="AutoShape 12"/>
              <p:cNvSpPr/>
              <p:nvPr/>
            </p:nvSpPr>
            <p:spPr>
              <a:xfrm>
                <a:off x="3549600" y="4267080"/>
                <a:ext cx="2347920" cy="1217880"/>
              </a:xfrm>
              <a:prstGeom prst="flowChartDecision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3666960" y="4691880"/>
                <a:ext cx="21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sk-SK" sz="1800" spc="-1" strike="noStrike">
                    <a:solidFill>
                      <a:srgbClr val="000000"/>
                    </a:solidFill>
                    <a:latin typeface="Courier New"/>
                  </a:rPr>
                  <a:t>Podmienka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2" name="Text Box 14"/>
            <p:cNvSpPr/>
            <p:nvPr/>
          </p:nvSpPr>
          <p:spPr>
            <a:xfrm>
              <a:off x="2819520" y="4495680"/>
              <a:ext cx="546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5791320" y="44935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ni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AutoShape 16"/>
            <p:cNvSpPr/>
            <p:nvPr/>
          </p:nvSpPr>
          <p:spPr>
            <a:xfrm>
              <a:off x="1600200" y="5372280"/>
              <a:ext cx="1800360" cy="836280"/>
            </a:xfrm>
            <a:prstGeom prst="wedgeRoundRectCallout">
              <a:avLst>
                <a:gd name="adj1" fmla="val 120222"/>
                <a:gd name="adj2" fmla="val -85796"/>
                <a:gd name="adj3" fmla="val 16667"/>
              </a:avLst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 anchorCtr="1">
              <a:norm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k-SK" sz="2400" spc="-1" strike="noStrike">
                  <a:solidFill>
                    <a:srgbClr val="000000"/>
                  </a:solidFill>
                  <a:latin typeface="Tahoma"/>
                </a:rPr>
                <a:t>Podmienka cyklu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4724280" y="3657600"/>
              <a:ext cx="0" cy="6080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2590920" y="1981080"/>
              <a:ext cx="0" cy="28940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2590920" y="1981080"/>
              <a:ext cx="213192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8" name="Text Box 20"/>
          <p:cNvSpPr/>
          <p:nvPr/>
        </p:nvSpPr>
        <p:spPr>
          <a:xfrm>
            <a:off x="380880" y="23623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íkaz cyklu sa vykoná aspoň ra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2743200" y="45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á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ývojový diagram 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 Black"/>
              </a:rPr>
              <a:t>pre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 Black"/>
              </a:rPr>
              <a:t>porovnanie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while-(do)-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ykl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914400" y="1752480"/>
            <a:ext cx="6578640" cy="4570560"/>
            <a:chOff x="914400" y="1752480"/>
            <a:chExt cx="6578640" cy="4570560"/>
          </a:xfrm>
        </p:grpSpPr>
        <p:sp>
          <p:nvSpPr>
            <p:cNvPr id="163" name="AutoShape 4"/>
            <p:cNvSpPr/>
            <p:nvPr/>
          </p:nvSpPr>
          <p:spPr>
            <a:xfrm>
              <a:off x="3578400" y="2438280"/>
              <a:ext cx="2347560" cy="1217880"/>
            </a:xfrm>
            <a:prstGeom prst="flowChartDecision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AutoShape 5"/>
            <p:cNvSpPr/>
            <p:nvPr/>
          </p:nvSpPr>
          <p:spPr>
            <a:xfrm>
              <a:off x="3263760" y="4267080"/>
              <a:ext cx="3014640" cy="1217880"/>
            </a:xfrm>
            <a:prstGeom prst="flowChartProcess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6"/>
            <p:cNvSpPr/>
            <p:nvPr/>
          </p:nvSpPr>
          <p:spPr>
            <a:xfrm>
              <a:off x="3276720" y="4267080"/>
              <a:ext cx="29239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Príka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7"/>
            <p:cNvSpPr/>
            <p:nvPr/>
          </p:nvSpPr>
          <p:spPr>
            <a:xfrm flipH="1">
              <a:off x="2636640" y="4876920"/>
              <a:ext cx="62676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925600" y="3048120"/>
              <a:ext cx="7066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>
              <a:off x="6632640" y="3048120"/>
              <a:ext cx="0" cy="31986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>
              <a:off x="4753080" y="1752480"/>
              <a:ext cx="0" cy="6843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Text Box 11"/>
            <p:cNvSpPr/>
            <p:nvPr/>
          </p:nvSpPr>
          <p:spPr>
            <a:xfrm>
              <a:off x="3695760" y="2863080"/>
              <a:ext cx="21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Podmienk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Text Box 12"/>
            <p:cNvSpPr/>
            <p:nvPr/>
          </p:nvSpPr>
          <p:spPr>
            <a:xfrm>
              <a:off x="4753080" y="3733920"/>
              <a:ext cx="5461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6632640" y="342828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ni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AutoShape 14"/>
            <p:cNvSpPr/>
            <p:nvPr/>
          </p:nvSpPr>
          <p:spPr>
            <a:xfrm>
              <a:off x="5692680" y="1752480"/>
              <a:ext cx="1800360" cy="836640"/>
            </a:xfrm>
            <a:prstGeom prst="wedgeRoundRectCallout">
              <a:avLst>
                <a:gd name="adj1" fmla="val -95472"/>
                <a:gd name="adj2" fmla="val 67990"/>
                <a:gd name="adj3" fmla="val 16667"/>
              </a:avLst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 anchorCtr="1">
              <a:norm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k-SK" sz="2400" spc="-1" strike="noStrike">
                  <a:solidFill>
                    <a:srgbClr val="000000"/>
                  </a:solidFill>
                  <a:latin typeface="Tahoma"/>
                </a:rPr>
                <a:t>Podmienka cyklu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AutoShape 15"/>
            <p:cNvSpPr/>
            <p:nvPr/>
          </p:nvSpPr>
          <p:spPr>
            <a:xfrm>
              <a:off x="914400" y="5486400"/>
              <a:ext cx="1800360" cy="836640"/>
            </a:xfrm>
            <a:prstGeom prst="wedgeRoundRectCallout">
              <a:avLst>
                <a:gd name="adj1" fmla="val 89129"/>
                <a:gd name="adj2" fmla="val -89013"/>
                <a:gd name="adj3" fmla="val 16667"/>
              </a:avLst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 anchorCtr="1">
              <a:norm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k-SK" sz="2400" spc="-1" strike="noStrike">
                  <a:solidFill>
                    <a:srgbClr val="000000"/>
                  </a:solidFill>
                  <a:latin typeface="Tahoma"/>
                </a:rPr>
                <a:t>Príkaz cyklu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6"/>
            <p:cNvSpPr/>
            <p:nvPr/>
          </p:nvSpPr>
          <p:spPr>
            <a:xfrm>
              <a:off x="4753080" y="3657600"/>
              <a:ext cx="0" cy="608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>
              <a:off x="2638440" y="1981080"/>
              <a:ext cx="0" cy="2894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>
              <a:off x="2638440" y="1981080"/>
              <a:ext cx="21128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Text Box 19"/>
          <p:cNvSpPr/>
          <p:nvPr/>
        </p:nvSpPr>
        <p:spPr>
          <a:xfrm>
            <a:off x="380880" y="23623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íkaz cyklu nemusí byť nutne vykona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4800600" y="36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á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možnosti cyklov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(n</a:t>
            </a:r>
            <a:r>
              <a:rPr b="0" lang="sk-SK" sz="3600" spc="-1" strike="noStrike">
                <a:solidFill>
                  <a:srgbClr val="000000"/>
                </a:solidFill>
                <a:latin typeface="Arial Black"/>
              </a:rPr>
              <a:t>ie v Jave a 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ika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until (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odmienk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4343040" y="1752480"/>
            <a:ext cx="4060800" cy="4494240"/>
            <a:chOff x="4343040" y="1752480"/>
            <a:chExt cx="4060800" cy="4494240"/>
          </a:xfrm>
        </p:grpSpPr>
        <p:sp>
          <p:nvSpPr>
            <p:cNvPr id="183" name="AutoShape 4"/>
            <p:cNvSpPr/>
            <p:nvPr/>
          </p:nvSpPr>
          <p:spPr>
            <a:xfrm>
              <a:off x="4969800" y="2438280"/>
              <a:ext cx="3013560" cy="1217880"/>
            </a:xfrm>
            <a:prstGeom prst="flowChartProcess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5030280" y="2863080"/>
              <a:ext cx="289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Príka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 flipH="1">
              <a:off x="4343040" y="4876920"/>
              <a:ext cx="99180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H="1">
              <a:off x="7618320" y="4876920"/>
              <a:ext cx="70632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>
              <a:off x="8305920" y="4876920"/>
              <a:ext cx="0" cy="13698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6477480" y="1752480"/>
              <a:ext cx="0" cy="6843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9" name="Group 10"/>
            <p:cNvGrpSpPr/>
            <p:nvPr/>
          </p:nvGrpSpPr>
          <p:grpSpPr>
            <a:xfrm>
              <a:off x="5303160" y="4267080"/>
              <a:ext cx="2346840" cy="1217880"/>
              <a:chOff x="5303160" y="4267080"/>
              <a:chExt cx="2346840" cy="1217880"/>
            </a:xfrm>
          </p:grpSpPr>
          <p:sp>
            <p:nvSpPr>
              <p:cNvPr id="190" name="AutoShape 11"/>
              <p:cNvSpPr/>
              <p:nvPr/>
            </p:nvSpPr>
            <p:spPr>
              <a:xfrm>
                <a:off x="5303160" y="4267080"/>
                <a:ext cx="2346840" cy="1217880"/>
              </a:xfrm>
              <a:prstGeom prst="flowChartDecision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Text Box 12"/>
              <p:cNvSpPr/>
              <p:nvPr/>
            </p:nvSpPr>
            <p:spPr>
              <a:xfrm>
                <a:off x="5420520" y="4691880"/>
                <a:ext cx="21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sk-SK" sz="1800" spc="-1" strike="noStrike">
                    <a:solidFill>
                      <a:srgbClr val="000000"/>
                    </a:solidFill>
                    <a:latin typeface="Courier New"/>
                  </a:rPr>
                  <a:t>Podmienka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2" name="Text Box 13"/>
            <p:cNvSpPr/>
            <p:nvPr/>
          </p:nvSpPr>
          <p:spPr>
            <a:xfrm>
              <a:off x="4344480" y="4493520"/>
              <a:ext cx="91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ni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7543800" y="4495680"/>
              <a:ext cx="860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15"/>
            <p:cNvSpPr/>
            <p:nvPr/>
          </p:nvSpPr>
          <p:spPr>
            <a:xfrm>
              <a:off x="6477480" y="3657600"/>
              <a:ext cx="0" cy="6080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344480" y="1981080"/>
              <a:ext cx="0" cy="28940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>
              <a:off x="4344480" y="1981080"/>
              <a:ext cx="2130840" cy="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7" name="Text Box 18"/>
          <p:cNvSpPr/>
          <p:nvPr/>
        </p:nvSpPr>
        <p:spPr>
          <a:xfrm>
            <a:off x="533520" y="3657600"/>
            <a:ext cx="464796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odpovedá v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Ja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e a v C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ika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while ( !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odmeink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7620120" y="45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á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ik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until (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odmienk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ik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0" name="Group 2"/>
          <p:cNvGrpSpPr/>
          <p:nvPr/>
        </p:nvGrpSpPr>
        <p:grpSpPr>
          <a:xfrm>
            <a:off x="4952880" y="2438280"/>
            <a:ext cx="3030480" cy="532080"/>
            <a:chOff x="4952880" y="2438280"/>
            <a:chExt cx="3030480" cy="532080"/>
          </a:xfrm>
        </p:grpSpPr>
        <p:sp>
          <p:nvSpPr>
            <p:cNvPr id="201" name="AutoShape 3"/>
            <p:cNvSpPr/>
            <p:nvPr/>
          </p:nvSpPr>
          <p:spPr>
            <a:xfrm>
              <a:off x="4952880" y="2438280"/>
              <a:ext cx="3030480" cy="532080"/>
            </a:xfrm>
            <a:prstGeom prst="flowChartProcess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Text Box 4"/>
            <p:cNvSpPr/>
            <p:nvPr/>
          </p:nvSpPr>
          <p:spPr>
            <a:xfrm>
              <a:off x="5029200" y="2513880"/>
              <a:ext cx="28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Príkaz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3" name="Line 5"/>
          <p:cNvSpPr/>
          <p:nvPr/>
        </p:nvSpPr>
        <p:spPr>
          <a:xfrm flipH="1">
            <a:off x="4341960" y="5638680"/>
            <a:ext cx="612720" cy="1800"/>
          </a:xfrm>
          <a:prstGeom prst="line">
            <a:avLst/>
          </a:prstGeom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7617960" y="4191120"/>
            <a:ext cx="708120" cy="1440"/>
          </a:xfrm>
          <a:prstGeom prst="line">
            <a:avLst/>
          </a:prstGeom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8305920" y="4191120"/>
            <a:ext cx="1440" cy="22096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77120" y="1752480"/>
            <a:ext cx="1440" cy="6858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5302080" y="3581280"/>
            <a:ext cx="2347920" cy="1217880"/>
            <a:chOff x="5302080" y="3581280"/>
            <a:chExt cx="2347920" cy="1217880"/>
          </a:xfrm>
        </p:grpSpPr>
        <p:sp>
          <p:nvSpPr>
            <p:cNvPr id="208" name="AutoShape 10"/>
            <p:cNvSpPr/>
            <p:nvPr/>
          </p:nvSpPr>
          <p:spPr>
            <a:xfrm>
              <a:off x="5302080" y="3581280"/>
              <a:ext cx="2347920" cy="1217880"/>
            </a:xfrm>
            <a:prstGeom prst="flowChartDecision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Text Box 11"/>
            <p:cNvSpPr/>
            <p:nvPr/>
          </p:nvSpPr>
          <p:spPr>
            <a:xfrm>
              <a:off x="5419800" y="4006080"/>
              <a:ext cx="21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Podmienk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0" name="Text Box 12"/>
          <p:cNvSpPr/>
          <p:nvPr/>
        </p:nvSpPr>
        <p:spPr>
          <a:xfrm>
            <a:off x="6477120" y="4876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n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7543800" y="38084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á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6474960" y="2971800"/>
            <a:ext cx="468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5"/>
          <p:cNvSpPr/>
          <p:nvPr/>
        </p:nvSpPr>
        <p:spPr>
          <a:xfrm>
            <a:off x="4343400" y="1981080"/>
            <a:ext cx="1440" cy="3657600"/>
          </a:xfrm>
          <a:prstGeom prst="line">
            <a:avLst/>
          </a:prstGeom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343400" y="1981080"/>
            <a:ext cx="2133720" cy="18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17"/>
          <p:cNvSpPr/>
          <p:nvPr/>
        </p:nvSpPr>
        <p:spPr>
          <a:xfrm flipH="1">
            <a:off x="6473520" y="4800600"/>
            <a:ext cx="468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6" name="Group 18"/>
          <p:cNvGrpSpPr/>
          <p:nvPr/>
        </p:nvGrpSpPr>
        <p:grpSpPr>
          <a:xfrm>
            <a:off x="4960800" y="5410080"/>
            <a:ext cx="3030840" cy="532080"/>
            <a:chOff x="4960800" y="5410080"/>
            <a:chExt cx="3030840" cy="532080"/>
          </a:xfrm>
        </p:grpSpPr>
        <p:sp>
          <p:nvSpPr>
            <p:cNvPr id="217" name="AutoShape 19"/>
            <p:cNvSpPr/>
            <p:nvPr/>
          </p:nvSpPr>
          <p:spPr>
            <a:xfrm>
              <a:off x="4960800" y="5410080"/>
              <a:ext cx="3030840" cy="532080"/>
            </a:xfrm>
            <a:prstGeom prst="flowChartProcess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Text Box 20"/>
            <p:cNvSpPr/>
            <p:nvPr/>
          </p:nvSpPr>
          <p:spPr>
            <a:xfrm>
              <a:off x="5037120" y="5485680"/>
              <a:ext cx="28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Príkaz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9" name="Text Box 2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možnosti cyklov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(n</a:t>
            </a:r>
            <a:r>
              <a:rPr b="0" lang="sk-SK" sz="3600" spc="-1" strike="noStrike">
                <a:solidFill>
                  <a:srgbClr val="000000"/>
                </a:solidFill>
                <a:latin typeface="Arial Black"/>
              </a:rPr>
              <a:t>ie v Jave a 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Iteračné príkazy nad interval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 mnohých prípadoch prechádza nejaká premenná (počítadlo) v cykle hodnoty vopred známeho rozsah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apr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 1 ... n)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y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ak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to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 takéto cykly existuje špeciálna konštrukci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az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az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de-DE" sz="4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ykl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product = 1.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i = 1; i &lt;= n; i++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product = product * i;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261040" y="2255760"/>
            <a:ext cx="3825720" cy="1866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e porovnani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i &lt;= 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product = product * 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= i + 1;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ýhody cyklu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4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asné oddelenie jednotlivých častí cykl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Initial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ci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mienk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terácia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 príkazu cyk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eď v príkaze cyklu iteračnej premennej-počítadlu a premenným použitým v podmienke nie je priradená žiadna hodnota, je možné priamo z hlavičky usúdiť, či cyklus terminuj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Syntax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yklu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4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or (Init;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od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Iter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ríka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304920" y="1752480"/>
            <a:ext cx="3047760" cy="1524240"/>
          </a:xfrm>
          <a:prstGeom prst="wedgeRoundRectCallout">
            <a:avLst>
              <a:gd name="adj1" fmla="val 59009"/>
              <a:gd name="adj2" fmla="val 70833"/>
              <a:gd name="adj3" fmla="val 1666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1000"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oznam deklarácií alebo zoznam prira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590920" y="4876920"/>
            <a:ext cx="3276360" cy="1523880"/>
          </a:xfrm>
          <a:prstGeom prst="wedgeRoundRectCallout">
            <a:avLst>
              <a:gd name="adj1" fmla="val -5814"/>
              <a:gd name="adj2" fmla="val -81666"/>
              <a:gd name="adj3" fmla="val 1666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Ľubovoľný príka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943600" y="1752480"/>
            <a:ext cx="3048120" cy="1524240"/>
          </a:xfrm>
          <a:prstGeom prst="wedgeRoundRectCallout">
            <a:avLst>
              <a:gd name="adj1" fmla="val -39583"/>
              <a:gd name="adj2" fmla="val 66564"/>
              <a:gd name="adj3" fmla="val 1666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znam prira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Odporúča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cykle for použite iba jednu iteračnú premenn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časti „iterácia“ cyklu for použite jednoduchú iteráciu iteračnej premennej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pr.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leb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--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časti „podmienka“ použite iba porovnani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pr.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&lt; 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leb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&gt;= 0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epriraďujte iteračnej premennej a premennej vystupujúcej v podmienke žiadnu hodnotu v príkaze cyk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i &lt;=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prod = prod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Odporúčania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ova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0760" indent="-320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užívajt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dmienk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&lt; ...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esp.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&lt;= ...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ba v spojení s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leb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= i +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užívajte podmienku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&gt; ...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esp.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&gt;= ...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ba v spojení 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--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leb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= i -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epoužívajt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!= .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 iteračné premenné používajte celočíselné premen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užívajte cyklu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eď jeho použitie koncepčne zodpovedá cyklu nad intervalom (cyklu s póčítadlom)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nak použite radšej cyklus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 (do while)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Odporúčania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ova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norené cyk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 súlad s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BNF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efiníciou príkazov môžu byť všetky konštrukcie pre príkazy (if-else príkaz, cykly) vnorené (zložené)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Táto skutočnosť sa hojne využív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0644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 (Java)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228600" y="1676520"/>
            <a:ext cx="86868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Trojuholni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int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sk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Integer.parseInt(args[0]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(int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riadok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1;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riadok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sk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riadok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for (int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stlpec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= 1;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stlpec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riadok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stlpec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("*"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06440" y="228600"/>
            <a:ext cx="8432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ýstup na konsolu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)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javac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Trojuholnik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j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java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Trojuholnik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**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****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edčasné ukončenie cykl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by bolo možné využiť všetky možnosti cyklov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e v Jave a v C k dispozícii príkaz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break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az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break;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abezpečí okamžité ukončenie cykl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ývojový diagram 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while-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yklu s príkazom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4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666520" y="1752480"/>
            <a:ext cx="4826160" cy="4494240"/>
            <a:chOff x="2666520" y="1752480"/>
            <a:chExt cx="4826160" cy="4494240"/>
          </a:xfrm>
        </p:grpSpPr>
        <p:sp>
          <p:nvSpPr>
            <p:cNvPr id="249" name="AutoShape 4"/>
            <p:cNvSpPr/>
            <p:nvPr/>
          </p:nvSpPr>
          <p:spPr>
            <a:xfrm>
              <a:off x="3579480" y="2438280"/>
              <a:ext cx="2346840" cy="1217880"/>
            </a:xfrm>
            <a:prstGeom prst="flowChartDecision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AutoShape 5"/>
            <p:cNvSpPr/>
            <p:nvPr/>
          </p:nvSpPr>
          <p:spPr>
            <a:xfrm>
              <a:off x="3264840" y="4267080"/>
              <a:ext cx="3013560" cy="1217880"/>
            </a:xfrm>
            <a:prstGeom prst="flowChartProcess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3277800" y="4267080"/>
              <a:ext cx="292284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4000"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break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 flipH="1">
              <a:off x="2666520" y="5410080"/>
              <a:ext cx="61092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 flipH="1">
              <a:off x="5926320" y="3048120"/>
              <a:ext cx="70632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6632640" y="3048120"/>
              <a:ext cx="0" cy="31986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4753800" y="1752480"/>
              <a:ext cx="0" cy="6843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3696840" y="2863080"/>
              <a:ext cx="211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Podmienk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4753800" y="3733920"/>
              <a:ext cx="545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Text Box 13"/>
            <p:cNvSpPr/>
            <p:nvPr/>
          </p:nvSpPr>
          <p:spPr>
            <a:xfrm>
              <a:off x="6632640" y="3428280"/>
              <a:ext cx="86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ni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4753800" y="3657600"/>
              <a:ext cx="0" cy="608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2667960" y="1981080"/>
              <a:ext cx="0" cy="34275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2667960" y="1981080"/>
              <a:ext cx="20836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5181840" y="4876920"/>
              <a:ext cx="144576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3" name="Text Box 18"/>
          <p:cNvSpPr/>
          <p:nvPr/>
        </p:nvSpPr>
        <p:spPr>
          <a:xfrm>
            <a:off x="4724280" y="36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á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06440" y="228600"/>
            <a:ext cx="835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 Black"/>
              </a:rPr>
              <a:t>Predčasné ukončenie JEDNEJ slučky cyklu príkazom </a:t>
            </a: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3578400" y="2438280"/>
            <a:ext cx="2349360" cy="1219320"/>
          </a:xfrm>
          <a:prstGeom prst="flowChartDecision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3263760" y="4267080"/>
            <a:ext cx="3016440" cy="1219320"/>
          </a:xfrm>
          <a:prstGeom prst="flowChartProcess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276720" y="4267080"/>
            <a:ext cx="292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Line 6"/>
          <p:cNvSpPr/>
          <p:nvPr/>
        </p:nvSpPr>
        <p:spPr>
          <a:xfrm flipH="1">
            <a:off x="2665440" y="5410080"/>
            <a:ext cx="61272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Line 7"/>
          <p:cNvSpPr/>
          <p:nvPr/>
        </p:nvSpPr>
        <p:spPr>
          <a:xfrm flipH="1">
            <a:off x="5925600" y="3048120"/>
            <a:ext cx="70812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632640" y="3048120"/>
            <a:ext cx="1440" cy="32004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4753080" y="1752480"/>
            <a:ext cx="1440" cy="6858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695760" y="286380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odmienk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753080" y="373392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á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632640" y="34290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n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4753080" y="3657600"/>
            <a:ext cx="1440" cy="6094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2666880" y="1981080"/>
            <a:ext cx="1800" cy="3429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2666880" y="1981080"/>
            <a:ext cx="20862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665080" y="4876920"/>
            <a:ext cx="129852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 v Jav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sk-SK" sz="40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57200" y="184932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class VynechajNegativne_for_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public static void main (String[] arg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int n = args.length;  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čet parametr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for (i =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&lt; n; i++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double x = Double.parseDouble(args[i]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 x &lt; 0.0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System.out.println(„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Čí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lo "+ x + " j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z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orn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 Presko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č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 i + ": " + x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0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920" y="259920"/>
            <a:ext cx="58291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 Black"/>
              </a:rPr>
              <a:t>6.5 </a:t>
            </a:r>
            <a:r>
              <a:rPr b="0" lang="sk-SK" sz="2500" spc="-1" strike="noStrike">
                <a:solidFill>
                  <a:srgbClr val="000000"/>
                </a:solidFill>
                <a:latin typeface="Arial Black"/>
              </a:rPr>
              <a:t>Ďalšie riadiace štruktúry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85720" y="2271600"/>
            <a:ext cx="613404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251280" indent="-25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54160"/>
                <a:tab algn="l" pos="333360"/>
                <a:tab algn="l" pos="669960"/>
                <a:tab algn="l" pos="1006560"/>
                <a:tab algn="l" pos="1343160"/>
                <a:tab algn="l" pos="1681200"/>
                <a:tab algn="l" pos="2017800"/>
                <a:tab algn="l" pos="2354400"/>
                <a:tab algn="l" pos="2690640"/>
                <a:tab algn="l" pos="3029040"/>
                <a:tab algn="l" pos="3365640"/>
                <a:tab algn="l" pos="3701880"/>
                <a:tab algn="l" pos="4038480"/>
                <a:tab algn="l" pos="4376880"/>
                <a:tab algn="l" pos="4713120"/>
                <a:tab algn="l" pos="5049720"/>
                <a:tab algn="l" pos="5386320"/>
                <a:tab algn="l" pos="5724360"/>
                <a:tab algn="l" pos="6060960"/>
                <a:tab algn="l" pos="6397560"/>
                <a:tab algn="l" pos="67341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s návestím v J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4160"/>
                <a:tab algn="l" pos="333360"/>
                <a:tab algn="l" pos="669960"/>
                <a:tab algn="l" pos="1006560"/>
                <a:tab algn="l" pos="1343160"/>
                <a:tab algn="l" pos="1681200"/>
                <a:tab algn="l" pos="2017800"/>
                <a:tab algn="l" pos="2354400"/>
                <a:tab algn="l" pos="2690640"/>
                <a:tab algn="l" pos="3029040"/>
                <a:tab algn="l" pos="3365640"/>
                <a:tab algn="l" pos="3701880"/>
                <a:tab algn="l" pos="4038480"/>
                <a:tab algn="l" pos="4376880"/>
                <a:tab algn="l" pos="4713120"/>
                <a:tab algn="l" pos="5049720"/>
                <a:tab algn="l" pos="5386320"/>
                <a:tab algn="l" pos="5724360"/>
                <a:tab algn="l" pos="6060960"/>
                <a:tab algn="l" pos="6397560"/>
                <a:tab algn="l" pos="67341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51280" indent="0">
              <a:spcBef>
                <a:spcPts val="799"/>
              </a:spcBef>
              <a:buNone/>
              <a:tabLst>
                <a:tab algn="l" pos="0"/>
                <a:tab algn="l" pos="254160"/>
                <a:tab algn="l" pos="333360"/>
                <a:tab algn="l" pos="669960"/>
                <a:tab algn="l" pos="1006560"/>
                <a:tab algn="l" pos="1343160"/>
                <a:tab algn="l" pos="1681200"/>
                <a:tab algn="l" pos="2017800"/>
                <a:tab algn="l" pos="2354400"/>
                <a:tab algn="l" pos="2690640"/>
                <a:tab algn="l" pos="3029040"/>
                <a:tab algn="l" pos="3365640"/>
                <a:tab algn="l" pos="3701880"/>
                <a:tab algn="l" pos="4038480"/>
                <a:tab algn="l" pos="4376880"/>
                <a:tab algn="l" pos="4713120"/>
                <a:tab algn="l" pos="5049720"/>
                <a:tab algn="l" pos="5386320"/>
                <a:tab algn="l" pos="5724360"/>
                <a:tab algn="l" pos="6060960"/>
                <a:tab algn="l" pos="6397560"/>
                <a:tab algn="l" pos="67341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1280" indent="-25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54160"/>
                <a:tab algn="l" pos="333360"/>
                <a:tab algn="l" pos="669960"/>
                <a:tab algn="l" pos="1006560"/>
                <a:tab algn="l" pos="1343160"/>
                <a:tab algn="l" pos="1681200"/>
                <a:tab algn="l" pos="2017800"/>
                <a:tab algn="l" pos="2354400"/>
                <a:tab algn="l" pos="2690640"/>
                <a:tab algn="l" pos="3029040"/>
                <a:tab algn="l" pos="3365640"/>
                <a:tab algn="l" pos="3701880"/>
                <a:tab algn="l" pos="4038480"/>
                <a:tab algn="l" pos="4376880"/>
                <a:tab algn="l" pos="4713120"/>
                <a:tab algn="l" pos="5049720"/>
                <a:tab algn="l" pos="5386320"/>
                <a:tab algn="l" pos="5724360"/>
                <a:tab algn="l" pos="6060960"/>
                <a:tab algn="l" pos="6397560"/>
                <a:tab algn="l" pos="67341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v Jave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ýber z viacerých možností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"/>
          <p:cNvGrpSpPr/>
          <p:nvPr/>
        </p:nvGrpSpPr>
        <p:grpSpPr>
          <a:xfrm>
            <a:off x="533520" y="1600200"/>
            <a:ext cx="8151840" cy="4570560"/>
            <a:chOff x="533520" y="1600200"/>
            <a:chExt cx="8151840" cy="4570560"/>
          </a:xfrm>
        </p:grpSpPr>
        <p:sp>
          <p:nvSpPr>
            <p:cNvPr id="96" name="Rectangle 2"/>
            <p:cNvSpPr/>
            <p:nvPr/>
          </p:nvSpPr>
          <p:spPr>
            <a:xfrm>
              <a:off x="609480" y="3276720"/>
              <a:ext cx="3046680" cy="152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AutoShape 3"/>
            <p:cNvSpPr/>
            <p:nvPr/>
          </p:nvSpPr>
          <p:spPr>
            <a:xfrm>
              <a:off x="4876920" y="2286000"/>
              <a:ext cx="2284200" cy="1217520"/>
            </a:xfrm>
            <a:prstGeom prst="flowChartDecision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4"/>
            <p:cNvGrpSpPr/>
            <p:nvPr/>
          </p:nvGrpSpPr>
          <p:grpSpPr>
            <a:xfrm>
              <a:off x="4572000" y="4114800"/>
              <a:ext cx="2932200" cy="1217520"/>
              <a:chOff x="4572000" y="4114800"/>
              <a:chExt cx="2932200" cy="1217520"/>
            </a:xfrm>
          </p:grpSpPr>
          <p:sp>
            <p:nvSpPr>
              <p:cNvPr id="99" name="AutoShape 5"/>
              <p:cNvSpPr/>
              <p:nvPr/>
            </p:nvSpPr>
            <p:spPr>
              <a:xfrm>
                <a:off x="4572000" y="4114800"/>
                <a:ext cx="2932200" cy="1217520"/>
              </a:xfrm>
              <a:prstGeom prst="flowChartProcess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Text Box 6"/>
              <p:cNvSpPr/>
              <p:nvPr/>
            </p:nvSpPr>
            <p:spPr>
              <a:xfrm>
                <a:off x="4572000" y="4114800"/>
                <a:ext cx="2857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br>
                  <a:rPr sz="1800"/>
                </a:b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prod = prod * i;</a:t>
                </a:r>
                <a:br>
                  <a:rPr sz="1800"/>
                </a:br>
                <a:r>
                  <a:rPr b="1" lang="de-DE" sz="1800" spc="-1" strike="noStrike">
                    <a:solidFill>
                      <a:srgbClr val="000000"/>
                    </a:solidFill>
                    <a:latin typeface="Courier New"/>
                  </a:rPr>
                  <a:t> i = i + 1;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Line 7"/>
            <p:cNvSpPr/>
            <p:nvPr/>
          </p:nvSpPr>
          <p:spPr>
            <a:xfrm flipH="1">
              <a:off x="3960720" y="4724280"/>
              <a:ext cx="6112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 flipH="1">
              <a:off x="7161120" y="2895480"/>
              <a:ext cx="6876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7848720" y="2895480"/>
              <a:ext cx="0" cy="3198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6019920" y="1600200"/>
              <a:ext cx="0" cy="6843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4991040" y="2709000"/>
              <a:ext cx="20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i &lt;= 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6019920" y="3581280"/>
              <a:ext cx="531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7848720" y="3274200"/>
              <a:ext cx="83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ni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14"/>
            <p:cNvSpPr/>
            <p:nvPr/>
          </p:nvSpPr>
          <p:spPr>
            <a:xfrm>
              <a:off x="6934320" y="1600200"/>
              <a:ext cx="1751040" cy="836640"/>
            </a:xfrm>
            <a:prstGeom prst="wedgeRoundRectCallout">
              <a:avLst>
                <a:gd name="adj1" fmla="val -95472"/>
                <a:gd name="adj2" fmla="val 67990"/>
                <a:gd name="adj3" fmla="val 16667"/>
              </a:avLst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 anchorCtr="1">
              <a:normAutofit fontScale="91000"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k-SK" sz="2400" spc="-1" strike="noStrike">
                  <a:solidFill>
                    <a:srgbClr val="000000"/>
                  </a:solidFill>
                  <a:latin typeface="Tahoma"/>
                </a:rPr>
                <a:t>Podmienka</a:t>
              </a: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sk-SK" sz="2400" spc="-1" strike="noStrike">
                  <a:solidFill>
                    <a:srgbClr val="000000"/>
                  </a:solidFill>
                  <a:latin typeface="Tahoma"/>
                </a:rPr>
                <a:t>kým platí</a:t>
              </a: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286000" y="5334120"/>
              <a:ext cx="1751040" cy="836640"/>
            </a:xfrm>
            <a:prstGeom prst="wedgeRoundRectCallout">
              <a:avLst>
                <a:gd name="adj1" fmla="val 89129"/>
                <a:gd name="adj2" fmla="val -89013"/>
                <a:gd name="adj3" fmla="val 16667"/>
              </a:avLst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 anchorCtr="1">
              <a:norm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k-SK" sz="2400" spc="-1" strike="noStrike">
                  <a:solidFill>
                    <a:srgbClr val="000000"/>
                  </a:solidFill>
                  <a:latin typeface="Tahoma"/>
                </a:rPr>
                <a:t>Príkaz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Line 16"/>
            <p:cNvSpPr/>
            <p:nvPr/>
          </p:nvSpPr>
          <p:spPr>
            <a:xfrm>
              <a:off x="6019920" y="3505320"/>
              <a:ext cx="0" cy="608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3962520" y="1828800"/>
              <a:ext cx="0" cy="2894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3962520" y="1828800"/>
              <a:ext cx="20556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533520" y="2743200"/>
              <a:ext cx="4554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i &lt;=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prod = prod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5943600" y="3517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á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7480" y="54900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az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27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 s návestím v Ja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85720" y="2271600"/>
            <a:ext cx="613404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sk-SK" sz="1500" spc="-1" strike="noStrike">
                <a:solidFill>
                  <a:srgbClr val="000000"/>
                </a:solidFill>
                <a:latin typeface="Courier New"/>
              </a:rPr>
              <a:t>pod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sk-SK" sz="1500" spc="-1" strike="noStrike">
                <a:solidFill>
                  <a:srgbClr val="000000"/>
                </a:solidFill>
                <a:latin typeface="Courier New"/>
              </a:rPr>
              <a:t>pod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2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 break;   //</a:t>
            </a:r>
            <a:r>
              <a:rPr b="1" lang="sk-SK" sz="1500" spc="-1" strike="noStrike">
                <a:solidFill>
                  <a:srgbClr val="000000"/>
                </a:solidFill>
                <a:latin typeface="Courier New"/>
              </a:rPr>
              <a:t> ukončí vnútorný cykl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  break;    // </a:t>
            </a:r>
            <a:r>
              <a:rPr b="1" lang="sk-SK" sz="1500" spc="-1" strike="noStrike">
                <a:solidFill>
                  <a:srgbClr val="000000"/>
                </a:solidFill>
                <a:latin typeface="Courier New"/>
              </a:rPr>
              <a:t>ukončí vonkajší cykl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2400480" y="4000680"/>
            <a:ext cx="53146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 break a; // </a:t>
            </a:r>
            <a:r>
              <a:rPr b="1" lang="sk-SK" sz="1500" spc="-1" strike="noStrike">
                <a:solidFill>
                  <a:srgbClr val="000000"/>
                </a:solidFill>
                <a:latin typeface="Courier New"/>
              </a:rPr>
              <a:t>ukončí vnútorný aj vonkajší </a:t>
            </a:r>
            <a:r>
              <a:rPr b="1" lang="sk-SK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500" spc="-1" strike="noStrike">
                <a:solidFill>
                  <a:srgbClr val="000000"/>
                </a:solidFill>
                <a:latin typeface="Courier New"/>
              </a:rPr>
              <a:t>  // cyklus</a:t>
            </a:r>
            <a:br>
              <a:rPr sz="1500"/>
            </a:b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00160" y="2228760"/>
            <a:ext cx="514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7680" tIns="35280" bIns="3528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86760"/>
                <a:tab algn="l" pos="9423360"/>
                <a:tab algn="l" pos="9759960"/>
                <a:tab algn="l" pos="10096560"/>
                <a:tab algn="l" pos="10433160"/>
                <a:tab algn="l" pos="107697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a: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4686480" y="2457360"/>
            <a:ext cx="2286000" cy="68040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86760"/>
                <a:tab algn="l" pos="9423360"/>
                <a:tab algn="l" pos="9759960"/>
                <a:tab algn="l" pos="10096560"/>
                <a:tab algn="l" pos="104331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nalog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cky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58291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az</a:t>
            </a:r>
            <a:r>
              <a:rPr b="1" lang="sk-SK" sz="27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1" lang="de-DE" sz="2700" spc="-1" strike="noStrike">
                <a:solidFill>
                  <a:srgbClr val="000000"/>
                </a:solidFill>
                <a:latin typeface="Courier New"/>
              </a:rPr>
              <a:t>witch</a:t>
            </a:r>
            <a:endParaRPr b="0" lang="en-US" sz="27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85720" y="2271600"/>
            <a:ext cx="613404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Vstup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int 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cislo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den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= ““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cislo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{ case 1: 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den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= “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Pondelok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“; break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case 2: 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den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= “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Utorok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“;  break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case 3: 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den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= “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Streda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“;  break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case 4: 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den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= “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Stvrtok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“; break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case 5: 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den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= “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Piatok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“;  break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case 6: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case 7: 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den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= “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Vikend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“;  break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default: System.out.println(“</a:t>
            </a:r>
            <a:r>
              <a:rPr b="1" lang="sk-SK" sz="1300" spc="-1" strike="noStrike">
                <a:solidFill>
                  <a:srgbClr val="000000"/>
                </a:solidFill>
                <a:latin typeface="Courier New"/>
              </a:rPr>
              <a:t>Nie je v tyzdni</a:t>
            </a: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25704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 v Ja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class Fakto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n = Integer.parseInt(args[0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i &lt;= 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prod = prod *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“Faktorial cisla ”+n+“ je “+pro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EBNF: Itera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čné príkaz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2668680"/>
                <a:tab algn="l" pos="7142040"/>
                <a:tab algn="l" pos="780588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ík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=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IteračnýPrík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2668680"/>
                <a:tab algn="l" pos="7142040"/>
                <a:tab algn="l" pos="780588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2668680"/>
                <a:tab algn="l" pos="7142040"/>
                <a:tab algn="l" pos="780588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IteračnýPrík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=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“while“ “(“ 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“)“ 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ík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2133720" y="5029200"/>
            <a:ext cx="213336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467160" y="5257800"/>
            <a:ext cx="2514600" cy="914400"/>
          </a:xfrm>
          <a:prstGeom prst="wedgeRoundRectCallout">
            <a:avLst>
              <a:gd name="adj1" fmla="val -39013"/>
              <a:gd name="adj2" fmla="val -144273"/>
              <a:gd name="adj3" fmla="val 1666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raz musí byť typu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Probl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: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Ukončenie cyklu 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rmin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to garantuje, že podmienka iteračného cyklu sa stane niekedy nepravdivá (false) a tým sa ukončí cyklu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1" lang="sk-SK" sz="3600" spc="-1" strike="noStrike">
                <a:solidFill>
                  <a:srgbClr val="000000"/>
                </a:solidFill>
                <a:latin typeface="Tahoma"/>
              </a:rPr>
              <a:t>átor</a:t>
            </a: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k-SK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sk-SK" sz="3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sk-SK" sz="3600" spc="-1" strike="noStrike">
                <a:solidFill>
                  <a:srgbClr val="000000"/>
                </a:solidFill>
                <a:latin typeface="Tahoma"/>
              </a:rPr>
              <a:t>Vy</a:t>
            </a: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ýpočet odmocniny        pomocou delenia intervalu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9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Ide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492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volím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ntervall [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],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ktoro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určite nachádz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92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ozdelíme interval na dva intervaly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] und [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92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volíme interval, v ktorom sa      určite nachádza a opakujeme procedúru, kým nedosiahneme požadovanú presnosť, t.j. kým interval nie je dostatočne malý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3962520" y="1752480"/>
          <a:ext cx="68580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752480"/>
                    <a:ext cx="6858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"/>
          <p:cNvGraphicFramePr/>
          <p:nvPr/>
        </p:nvGraphicFramePr>
        <p:xfrm>
          <a:off x="6324480" y="3048120"/>
          <a:ext cx="6098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048120"/>
                    <a:ext cx="609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4"/>
          <p:cNvGraphicFramePr/>
          <p:nvPr/>
        </p:nvGraphicFramePr>
        <p:xfrm>
          <a:off x="5334120" y="4178160"/>
          <a:ext cx="60948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78160"/>
                    <a:ext cx="609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406440" y="228600"/>
            <a:ext cx="820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ýpočet odmocni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06440" y="228600"/>
            <a:ext cx="835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ýpočet odmocni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04920" y="1847880"/>
            <a:ext cx="86868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Vstup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  double x;  x &gt;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0;         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podná hranica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očiatočného interval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x + 1;     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orná hranica počiatočného interval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eps = 1.0e-10; /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želaná relatívna presnos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 / 2;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 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 /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&gt; ep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if 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&gt;= x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= (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 / 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// Výstup: 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zorova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teračný príkaz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tohto program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x &gt;= 0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a vykoná aspoň raz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Bolo by lepš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dmienku testovať na konci cykl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13:59:44Z</dcterms:created>
  <dc:creator>mga121</dc:creator>
  <dc:description/>
  <dc:language>en-US</dc:language>
  <cp:lastModifiedBy>Julius Siska</cp:lastModifiedBy>
  <dcterms:modified xsi:type="dcterms:W3CDTF">2023-03-01T10:14:46Z</dcterms:modified>
  <cp:revision>218</cp:revision>
  <dc:subject/>
  <dc:title>Programmiertechnik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est.html</vt:lpwstr>
  </property>
  <property fmtid="{D5CDD505-2E9C-101B-9397-08002B2CF9AE}" pid="9" name="LinkColor">
    <vt:r8>16711782</vt:r8>
  </property>
  <property fmtid="{D5CDD505-2E9C-101B-9397-08002B2CF9AE}" pid="10" name="MailAddress">
    <vt:lpwstr>Kindler@xxx.de</vt:lpwstr>
  </property>
  <property fmtid="{D5CDD505-2E9C-101B-9397-08002B2CF9AE}" pid="11" name="NavBtnPos">
    <vt:r8>1</vt:r8>
  </property>
  <property fmtid="{D5CDD505-2E9C-101B-9397-08002B2CF9AE}" pid="12" name="OutputDir">
    <vt:lpwstr>C:\WINNT\Profiles\mga121\Eigene Dateien\HTML</vt:lpwstr>
  </property>
  <property fmtid="{D5CDD505-2E9C-101B-9397-08002B2CF9AE}" pid="13" name="ScreenSize">
    <vt:r8>2</vt:r8>
  </property>
  <property fmtid="{D5CDD505-2E9C-101B-9397-08002B2CF9AE}" pid="14" name="ScreenUsage">
    <vt:r8>1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