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AutoShape 1"/>
          <p:cNvSpPr/>
          <p:nvPr/>
        </p:nvSpPr>
        <p:spPr>
          <a:xfrm>
            <a:off x="0" y="0"/>
            <a:ext cx="6746760" cy="991404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914040"/>
              <a:gd name="textAreaBottom" fmla="*/ 9913680 h 9914040"/>
            </a:gdLst>
            <a:ahLst/>
            <a:rect l="textAreaLeft" t="textAreaTop" r="textAreaRight" b="textAreaBottom"/>
            <a:pathLst>
              <a:path w="21600" h="31740">
                <a:moveTo>
                  <a:pt x="5" y="0"/>
                </a:moveTo>
                <a:arcTo wR="5" hR="5" stAng="16200000" swAng="-5400000"/>
                <a:lnTo>
                  <a:pt x="0" y="31735"/>
                </a:lnTo>
                <a:arcTo wR="5" hR="5" stAng="10800000" swAng="-5400000"/>
                <a:lnTo>
                  <a:pt x="21595" y="31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2284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94960" y="742680"/>
            <a:ext cx="495612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532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941832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22840" y="941832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570F22-0894-4596-B11F-A1CA54B8705C}" type="slidenum">
              <a:rPr b="1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C61C3F-FF25-4311-B5B3-7898506F5E93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005BDB-0AD5-46A0-8C58-BBB8546AF117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C9FD36-8739-4533-8B90-C5CB6ACA076B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4E9CD2-2ABB-4DAD-9823-74163271E736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59B6-4E85-4874-A230-3F97EBA5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6762-EAC6-4A6A-98A1-F16FC739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C74C-0A99-4792-B33C-9C502796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60E7-2FA3-4272-835F-5E6BAFE5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0BE1-0C31-4174-9BE9-9EEB4B49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7770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14DB-9515-45D9-A652-9CDA4B14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1E0C-3771-435B-A35E-B7649D80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604D-1184-451D-AC1F-BAAD70A0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C73E-FE11-4946-9AFC-98FD528E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9FEF-86D4-4494-BAAE-F4424A04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A745-A421-42D8-BC32-7335CF904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D3FF-B6C0-4F78-9A08-72734650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7770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19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2133720" y="3886200"/>
            <a:ext cx="63990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Kliknúť pre vloženie tex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711000" y="6229440"/>
            <a:ext cx="19285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49640" y="6229440"/>
            <a:ext cx="28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440"/>
            <a:ext cx="1827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8A9C43F-BD3F-4560-96CC-DD40A131CFDB}" type="slidenum">
              <a:rPr b="0" lang="en-US" sz="1400" spc="-1" strike="noStrike">
                <a:solidFill>
                  <a:srgbClr val="5e574e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 Black"/>
              </a:rPr>
              <a:t>5. Koment</a:t>
            </a:r>
            <a:r>
              <a:rPr b="1" lang="sk-SK" sz="4800" spc="-1" strike="noStrike">
                <a:solidFill>
                  <a:srgbClr val="000000"/>
                </a:solidFill>
                <a:latin typeface="Arial Black"/>
              </a:rPr>
              <a:t>ár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om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entár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ú pre dokumentáciu programu KĽÚČOV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om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entáre v skutočnosti nepatria k programu, sú ignorované počítač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Rôzne varianty komentáro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Jednoriadkové komentá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po dvoch lomítkach bude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ext 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do konca riad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// ignor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ovaný,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napr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nt i; // 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tu deklaruje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 = 0; // 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tu inicializuje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Viacriadkové komentá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/* 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Dlhšie komentáre sa píšu medzi kombináciu lomítko-hviezdička na začiatku komentáru a hviezdička lomítko na konci komentáru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Dokumentác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Kom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entáre s dvojitou hviezdičkou sú automaticky použité na vytvorenie dokumentácie. Taktiež je možné zadať špeciálne informácie k programu, nap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@author The Aut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4T13:59:44Z</dcterms:created>
  <dc:creator>mga121</dc:creator>
  <dc:description/>
  <dc:language>en-US</dc:language>
  <cp:lastModifiedBy>Gabriel Juhás</cp:lastModifiedBy>
  <dcterms:modified xsi:type="dcterms:W3CDTF">2020-05-03T15:01:17Z</dcterms:modified>
  <cp:revision>148</cp:revision>
  <dc:subject/>
  <dc:title>Programmiertechnik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Test.html</vt:lpwstr>
  </property>
  <property fmtid="{D5CDD505-2E9C-101B-9397-08002B2CF9AE}" pid="9" name="LinkColor">
    <vt:r8>16711782</vt:r8>
  </property>
  <property fmtid="{D5CDD505-2E9C-101B-9397-08002B2CF9AE}" pid="10" name="MailAddress">
    <vt:lpwstr>Kindler@xxx.de</vt:lpwstr>
  </property>
  <property fmtid="{D5CDD505-2E9C-101B-9397-08002B2CF9AE}" pid="11" name="NavBtnPos">
    <vt:r8>1</vt:r8>
  </property>
  <property fmtid="{D5CDD505-2E9C-101B-9397-08002B2CF9AE}" pid="12" name="OutputDir">
    <vt:lpwstr>C:\WINNT\Profiles\mga121\Eigene Dateien\HTML</vt:lpwstr>
  </property>
  <property fmtid="{D5CDD505-2E9C-101B-9397-08002B2CF9AE}" pid="13" name="ScreenSize">
    <vt:r8>2</vt:r8>
  </property>
  <property fmtid="{D5CDD505-2E9C-101B-9397-08002B2CF9AE}" pid="14" name="ScreenUsage">
    <vt:r8>1</vt:r8>
  </property>
  <property fmtid="{D5CDD505-2E9C-101B-9397-08002B2CF9AE}" pid="15" name="ShowNotes">
    <vt:bool>0</vt:bool>
  </property>
  <property fmtid="{D5CDD505-2E9C-101B-9397-08002B2CF9AE}" pid="16" name="TemplateType">
    <vt:r8>1</vt:r8>
  </property>
  <property fmtid="{D5CDD505-2E9C-101B-9397-08002B2CF9AE}" pid="17" name="TextColor">
    <vt:r8>0</vt:r8>
  </property>
  <property fmtid="{D5CDD505-2E9C-101B-9397-08002B2CF9AE}" pid="18" name="TransparentButton">
    <vt:r8>0</vt:r8>
  </property>
  <property fmtid="{D5CDD505-2E9C-101B-9397-08002B2CF9AE}" pid="19" name="UseBrowserColor">
    <vt:bool>1</vt:bool>
  </property>
  <property fmtid="{D5CDD505-2E9C-101B-9397-08002B2CF9AE}" pid="20" name="VisitedColor">
    <vt:r8>10040268</vt:r8>
  </property>
</Properties>
</file>