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532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58E588-33B4-443A-A5D8-514AD72BC4F7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072DFA-6FA7-488F-A013-19B3302A3F0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DE122F-0593-407E-96FD-CC0AC617A57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04F40E-63A4-4A12-AB90-39D30C0C864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948D9A-C968-431D-B8EA-09351FF88C6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m:  Sinnvollerweise sollte man davor noch überprüfen, ob betrag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97F612-5BBF-4D67-961D-8B4987ADFAB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C4A522-A41A-4A07-80B2-5F32C667A18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AD49E2-2F9F-49AF-8603-4E8D71762E9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295FA1-2B6D-43AE-BA28-5B07961F814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138EA1-9B0D-4390-BD85-1731232EFCC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342B26-4149-45CD-9EE6-6244BED4547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A5D131-BDA8-45D2-B125-61EAC8D5D44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D6DD52-B810-471B-B418-2387DC25831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E34E2E-99AE-4022-AFFC-B25278C910C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2DACA5-BDA7-4AF5-A4A9-0B934E5843C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372DCA-11C6-4229-A67E-9047174A47E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0DFE14-B97F-4249-B0C1-5FE3FA99614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D9961B-7BD9-4C3A-BD43-4ABA3F48900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216E5A-1ECA-4540-A64A-06141EEF3C5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5C7-C2A1-4DAE-88C9-6BEB791E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D35-2CCF-40D1-8F7C-8B7DC745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C09-D71A-4C8A-8400-8ECA018D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7A3-30E7-4A11-AE7C-0A453AD2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61B-A07E-4BCC-81F6-C5B591D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4DB-6F11-490D-AC41-84067F5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FC0-DBC9-445F-9CFF-6215D57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436-5C46-4A2F-8B54-CF7464D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350-7F88-4180-9F60-B29479D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173-D80C-4DF2-8A96-76DB8FB4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67A-FFCA-479A-8A97-BDABA384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F96-D33D-4683-9B92-E527B37D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9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pre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8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640" y="622944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A013FA-A525-4703-BC89-B0F7B9C1CBA1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6.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az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rne príkaz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stupnosti príkazov a blo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dmienené príkaz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Iteračné príkazy - cyk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í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klad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lad 2: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ákazník chce vybrať zo svojho konta so stavom konta uloženom v premennej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kt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hotovosť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ank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nepovoľuje možnosť ísť do mínus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ako vývojový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429000" y="2209680"/>
            <a:ext cx="2286000" cy="1219320"/>
          </a:xfrm>
          <a:prstGeom prst="flowChartDecision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952560" y="3733920"/>
            <a:ext cx="2970000" cy="1217520"/>
            <a:chOff x="952560" y="3733920"/>
            <a:chExt cx="2970000" cy="1217520"/>
          </a:xfrm>
        </p:grpSpPr>
        <p:sp>
          <p:nvSpPr>
            <p:cNvPr id="121" name="AutoShape 5"/>
            <p:cNvSpPr/>
            <p:nvPr/>
          </p:nvSpPr>
          <p:spPr>
            <a:xfrm>
              <a:off x="952560" y="3733920"/>
              <a:ext cx="2970000" cy="1217520"/>
            </a:xfrm>
            <a:prstGeom prst="flowChartProcess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952560" y="3733920"/>
              <a:ext cx="2894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// 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obnos vyplati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kto = kto – 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obnos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// 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Výstup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: k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7"/>
          <p:cNvGrpSpPr/>
          <p:nvPr/>
        </p:nvGrpSpPr>
        <p:grpSpPr>
          <a:xfrm>
            <a:off x="5295960" y="3733920"/>
            <a:ext cx="2970000" cy="1217520"/>
            <a:chOff x="5295960" y="3733920"/>
            <a:chExt cx="2970000" cy="1217520"/>
          </a:xfrm>
        </p:grpSpPr>
        <p:sp>
          <p:nvSpPr>
            <p:cNvPr id="124" name="AutoShape 8"/>
            <p:cNvSpPr/>
            <p:nvPr/>
          </p:nvSpPr>
          <p:spPr>
            <a:xfrm>
              <a:off x="5295960" y="3733920"/>
              <a:ext cx="2970000" cy="1217520"/>
            </a:xfrm>
            <a:prstGeom prst="flowChartProcess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5295960" y="3733920"/>
              <a:ext cx="2894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// 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Chybové hlásen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Line 10"/>
          <p:cNvSpPr/>
          <p:nvPr/>
        </p:nvSpPr>
        <p:spPr>
          <a:xfrm flipH="1">
            <a:off x="2436840" y="2819520"/>
            <a:ext cx="993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438280" y="2819520"/>
            <a:ext cx="1800" cy="9144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5713560" y="2811600"/>
            <a:ext cx="1069920" cy="79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6781680" y="2819520"/>
            <a:ext cx="1800" cy="9144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4572000" y="1752480"/>
            <a:ext cx="144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4572000" y="5638680"/>
            <a:ext cx="144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6"/>
          <p:cNvSpPr/>
          <p:nvPr/>
        </p:nvSpPr>
        <p:spPr>
          <a:xfrm flipV="1">
            <a:off x="2438280" y="4951440"/>
            <a:ext cx="1800" cy="6890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7"/>
          <p:cNvSpPr/>
          <p:nvPr/>
        </p:nvSpPr>
        <p:spPr>
          <a:xfrm flipV="1">
            <a:off x="6781680" y="4951440"/>
            <a:ext cx="1800" cy="6890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 flipH="1">
            <a:off x="2436840" y="5638680"/>
            <a:ext cx="43466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543480" y="2635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kto &gt;=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ob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2666880" y="24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791320" y="24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n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2"/>
          <p:cNvSpPr/>
          <p:nvPr/>
        </p:nvSpPr>
        <p:spPr>
          <a:xfrm>
            <a:off x="1219320" y="1600200"/>
            <a:ext cx="1752480" cy="838080"/>
          </a:xfrm>
          <a:prstGeom prst="wedgeRoundRectCallout">
            <a:avLst>
              <a:gd name="adj1" fmla="val 124819"/>
              <a:gd name="adj2" fmla="val 69319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mienk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228600" y="2590920"/>
            <a:ext cx="1752480" cy="838080"/>
          </a:xfrm>
          <a:prstGeom prst="wedgeRoundRectCallout">
            <a:avLst>
              <a:gd name="adj1" fmla="val 62680"/>
              <a:gd name="adj2" fmla="val 102652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kaz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to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7086600" y="2590920"/>
            <a:ext cx="1752480" cy="838080"/>
          </a:xfrm>
          <a:prstGeom prst="wedgeRoundRectCallout">
            <a:avLst>
              <a:gd name="adj1" fmla="val -45925"/>
              <a:gd name="adj2" fmla="val 108712"/>
              <a:gd name="adj3" fmla="val 16667"/>
            </a:avLst>
          </a:prstGeom>
          <a:solidFill>
            <a:srgbClr val="ffffff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kaz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ina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Ja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 kto &gt;=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plati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 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platenie nie je naprogr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to = kto –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as stav konta j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 “ + kt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ystem.out.println(“Na konte nie je dostatok penazi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.“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2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2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kračovan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ákazník chce aby mu bol vyplatený  aspoň zvyšok, ktorý sa na konte nachádz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 v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Jave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 kto &gt;=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plati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 (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platenie nie je naprog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to = kto –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bno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as stav konta j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 “ + kt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f (kto &gt;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yplati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kt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to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as stav konta j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 “ + kt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System.out.println(“Na konte nie je dostatok penazi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.“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BNF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dmienený príka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192400"/>
                <a:tab algn="l" pos="5237280"/>
                <a:tab algn="l" pos="780588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odmienenyPrik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192400"/>
                <a:tab algn="l" pos="5237280"/>
                <a:tab algn="l" pos="780588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343080"/>
                <a:tab algn="l" pos="2192400"/>
                <a:tab algn="l" pos="5237280"/>
                <a:tab algn="l" pos="780588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odmienenyPrik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 =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“if“ “(“ &lt;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Vyr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 “)“ &lt;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k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“if“ “(“ &lt;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Vyr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 “)“ &lt;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k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 “else“ &lt;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ik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133720" y="5029200"/>
            <a:ext cx="213336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590920" y="4800600"/>
            <a:ext cx="2514600" cy="914400"/>
          </a:xfrm>
          <a:prstGeom prst="wedgeRoundRectCallout">
            <a:avLst>
              <a:gd name="adj1" fmla="val -49935"/>
              <a:gd name="adj2" fmla="val -90277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raz musí byť typu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715000" y="2362320"/>
            <a:ext cx="3048120" cy="1143000"/>
          </a:xfrm>
          <a:prstGeom prst="wedgeRoundRectCallout">
            <a:avLst>
              <a:gd name="adj1" fmla="val -49532"/>
              <a:gd name="adj2" fmla="val 78333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hort-If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inak-prípade je Príkaz ignorovaný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638680" y="4800600"/>
            <a:ext cx="3048120" cy="1219320"/>
          </a:xfrm>
          <a:prstGeom prst="wedgeRoundRectCallout">
            <a:avLst>
              <a:gd name="adj1" fmla="val 16041"/>
              <a:gd name="adj2" fmla="val -95703"/>
              <a:gd name="adj3" fmla="val 1666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Long-If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inak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pade bude vykonaný druhý príkaz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"/>
          <p:cNvGrpSpPr/>
          <p:nvPr/>
        </p:nvGrpSpPr>
        <p:grpSpPr>
          <a:xfrm>
            <a:off x="2971800" y="3733920"/>
            <a:ext cx="3122640" cy="2379240"/>
            <a:chOff x="2971800" y="3733920"/>
            <a:chExt cx="3122640" cy="2379240"/>
          </a:xfrm>
        </p:grpSpPr>
        <p:sp>
          <p:nvSpPr>
            <p:cNvPr id="154" name="Rectangle 2"/>
            <p:cNvSpPr/>
            <p:nvPr/>
          </p:nvSpPr>
          <p:spPr>
            <a:xfrm>
              <a:off x="2971800" y="3733920"/>
              <a:ext cx="3122640" cy="455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3"/>
            <p:cNvGrpSpPr/>
            <p:nvPr/>
          </p:nvGrpSpPr>
          <p:grpSpPr>
            <a:xfrm>
              <a:off x="3276720" y="4495680"/>
              <a:ext cx="2284200" cy="1617480"/>
              <a:chOff x="3276720" y="4495680"/>
              <a:chExt cx="2284200" cy="1617480"/>
            </a:xfrm>
          </p:grpSpPr>
          <p:sp>
            <p:nvSpPr>
              <p:cNvPr id="156" name="Text Box 5"/>
              <p:cNvSpPr/>
              <p:nvPr/>
            </p:nvSpPr>
            <p:spPr>
              <a:xfrm>
                <a:off x="3276720" y="5105520"/>
                <a:ext cx="12175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de-DE" sz="3000" spc="-1" strike="noStrike">
                    <a:solidFill>
                      <a:srgbClr val="000000"/>
                    </a:solidFill>
                    <a:latin typeface="Tahoma"/>
                  </a:rPr>
                  <a:t>long-if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3733920" y="4495680"/>
                <a:ext cx="1827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de-DE" sz="3000" spc="-1" strike="noStrike">
                    <a:solidFill>
                      <a:srgbClr val="000000"/>
                    </a:solidFill>
                    <a:latin typeface="Tahoma"/>
                  </a:rPr>
                  <a:t>short-if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Group 8"/>
          <p:cNvGrpSpPr/>
          <p:nvPr/>
        </p:nvGrpSpPr>
        <p:grpSpPr>
          <a:xfrm>
            <a:off x="609480" y="2133720"/>
            <a:ext cx="7847280" cy="2055600"/>
            <a:chOff x="609480" y="2133720"/>
            <a:chExt cx="7847280" cy="2055600"/>
          </a:xfrm>
        </p:grpSpPr>
        <p:sp>
          <p:nvSpPr>
            <p:cNvPr id="159" name="Rectangle 9"/>
            <p:cNvSpPr/>
            <p:nvPr/>
          </p:nvSpPr>
          <p:spPr>
            <a:xfrm>
              <a:off x="2971800" y="3733920"/>
              <a:ext cx="5256360" cy="455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609480" y="2133720"/>
              <a:ext cx="7847280" cy="152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Rectangle 11"/>
          <p:cNvSpPr/>
          <p:nvPr/>
        </p:nvSpPr>
        <p:spPr>
          <a:xfrm>
            <a:off x="2971800" y="3733920"/>
            <a:ext cx="5257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obl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Jednoznačnosť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od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1) if (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od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2)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rk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1 else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rk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2971800" y="2286000"/>
            <a:ext cx="5256360" cy="1541160"/>
            <a:chOff x="2971800" y="2286000"/>
            <a:chExt cx="5256360" cy="1541160"/>
          </a:xfrm>
        </p:grpSpPr>
        <p:sp>
          <p:nvSpPr>
            <p:cNvPr id="165" name="Freeform 15"/>
            <p:cNvSpPr/>
            <p:nvPr/>
          </p:nvSpPr>
          <p:spPr>
            <a:xfrm>
              <a:off x="2971800" y="3352680"/>
              <a:ext cx="5256360" cy="22716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0" y="0"/>
                  </a:lnTo>
                  <a:lnTo>
                    <a:pt x="3312" y="0"/>
                  </a:lnTo>
                  <a:lnTo>
                    <a:pt x="331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4952880" y="2819520"/>
              <a:ext cx="1217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de-DE" sz="3000" spc="-1" strike="noStrike">
                  <a:solidFill>
                    <a:srgbClr val="000000"/>
                  </a:solidFill>
                  <a:latin typeface="Tahoma"/>
                </a:rPr>
                <a:t>long-if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3581280" y="2286000"/>
              <a:ext cx="1827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de-DE" sz="3000" spc="-1" strike="noStrike">
                  <a:solidFill>
                    <a:srgbClr val="000000"/>
                  </a:solidFill>
                  <a:latin typeface="Tahoma"/>
                </a:rPr>
                <a:t>short-if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3352680" y="4343400"/>
            <a:ext cx="1675080" cy="1293840"/>
            <a:chOff x="3352680" y="4343400"/>
            <a:chExt cx="1675080" cy="1293840"/>
          </a:xfrm>
        </p:grpSpPr>
        <p:sp>
          <p:nvSpPr>
            <p:cNvPr id="169" name="Line 20"/>
            <p:cNvSpPr/>
            <p:nvPr/>
          </p:nvSpPr>
          <p:spPr>
            <a:xfrm flipV="1">
              <a:off x="3352680" y="4343400"/>
              <a:ext cx="1675080" cy="129384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H="1" flipV="1">
              <a:off x="3503160" y="4418640"/>
              <a:ext cx="1373400" cy="121788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š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“ EBNF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podmienku neposkytuje vždy jednoznačné riešen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utočná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BNF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zri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pr. 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kum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ci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 Ja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skytuje vždy jednoznačné riešen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;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áto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BNF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 ale pomerne komplikovaná a ťažko čitateľn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miesto toh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obl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Jednoznačnosť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avidlo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dlhom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If-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az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long-if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ikdy nie je ako prvý príkaz vnorený krátky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f-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a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short-if)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Lepš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amedziť nedorozumeniu používaním zátvoriek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blok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f (pod1) </a:t>
            </a:r>
            <a:r>
              <a:rPr b="1" lang="de-DE" sz="2400" spc="-1" strike="noStrike">
                <a:solidFill>
                  <a:srgbClr val="ffcc00"/>
                </a:solidFill>
                <a:latin typeface="Courier New"/>
              </a:rPr>
              <a:t>{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if (pod2) Pr1 else Pr2 </a:t>
            </a:r>
            <a:r>
              <a:rPr b="1" lang="de-DE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f (pod1) { if (pod2) Pr1 } else P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6.1 Element</a:t>
            </a:r>
            <a:r>
              <a:rPr b="0" lang="sk-SK" sz="3600" spc="-1" strike="noStrike">
                <a:solidFill>
                  <a:srgbClr val="000000"/>
                </a:solidFill>
                <a:latin typeface="Arial Black"/>
              </a:rPr>
              <a:t>árne príkaz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kla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ci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rade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BNF: Element</a:t>
            </a:r>
            <a:r>
              <a:rPr b="0" lang="sk-SK" sz="3200" spc="-1" strike="noStrike">
                <a:solidFill>
                  <a:srgbClr val="000000"/>
                </a:solidFill>
                <a:latin typeface="Arial Black"/>
              </a:rPr>
              <a:t>árne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 Black"/>
              </a:rPr>
              <a:t>príkaz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481120"/>
                <a:tab algn="l" pos="3808440"/>
                <a:tab algn="l" pos="504972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Deklar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áci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iradeni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481120"/>
                <a:tab algn="l" pos="3808440"/>
                <a:tab algn="l" pos="504972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skôr viac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481120"/>
                <a:tab algn="l" pos="3808440"/>
                <a:tab algn="l" pos="504972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Deklar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áci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zri stranu 16, Fólie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481120"/>
                <a:tab algn="l" pos="3808440"/>
                <a:tab algn="l" pos="504972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Priradeni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“=„ 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“;“ 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2481120"/>
                <a:tab algn="l" pos="3808440"/>
                <a:tab algn="l" pos="504972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skôr viac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6.2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Bloky príkazo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y sú v podstate postupnosti príkaz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stupnosťPríkazov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stupnosťPríkazov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azy je možné spájať do blok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Bl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int h1 =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 = i -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2 =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3 = h1 * h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4 =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 = h3 / h4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“ + 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4191120" y="1523880"/>
            <a:ext cx="4646520" cy="4307760"/>
            <a:chOff x="4191120" y="1523880"/>
            <a:chExt cx="4646520" cy="4307760"/>
          </a:xfrm>
        </p:grpSpPr>
        <p:sp>
          <p:nvSpPr>
            <p:cNvPr id="100" name="AutoShape 4"/>
            <p:cNvSpPr/>
            <p:nvPr/>
          </p:nvSpPr>
          <p:spPr>
            <a:xfrm>
              <a:off x="4191120" y="2362320"/>
              <a:ext cx="531720" cy="3046320"/>
            </a:xfrm>
            <a:custGeom>
              <a:avLst/>
              <a:gdLst>
                <a:gd name="textAreaLeft" fmla="*/ 0 w 531720"/>
                <a:gd name="textAreaRight" fmla="*/ 191880 w 531720"/>
                <a:gd name="textAreaTop" fmla="*/ 79200 h 3046320"/>
                <a:gd name="textAreaBottom" fmla="*/ 296712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>
              <a:off x="5029200" y="1523880"/>
              <a:ext cx="3808440" cy="430776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Blok </a:t>
              </a: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je v Jave rovnako ako v C označený zloženými zátvorkami</a:t>
              </a: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remenná, ktorá je deklarovaná v bloku, môže byť použitá iba v danom bloku, je platná iba v rámci bloku</a:t>
              </a: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. </a:t>
              </a:r>
              <a:r>
                <a:rPr b="0" lang="sk-SK" sz="2400" spc="-1" strike="noStrike">
                  <a:solidFill>
                    <a:srgbClr val="000000"/>
                  </a:solidFill>
                  <a:latin typeface="Tahoma"/>
                </a:rPr>
                <a:t>Pred a za blokom je nedeklarovaná a teda neznáma</a:t>
              </a: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: Bl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 int i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191120" y="1905120"/>
            <a:ext cx="3809880" cy="44830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menná môže byť v bloku deklarovaná iba jedenkrát v bloku. V jazyku C môže byť deklarová v bloku aj v podbloku, pričom premenná v podbloku prekrýva premennú v nadblok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V Jave nie je povolené deklarovať premennú v nadbloku aj podbl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304920" y="2743200"/>
            <a:ext cx="2512800" cy="1827360"/>
            <a:chOff x="304920" y="2743200"/>
            <a:chExt cx="2512800" cy="1827360"/>
          </a:xfrm>
        </p:grpSpPr>
        <p:sp>
          <p:nvSpPr>
            <p:cNvPr id="106" name="Line 5"/>
            <p:cNvSpPr/>
            <p:nvPr/>
          </p:nvSpPr>
          <p:spPr>
            <a:xfrm>
              <a:off x="380880" y="2743200"/>
              <a:ext cx="2436840" cy="182736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 flipV="1">
              <a:off x="304920" y="2893680"/>
              <a:ext cx="2512800" cy="160164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BNF: Bl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4284720"/>
                <a:tab algn="l" pos="513540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rík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...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o doteraz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Blok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4284720"/>
                <a:tab algn="l" pos="513540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skôr via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4284720"/>
                <a:tab algn="l" pos="513540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4284720"/>
                <a:tab algn="l" pos="513540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Blok&gt; =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“{“ [ 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PostupnosťPríkazov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] “}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2668680"/>
                <a:tab algn="l" pos="4284720"/>
                <a:tab algn="l" pos="513540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6.3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Riadiace štruktú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6.3.1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odmienené príkaz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1: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áš program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číta pre prirodzené čísla zmysluplný výsledok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k je zadané záporné číslo, mohol by program užívateľa informovať, že počíta sumu iba pre nezáporné čísl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 Black"/>
              </a:rPr>
              <a:t>Príklad</a:t>
            </a:r>
            <a:r>
              <a:rPr b="0" lang="de-DE" sz="3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38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0" lang="de-DE" sz="3800" spc="-1" strike="noStrike">
                <a:solidFill>
                  <a:srgbClr val="000000"/>
                </a:solidFill>
                <a:latin typeface="Arial Black"/>
              </a:rPr>
              <a:t> Jav</a:t>
            </a:r>
            <a:r>
              <a:rPr b="0" lang="sk-SK" sz="3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class Sum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int 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 * ( n + 1) / 2;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System.out.println(„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: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3481560"/>
            <a:ext cx="79250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n &gt;= 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Pro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m ziadne zaporne cisla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!“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0-05-03T21:29:10Z</dcterms:modified>
  <cp:revision>209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