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468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0000" y="4708080"/>
            <a:ext cx="4943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183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3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7AC344-222A-404F-B6F0-68FBBD691E34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A49EB8-FFC1-484B-BA78-6A9E9F84E81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E446B2-136C-42E7-A1B8-B77968ACDC5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2E0C45-7D30-4729-9AF4-1B40723127C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F44680-7402-4EAD-804D-22D79788163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9079C7-E3E4-4E29-895F-30F2DC34A38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D62B17-A09E-4056-9C84-E451F20197F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D1668A-2978-4F18-98F5-F3177D21517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EDA927-0D3A-4B6C-9950-F580D540C2D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A921F1-FD26-472F-863D-3641BF1CD17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E0D619-9543-4683-8024-6BE09DE7295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A9B6DE-5C2E-464E-B70E-E5A638EE56A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2AEE57-45CD-4C5C-99B6-3651AC77AC9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116BA1-448C-4657-A15F-26049CC765B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C8F889-8A34-4F81-BA37-822E76C07CC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F83B9E-92FD-462F-AD2A-E46BB6563F4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164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572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164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572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1AC-2098-4D5E-AE3E-D0D3063E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43B-1D0B-49FD-90C2-BC72123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50A-487E-4204-A1B5-A3A54E71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33F-F3D2-4A37-AF63-6B4BBEE1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E0D-D7A8-424C-A732-3027385B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EB5-B044-41F7-88DB-BE2DADFF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ADD-58D8-4904-B37D-40EE6A1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C10-ECB3-4CE9-8723-E35A0DCE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A8D-7D3B-4EF5-9621-5EF39F2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46E-40F3-44EB-BA61-661F187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D36-83C6-445A-AA20-194D1421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164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572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164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572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34C-B75B-47FF-AF12-C865086D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18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133720" y="3886200"/>
            <a:ext cx="63975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liknúť na vloženie tex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7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280" y="6229440"/>
            <a:ext cx="2841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59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B1BCA6-2369-4C71-89CC-77F054CB0A3C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8.8 Reku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828800" y="2286000"/>
            <a:ext cx="4263840" cy="3197160"/>
            <a:chOff x="1828800" y="2286000"/>
            <a:chExt cx="4263840" cy="3197160"/>
          </a:xfrm>
        </p:grpSpPr>
        <p:sp>
          <p:nvSpPr>
            <p:cNvPr id="93" name="Oval 4"/>
            <p:cNvSpPr/>
            <p:nvPr/>
          </p:nvSpPr>
          <p:spPr>
            <a:xfrm>
              <a:off x="1985760" y="2590920"/>
              <a:ext cx="605520" cy="60624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2290320" y="3200400"/>
              <a:ext cx="0" cy="10638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6"/>
            <p:cNvSpPr/>
            <p:nvPr/>
          </p:nvSpPr>
          <p:spPr>
            <a:xfrm flipH="1">
              <a:off x="1828800" y="4229280"/>
              <a:ext cx="460080" cy="1253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2290320" y="4267080"/>
              <a:ext cx="453960" cy="12160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8"/>
            <p:cNvSpPr/>
            <p:nvPr/>
          </p:nvSpPr>
          <p:spPr>
            <a:xfrm flipV="1">
              <a:off x="2290320" y="2663640"/>
              <a:ext cx="758160" cy="8413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2290320" y="3505320"/>
              <a:ext cx="758160" cy="6062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3051720" y="2286000"/>
              <a:ext cx="3040920" cy="228276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3276360" y="2590920"/>
            <a:ext cx="2435040" cy="1825560"/>
            <a:chOff x="3276360" y="2590920"/>
            <a:chExt cx="2435040" cy="1825560"/>
          </a:xfrm>
        </p:grpSpPr>
        <p:sp>
          <p:nvSpPr>
            <p:cNvPr id="101" name="Oval 12"/>
            <p:cNvSpPr/>
            <p:nvPr/>
          </p:nvSpPr>
          <p:spPr>
            <a:xfrm>
              <a:off x="3367080" y="2765520"/>
              <a:ext cx="345600" cy="3445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>
              <a:off x="3539880" y="3112920"/>
              <a:ext cx="0" cy="60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 flipH="1">
              <a:off x="3276360" y="3700440"/>
              <a:ext cx="263160" cy="714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15"/>
            <p:cNvSpPr/>
            <p:nvPr/>
          </p:nvSpPr>
          <p:spPr>
            <a:xfrm>
              <a:off x="3539880" y="3722760"/>
              <a:ext cx="257040" cy="693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16"/>
            <p:cNvSpPr/>
            <p:nvPr/>
          </p:nvSpPr>
          <p:spPr>
            <a:xfrm flipV="1">
              <a:off x="3539880" y="2804760"/>
              <a:ext cx="431640" cy="48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17"/>
            <p:cNvSpPr/>
            <p:nvPr/>
          </p:nvSpPr>
          <p:spPr>
            <a:xfrm>
              <a:off x="3539880" y="3287880"/>
              <a:ext cx="431640" cy="344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3976200" y="2590920"/>
              <a:ext cx="1735200" cy="13032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4114800" y="2743200"/>
            <a:ext cx="1292040" cy="1076400"/>
            <a:chOff x="4114800" y="2743200"/>
            <a:chExt cx="1292040" cy="1076400"/>
          </a:xfrm>
        </p:grpSpPr>
        <p:sp>
          <p:nvSpPr>
            <p:cNvPr id="109" name="Oval 20"/>
            <p:cNvSpPr/>
            <p:nvPr/>
          </p:nvSpPr>
          <p:spPr>
            <a:xfrm>
              <a:off x="4163760" y="2846520"/>
              <a:ext cx="182520" cy="20160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21"/>
            <p:cNvSpPr/>
            <p:nvPr/>
          </p:nvSpPr>
          <p:spPr>
            <a:xfrm>
              <a:off x="4255920" y="3051000"/>
              <a:ext cx="0" cy="35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 flipH="1">
              <a:off x="4114800" y="3398760"/>
              <a:ext cx="141120" cy="420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4255920" y="3411360"/>
              <a:ext cx="135000" cy="408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24"/>
            <p:cNvSpPr/>
            <p:nvPr/>
          </p:nvSpPr>
          <p:spPr>
            <a:xfrm flipV="1">
              <a:off x="4255920" y="2868480"/>
              <a:ext cx="228600" cy="285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25"/>
            <p:cNvSpPr/>
            <p:nvPr/>
          </p:nvSpPr>
          <p:spPr>
            <a:xfrm>
              <a:off x="4255920" y="3154320"/>
              <a:ext cx="228600" cy="20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4485960" y="2743200"/>
              <a:ext cx="920880" cy="7682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584240" y="2844720"/>
            <a:ext cx="682560" cy="568440"/>
            <a:chOff x="4584240" y="2844720"/>
            <a:chExt cx="682560" cy="568440"/>
          </a:xfrm>
        </p:grpSpPr>
        <p:sp>
          <p:nvSpPr>
            <p:cNvPr id="117" name="Oval 28"/>
            <p:cNvSpPr/>
            <p:nvPr/>
          </p:nvSpPr>
          <p:spPr>
            <a:xfrm>
              <a:off x="4611240" y="2898720"/>
              <a:ext cx="94680" cy="10476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4660560" y="3006720"/>
              <a:ext cx="0" cy="187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 flipH="1">
              <a:off x="4584240" y="3191040"/>
              <a:ext cx="75960" cy="2221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31"/>
            <p:cNvSpPr/>
            <p:nvPr/>
          </p:nvSpPr>
          <p:spPr>
            <a:xfrm>
              <a:off x="4660560" y="3197160"/>
              <a:ext cx="69480" cy="212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2"/>
            <p:cNvSpPr/>
            <p:nvPr/>
          </p:nvSpPr>
          <p:spPr>
            <a:xfrm flipV="1">
              <a:off x="4660560" y="2908080"/>
              <a:ext cx="118440" cy="152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33"/>
            <p:cNvSpPr/>
            <p:nvPr/>
          </p:nvSpPr>
          <p:spPr>
            <a:xfrm>
              <a:off x="4660560" y="3060720"/>
              <a:ext cx="118440" cy="104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4782240" y="2844720"/>
              <a:ext cx="484560" cy="40320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5"/>
          <p:cNvGrpSpPr/>
          <p:nvPr/>
        </p:nvGrpSpPr>
        <p:grpSpPr>
          <a:xfrm>
            <a:off x="4826160" y="2895480"/>
            <a:ext cx="372600" cy="309600"/>
            <a:chOff x="4826160" y="2895480"/>
            <a:chExt cx="372600" cy="309600"/>
          </a:xfrm>
        </p:grpSpPr>
        <p:sp>
          <p:nvSpPr>
            <p:cNvPr id="125" name="Oval 36"/>
            <p:cNvSpPr/>
            <p:nvPr/>
          </p:nvSpPr>
          <p:spPr>
            <a:xfrm>
              <a:off x="4841640" y="2925720"/>
              <a:ext cx="50400" cy="55440"/>
            </a:xfrm>
            <a:prstGeom prst="ellipse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37"/>
            <p:cNvSpPr/>
            <p:nvPr/>
          </p:nvSpPr>
          <p:spPr>
            <a:xfrm>
              <a:off x="4868640" y="2984400"/>
              <a:ext cx="0" cy="101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 flipH="1">
              <a:off x="4826160" y="3086280"/>
              <a:ext cx="42480" cy="118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39"/>
            <p:cNvSpPr/>
            <p:nvPr/>
          </p:nvSpPr>
          <p:spPr>
            <a:xfrm>
              <a:off x="4868640" y="3089160"/>
              <a:ext cx="36360" cy="115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40"/>
            <p:cNvSpPr/>
            <p:nvPr/>
          </p:nvSpPr>
          <p:spPr>
            <a:xfrm flipV="1">
              <a:off x="4868640" y="2930400"/>
              <a:ext cx="6336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41"/>
            <p:cNvSpPr/>
            <p:nvPr/>
          </p:nvSpPr>
          <p:spPr>
            <a:xfrm>
              <a:off x="4868640" y="3014640"/>
              <a:ext cx="63360" cy="55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4936680" y="2895480"/>
              <a:ext cx="262080" cy="2206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Group 43"/>
          <p:cNvGrpSpPr/>
          <p:nvPr/>
        </p:nvGrpSpPr>
        <p:grpSpPr>
          <a:xfrm>
            <a:off x="4971960" y="2938320"/>
            <a:ext cx="183960" cy="152640"/>
            <a:chOff x="4971960" y="2938320"/>
            <a:chExt cx="183960" cy="152640"/>
          </a:xfrm>
        </p:grpSpPr>
        <p:sp>
          <p:nvSpPr>
            <p:cNvPr id="133" name="Oval 44"/>
            <p:cNvSpPr/>
            <p:nvPr/>
          </p:nvSpPr>
          <p:spPr>
            <a:xfrm>
              <a:off x="4981320" y="2952720"/>
              <a:ext cx="23760" cy="2700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45"/>
            <p:cNvSpPr/>
            <p:nvPr/>
          </p:nvSpPr>
          <p:spPr>
            <a:xfrm>
              <a:off x="4994280" y="2982960"/>
              <a:ext cx="0" cy="4932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46"/>
            <p:cNvSpPr/>
            <p:nvPr/>
          </p:nvSpPr>
          <p:spPr>
            <a:xfrm flipH="1">
              <a:off x="4971960" y="3032280"/>
              <a:ext cx="22320" cy="5868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47"/>
            <p:cNvSpPr/>
            <p:nvPr/>
          </p:nvSpPr>
          <p:spPr>
            <a:xfrm>
              <a:off x="4994280" y="3033720"/>
              <a:ext cx="15840" cy="5544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48"/>
            <p:cNvSpPr/>
            <p:nvPr/>
          </p:nvSpPr>
          <p:spPr>
            <a:xfrm flipV="1">
              <a:off x="4994280" y="2950920"/>
              <a:ext cx="29880" cy="4428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49"/>
            <p:cNvSpPr/>
            <p:nvPr/>
          </p:nvSpPr>
          <p:spPr>
            <a:xfrm>
              <a:off x="4994280" y="2997360"/>
              <a:ext cx="29880" cy="2700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5027400" y="2938320"/>
              <a:ext cx="128520" cy="106560"/>
            </a:xfrm>
            <a:prstGeom prst="rect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51"/>
          <p:cNvGrpSpPr/>
          <p:nvPr/>
        </p:nvGrpSpPr>
        <p:grpSpPr>
          <a:xfrm>
            <a:off x="5048280" y="2957400"/>
            <a:ext cx="86760" cy="71640"/>
            <a:chOff x="5048280" y="2957400"/>
            <a:chExt cx="86760" cy="71640"/>
          </a:xfrm>
        </p:grpSpPr>
        <p:sp>
          <p:nvSpPr>
            <p:cNvPr id="141" name="Oval 52"/>
            <p:cNvSpPr/>
            <p:nvPr/>
          </p:nvSpPr>
          <p:spPr>
            <a:xfrm>
              <a:off x="5055840" y="2963880"/>
              <a:ext cx="9360" cy="11160"/>
            </a:xfrm>
            <a:prstGeom prst="ellipse">
              <a:avLst/>
            </a:prstGeom>
            <a:noFill/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3"/>
            <p:cNvSpPr/>
            <p:nvPr/>
          </p:nvSpPr>
          <p:spPr>
            <a:xfrm>
              <a:off x="5062320" y="2978280"/>
              <a:ext cx="0" cy="2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54"/>
            <p:cNvSpPr/>
            <p:nvPr/>
          </p:nvSpPr>
          <p:spPr>
            <a:xfrm flipH="1">
              <a:off x="5048280" y="3003480"/>
              <a:ext cx="12240" cy="255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55"/>
            <p:cNvSpPr/>
            <p:nvPr/>
          </p:nvSpPr>
          <p:spPr>
            <a:xfrm>
              <a:off x="5062320" y="3003480"/>
              <a:ext cx="5760" cy="255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56"/>
            <p:cNvSpPr/>
            <p:nvPr/>
          </p:nvSpPr>
          <p:spPr>
            <a:xfrm flipV="1">
              <a:off x="5062320" y="2963880"/>
              <a:ext cx="12240" cy="2232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57"/>
            <p:cNvSpPr/>
            <p:nvPr/>
          </p:nvSpPr>
          <p:spPr>
            <a:xfrm>
              <a:off x="5062320" y="2986200"/>
              <a:ext cx="12240" cy="111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5076000" y="2957400"/>
              <a:ext cx="59040" cy="50760"/>
            </a:xfrm>
            <a:prstGeom prst="rect">
              <a:avLst/>
            </a:prstGeom>
            <a:solidFill>
              <a:srgbClr val="c0c0c0"/>
            </a:solidFill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Reku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ívne funkc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unk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ia sa nazýva rekurzívn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 sama priamo alebo nepriamo (prostredníctvom volania iných funckií) je volaná vo svojej definícii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asto je možné rekurzívnymi funkciami fomulovať elegantné riešenie problém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vyčajne je rekurzívna funkcia menej efektívna ako zodpovedajúci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yk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Nepriame vol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boolean even(int 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edpokla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 n &gt;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n == 0)      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 if (n == 1) 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             return odd(n-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boolean odd(int 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edpokla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 n &gt;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n == 0)      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 if (n == 1) 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             return even(n-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rmin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ovan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usíme dávať pozor, aby rekurzívne volanie niekedy problém vyriešil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 definícii rekurzívnej funkcie musí byť preto aspoň jedna alternatíva, ktorá rieši problém priamo, teda bez rekurzívneho volani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erifikácia rekurzívnych funkcií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Induk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ia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 (Prin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í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6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očiatočný krok (PK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káž správnosť pre 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6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Induk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čný predpoklad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 (I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dpokladajme správnosť pre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 – 1 &gt;=  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6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Induk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čný krok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 (I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 podmienkou ak platí IP dokážeme, že výrok platí pre 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ým je dokázaná správnosť pre všetky n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gt;=  0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: </a:t>
            </a:r>
            <a:r>
              <a:rPr b="1" lang="de-DE" sz="4000" spc="-1" strike="noStrike">
                <a:solidFill>
                  <a:srgbClr val="000000"/>
                </a:solidFill>
                <a:latin typeface="Courier New"/>
              </a:rPr>
              <a:t>fak(n) = n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AutoNum type="arabicPeriod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očiatočný krok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javne platí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ak(0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racia 1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= 0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AutoNum type="arabicPeriod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duk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čný predpokla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dpokladajme, že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ak(n-1)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n-1 &gt;= 0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racia hodnot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(n-1)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AutoNum type="arabicPeriod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duk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čný kro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olani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ak(n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&gt; 0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avolá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ak(n-1).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ľa (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latí, že volani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ak(n-1)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ráti naspäť hodnot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(n-1)!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teda hodnotu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h = (n-1)!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olanie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ak(n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raci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eturn n * 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t.j. hodnot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 * (n-1)!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 teda hodnotu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ro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edurálne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rogramo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ýraz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Synt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tický stro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yhodnot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tové typ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menné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Polymorphism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rad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iadiace štruktúr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Blok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lternatív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y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tové štruktúr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l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dresové premenné (Pointery, Smerníky, Ukazovatel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nk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ie a procedúr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Rekur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. Java -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ákladné elementy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9. Z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hrnu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otiv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ôže byť v tele funkcie použité volanie tej istej funkc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n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e to možné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n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e to dokonca zmysluplné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833560" y="3672000"/>
            <a:ext cx="51912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76720" y="2438280"/>
            <a:ext cx="4572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Fak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toriá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class Fak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to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int fak(int 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if (n == 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return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return n * fak(n-1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int n = Integer.parseInt(args[0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„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Faktorial j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 " + fak(n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"/>
          <p:cNvGrpSpPr/>
          <p:nvPr/>
        </p:nvGrpSpPr>
        <p:grpSpPr>
          <a:xfrm>
            <a:off x="4495680" y="3124080"/>
            <a:ext cx="454320" cy="2435400"/>
            <a:chOff x="4495680" y="3124080"/>
            <a:chExt cx="454320" cy="2435400"/>
          </a:xfrm>
        </p:grpSpPr>
        <p:sp>
          <p:nvSpPr>
            <p:cNvPr id="155" name="Rectangle 2"/>
            <p:cNvSpPr/>
            <p:nvPr/>
          </p:nvSpPr>
          <p:spPr>
            <a:xfrm>
              <a:off x="4495680" y="3581280"/>
              <a:ext cx="301680" cy="19782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3"/>
            <p:cNvSpPr/>
            <p:nvPr/>
          </p:nvSpPr>
          <p:spPr>
            <a:xfrm>
              <a:off x="4495680" y="3124080"/>
              <a:ext cx="45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Group 4"/>
          <p:cNvGrpSpPr/>
          <p:nvPr/>
        </p:nvGrpSpPr>
        <p:grpSpPr>
          <a:xfrm>
            <a:off x="5638680" y="3429000"/>
            <a:ext cx="454320" cy="1901880"/>
            <a:chOff x="5638680" y="3429000"/>
            <a:chExt cx="454320" cy="1901880"/>
          </a:xfrm>
        </p:grpSpPr>
        <p:sp>
          <p:nvSpPr>
            <p:cNvPr id="158" name="Rectangle 5"/>
            <p:cNvSpPr/>
            <p:nvPr/>
          </p:nvSpPr>
          <p:spPr>
            <a:xfrm>
              <a:off x="5638680" y="3886200"/>
              <a:ext cx="301680" cy="1444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6"/>
            <p:cNvSpPr/>
            <p:nvPr/>
          </p:nvSpPr>
          <p:spPr>
            <a:xfrm>
              <a:off x="5638680" y="3429000"/>
              <a:ext cx="45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Group 7"/>
          <p:cNvGrpSpPr/>
          <p:nvPr/>
        </p:nvGrpSpPr>
        <p:grpSpPr>
          <a:xfrm>
            <a:off x="6781680" y="3733920"/>
            <a:ext cx="454320" cy="1368360"/>
            <a:chOff x="6781680" y="3733920"/>
            <a:chExt cx="454320" cy="1368360"/>
          </a:xfrm>
        </p:grpSpPr>
        <p:sp>
          <p:nvSpPr>
            <p:cNvPr id="161" name="Rectangle 8"/>
            <p:cNvSpPr/>
            <p:nvPr/>
          </p:nvSpPr>
          <p:spPr>
            <a:xfrm>
              <a:off x="6781680" y="4191120"/>
              <a:ext cx="301680" cy="9111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6781680" y="3733920"/>
              <a:ext cx="45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Fak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torial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533520" y="2514600"/>
            <a:ext cx="2663640" cy="3502080"/>
            <a:chOff x="533520" y="2514600"/>
            <a:chExt cx="2663640" cy="3502080"/>
          </a:xfrm>
        </p:grpSpPr>
        <p:grpSp>
          <p:nvGrpSpPr>
            <p:cNvPr id="165" name="Group 12"/>
            <p:cNvGrpSpPr/>
            <p:nvPr/>
          </p:nvGrpSpPr>
          <p:grpSpPr>
            <a:xfrm>
              <a:off x="533520" y="2514600"/>
              <a:ext cx="2663640" cy="453960"/>
              <a:chOff x="533520" y="2514600"/>
              <a:chExt cx="2663640" cy="453960"/>
            </a:xfrm>
          </p:grpSpPr>
          <p:sp>
            <p:nvSpPr>
              <p:cNvPr id="166" name="Line 13"/>
              <p:cNvSpPr/>
              <p:nvPr/>
            </p:nvSpPr>
            <p:spPr>
              <a:xfrm>
                <a:off x="533520" y="2968560"/>
                <a:ext cx="167328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4"/>
              <p:cNvSpPr/>
              <p:nvPr/>
            </p:nvSpPr>
            <p:spPr>
              <a:xfrm>
                <a:off x="533520" y="2514600"/>
                <a:ext cx="26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main ({ “4“}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15"/>
            <p:cNvGrpSpPr/>
            <p:nvPr/>
          </p:nvGrpSpPr>
          <p:grpSpPr>
            <a:xfrm>
              <a:off x="2057400" y="2514600"/>
              <a:ext cx="682560" cy="3502080"/>
              <a:chOff x="2057400" y="2514600"/>
              <a:chExt cx="682560" cy="3502080"/>
            </a:xfrm>
          </p:grpSpPr>
          <p:sp>
            <p:nvSpPr>
              <p:cNvPr id="169" name="Rectangle 16"/>
              <p:cNvSpPr/>
              <p:nvPr/>
            </p:nvSpPr>
            <p:spPr>
              <a:xfrm>
                <a:off x="2209680" y="2971800"/>
                <a:ext cx="301680" cy="304488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Text Box 17"/>
              <p:cNvSpPr/>
              <p:nvPr/>
            </p:nvSpPr>
            <p:spPr>
              <a:xfrm>
                <a:off x="2057400" y="2514600"/>
                <a:ext cx="682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mai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Rectangle 18"/>
          <p:cNvSpPr/>
          <p:nvPr/>
        </p:nvSpPr>
        <p:spPr>
          <a:xfrm>
            <a:off x="2209680" y="2971800"/>
            <a:ext cx="304920" cy="304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9"/>
          <p:cNvGrpSpPr/>
          <p:nvPr/>
        </p:nvGrpSpPr>
        <p:grpSpPr>
          <a:xfrm>
            <a:off x="2514600" y="2819520"/>
            <a:ext cx="987480" cy="453960"/>
            <a:chOff x="2514600" y="2819520"/>
            <a:chExt cx="987480" cy="453960"/>
          </a:xfrm>
        </p:grpSpPr>
        <p:sp>
          <p:nvSpPr>
            <p:cNvPr id="173" name="Line 20"/>
            <p:cNvSpPr/>
            <p:nvPr/>
          </p:nvSpPr>
          <p:spPr>
            <a:xfrm>
              <a:off x="2514600" y="3273480"/>
              <a:ext cx="83520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90920" y="2819520"/>
              <a:ext cx="91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22"/>
          <p:cNvGrpSpPr/>
          <p:nvPr/>
        </p:nvGrpSpPr>
        <p:grpSpPr>
          <a:xfrm>
            <a:off x="3352680" y="2819520"/>
            <a:ext cx="454320" cy="2968560"/>
            <a:chOff x="3352680" y="2819520"/>
            <a:chExt cx="454320" cy="2968560"/>
          </a:xfrm>
        </p:grpSpPr>
        <p:sp>
          <p:nvSpPr>
            <p:cNvPr id="176" name="Text Box 23"/>
            <p:cNvSpPr/>
            <p:nvPr/>
          </p:nvSpPr>
          <p:spPr>
            <a:xfrm>
              <a:off x="3352680" y="2819520"/>
              <a:ext cx="45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24"/>
            <p:cNvSpPr/>
            <p:nvPr/>
          </p:nvSpPr>
          <p:spPr>
            <a:xfrm>
              <a:off x="3352680" y="3276720"/>
              <a:ext cx="301680" cy="2511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Rectangle 25"/>
          <p:cNvSpPr/>
          <p:nvPr/>
        </p:nvSpPr>
        <p:spPr>
          <a:xfrm>
            <a:off x="3352680" y="3276720"/>
            <a:ext cx="304920" cy="304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4495680" y="3581280"/>
            <a:ext cx="304920" cy="304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5638680" y="3886200"/>
            <a:ext cx="304920" cy="304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6781680" y="4191120"/>
            <a:ext cx="304920" cy="304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29"/>
          <p:cNvGrpSpPr/>
          <p:nvPr/>
        </p:nvGrpSpPr>
        <p:grpSpPr>
          <a:xfrm>
            <a:off x="3657600" y="3124080"/>
            <a:ext cx="987480" cy="454320"/>
            <a:chOff x="3657600" y="3124080"/>
            <a:chExt cx="987480" cy="454320"/>
          </a:xfrm>
        </p:grpSpPr>
        <p:sp>
          <p:nvSpPr>
            <p:cNvPr id="183" name="Line 30"/>
            <p:cNvSpPr/>
            <p:nvPr/>
          </p:nvSpPr>
          <p:spPr>
            <a:xfrm>
              <a:off x="3657600" y="3578400"/>
              <a:ext cx="83520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31"/>
            <p:cNvSpPr/>
            <p:nvPr/>
          </p:nvSpPr>
          <p:spPr>
            <a:xfrm>
              <a:off x="3733920" y="3124080"/>
              <a:ext cx="91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3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Group 32"/>
          <p:cNvGrpSpPr/>
          <p:nvPr/>
        </p:nvGrpSpPr>
        <p:grpSpPr>
          <a:xfrm>
            <a:off x="4800600" y="3429000"/>
            <a:ext cx="987480" cy="453960"/>
            <a:chOff x="4800600" y="3429000"/>
            <a:chExt cx="987480" cy="453960"/>
          </a:xfrm>
        </p:grpSpPr>
        <p:sp>
          <p:nvSpPr>
            <p:cNvPr id="186" name="Line 33"/>
            <p:cNvSpPr/>
            <p:nvPr/>
          </p:nvSpPr>
          <p:spPr>
            <a:xfrm>
              <a:off x="4800600" y="3882960"/>
              <a:ext cx="83520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4876920" y="3429000"/>
              <a:ext cx="91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2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Group 35"/>
          <p:cNvGrpSpPr/>
          <p:nvPr/>
        </p:nvGrpSpPr>
        <p:grpSpPr>
          <a:xfrm>
            <a:off x="5943600" y="3733920"/>
            <a:ext cx="987480" cy="453960"/>
            <a:chOff x="5943600" y="3733920"/>
            <a:chExt cx="987480" cy="453960"/>
          </a:xfrm>
        </p:grpSpPr>
        <p:sp>
          <p:nvSpPr>
            <p:cNvPr id="189" name="Line 36"/>
            <p:cNvSpPr/>
            <p:nvPr/>
          </p:nvSpPr>
          <p:spPr>
            <a:xfrm>
              <a:off x="5943600" y="4187880"/>
              <a:ext cx="83520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37"/>
            <p:cNvSpPr/>
            <p:nvPr/>
          </p:nvSpPr>
          <p:spPr>
            <a:xfrm>
              <a:off x="6019920" y="3733920"/>
              <a:ext cx="91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8"/>
          <p:cNvGrpSpPr/>
          <p:nvPr/>
        </p:nvGrpSpPr>
        <p:grpSpPr>
          <a:xfrm>
            <a:off x="7086600" y="4038480"/>
            <a:ext cx="987480" cy="454320"/>
            <a:chOff x="7086600" y="4038480"/>
            <a:chExt cx="987480" cy="454320"/>
          </a:xfrm>
        </p:grpSpPr>
        <p:sp>
          <p:nvSpPr>
            <p:cNvPr id="192" name="Line 39"/>
            <p:cNvSpPr/>
            <p:nvPr/>
          </p:nvSpPr>
          <p:spPr>
            <a:xfrm>
              <a:off x="7086600" y="4492800"/>
              <a:ext cx="83520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0"/>
            <p:cNvSpPr/>
            <p:nvPr/>
          </p:nvSpPr>
          <p:spPr>
            <a:xfrm>
              <a:off x="7162920" y="4038480"/>
              <a:ext cx="91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41"/>
          <p:cNvGrpSpPr/>
          <p:nvPr/>
        </p:nvGrpSpPr>
        <p:grpSpPr>
          <a:xfrm>
            <a:off x="2514240" y="5410080"/>
            <a:ext cx="1139760" cy="703800"/>
            <a:chOff x="2514240" y="5410080"/>
            <a:chExt cx="1139760" cy="703800"/>
          </a:xfrm>
        </p:grpSpPr>
        <p:sp>
          <p:nvSpPr>
            <p:cNvPr id="195" name="Rectangle 42"/>
            <p:cNvSpPr/>
            <p:nvPr/>
          </p:nvSpPr>
          <p:spPr>
            <a:xfrm>
              <a:off x="3353040" y="5562720"/>
              <a:ext cx="300960" cy="225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43"/>
            <p:cNvSpPr/>
            <p:nvPr/>
          </p:nvSpPr>
          <p:spPr>
            <a:xfrm flipH="1">
              <a:off x="2514240" y="5791320"/>
              <a:ext cx="83844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44"/>
            <p:cNvSpPr/>
            <p:nvPr/>
          </p:nvSpPr>
          <p:spPr>
            <a:xfrm>
              <a:off x="2745720" y="5410080"/>
              <a:ext cx="37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45"/>
          <p:cNvGrpSpPr/>
          <p:nvPr/>
        </p:nvGrpSpPr>
        <p:grpSpPr>
          <a:xfrm>
            <a:off x="533520" y="5791320"/>
            <a:ext cx="1977480" cy="225360"/>
            <a:chOff x="533520" y="5791320"/>
            <a:chExt cx="1977480" cy="225360"/>
          </a:xfrm>
        </p:grpSpPr>
        <p:sp>
          <p:nvSpPr>
            <p:cNvPr id="199" name="Rectangle 46"/>
            <p:cNvSpPr/>
            <p:nvPr/>
          </p:nvSpPr>
          <p:spPr>
            <a:xfrm>
              <a:off x="2209680" y="5791320"/>
              <a:ext cx="301320" cy="2221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47"/>
            <p:cNvSpPr/>
            <p:nvPr/>
          </p:nvSpPr>
          <p:spPr>
            <a:xfrm flipH="1">
              <a:off x="533520" y="6016680"/>
              <a:ext cx="167616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Group 48"/>
          <p:cNvGrpSpPr/>
          <p:nvPr/>
        </p:nvGrpSpPr>
        <p:grpSpPr>
          <a:xfrm>
            <a:off x="3657240" y="5181480"/>
            <a:ext cx="1139760" cy="398880"/>
            <a:chOff x="3657240" y="5181480"/>
            <a:chExt cx="1139760" cy="398880"/>
          </a:xfrm>
        </p:grpSpPr>
        <p:sp>
          <p:nvSpPr>
            <p:cNvPr id="202" name="Rectangle 49"/>
            <p:cNvSpPr/>
            <p:nvPr/>
          </p:nvSpPr>
          <p:spPr>
            <a:xfrm>
              <a:off x="4496040" y="5334120"/>
              <a:ext cx="300960" cy="225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50"/>
            <p:cNvSpPr/>
            <p:nvPr/>
          </p:nvSpPr>
          <p:spPr>
            <a:xfrm flipH="1">
              <a:off x="3657240" y="5562720"/>
              <a:ext cx="83844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3888720" y="518148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Group 52"/>
          <p:cNvGrpSpPr/>
          <p:nvPr/>
        </p:nvGrpSpPr>
        <p:grpSpPr>
          <a:xfrm>
            <a:off x="4800240" y="4952880"/>
            <a:ext cx="1139760" cy="398880"/>
            <a:chOff x="4800240" y="4952880"/>
            <a:chExt cx="1139760" cy="398880"/>
          </a:xfrm>
        </p:grpSpPr>
        <p:sp>
          <p:nvSpPr>
            <p:cNvPr id="206" name="Rectangle 53"/>
            <p:cNvSpPr/>
            <p:nvPr/>
          </p:nvSpPr>
          <p:spPr>
            <a:xfrm>
              <a:off x="5639040" y="5105520"/>
              <a:ext cx="300960" cy="225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>
              <a:off x="4800240" y="5334120"/>
              <a:ext cx="83844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5031720" y="495288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56"/>
          <p:cNvGrpSpPr/>
          <p:nvPr/>
        </p:nvGrpSpPr>
        <p:grpSpPr>
          <a:xfrm>
            <a:off x="5943240" y="4724280"/>
            <a:ext cx="1139760" cy="398880"/>
            <a:chOff x="5943240" y="4724280"/>
            <a:chExt cx="1139760" cy="398880"/>
          </a:xfrm>
        </p:grpSpPr>
        <p:sp>
          <p:nvSpPr>
            <p:cNvPr id="210" name="Rectangle 57"/>
            <p:cNvSpPr/>
            <p:nvPr/>
          </p:nvSpPr>
          <p:spPr>
            <a:xfrm>
              <a:off x="6782040" y="4876920"/>
              <a:ext cx="300960" cy="225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58"/>
            <p:cNvSpPr/>
            <p:nvPr/>
          </p:nvSpPr>
          <p:spPr>
            <a:xfrm flipH="1">
              <a:off x="5943240" y="5105520"/>
              <a:ext cx="83844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Text Box 59"/>
            <p:cNvSpPr/>
            <p:nvPr/>
          </p:nvSpPr>
          <p:spPr>
            <a:xfrm>
              <a:off x="6174720" y="472428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60"/>
          <p:cNvGrpSpPr/>
          <p:nvPr/>
        </p:nvGrpSpPr>
        <p:grpSpPr>
          <a:xfrm>
            <a:off x="7924680" y="4038480"/>
            <a:ext cx="454320" cy="835200"/>
            <a:chOff x="7924680" y="4038480"/>
            <a:chExt cx="454320" cy="835200"/>
          </a:xfrm>
        </p:grpSpPr>
        <p:sp>
          <p:nvSpPr>
            <p:cNvPr id="214" name="Text Box 61"/>
            <p:cNvSpPr/>
            <p:nvPr/>
          </p:nvSpPr>
          <p:spPr>
            <a:xfrm>
              <a:off x="7924680" y="4038480"/>
              <a:ext cx="45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7924680" y="4495680"/>
              <a:ext cx="301680" cy="3780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Group 63"/>
          <p:cNvGrpSpPr/>
          <p:nvPr/>
        </p:nvGrpSpPr>
        <p:grpSpPr>
          <a:xfrm>
            <a:off x="7086240" y="4495680"/>
            <a:ext cx="1139760" cy="398880"/>
            <a:chOff x="7086240" y="4495680"/>
            <a:chExt cx="1139760" cy="398880"/>
          </a:xfrm>
        </p:grpSpPr>
        <p:sp>
          <p:nvSpPr>
            <p:cNvPr id="217" name="Line 64"/>
            <p:cNvSpPr/>
            <p:nvPr/>
          </p:nvSpPr>
          <p:spPr>
            <a:xfrm flipH="1">
              <a:off x="7086240" y="4876920"/>
              <a:ext cx="83844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65"/>
            <p:cNvSpPr/>
            <p:nvPr/>
          </p:nvSpPr>
          <p:spPr>
            <a:xfrm>
              <a:off x="7317720" y="449568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66"/>
            <p:cNvSpPr/>
            <p:nvPr/>
          </p:nvSpPr>
          <p:spPr>
            <a:xfrm>
              <a:off x="7925040" y="4495680"/>
              <a:ext cx="300960" cy="3780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Fak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toriá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incíp r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ku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viesť problém na riešenie rovnakého problému s jednoduchšími dátami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ak(n)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-&gt;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ak(n-1)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b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novať riešenie problémov pre jednoduchšie dáta na získanie riešenia problému s pôvodnými dátami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ak(n)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= n * fak(n-1)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ykonanie r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ku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ívnej funkc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volaní funkcie sa ukladajú hodnoty lokálnych premenných a miesto, z ktorého bola funkcia zavolaná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 ukončení volanej funkcie pokračuje program vo vykonávaní volajúcej funkcie s uloženými hodnotami príkazom nasledujúcim za volajúcim miestom ďal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590920" y="5410080"/>
            <a:ext cx="2819160" cy="38124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4): n = 4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590920" y="5029200"/>
            <a:ext cx="2819160" cy="3808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3): n = 3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590920" y="4648320"/>
            <a:ext cx="2819160" cy="3808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2): n = 2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90920" y="4267080"/>
            <a:ext cx="2819160" cy="38124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1): n = 1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590920" y="3886200"/>
            <a:ext cx="2819160" cy="3808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0): n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šetky hodnoty sú uložené s Stack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po ukončení zavolanej funkcie je starý stav obnovený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590920" y="5410080"/>
            <a:ext cx="2819160" cy="38124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4): n = 4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590920" y="5029200"/>
            <a:ext cx="2819160" cy="3808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3): n = 3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590920" y="4648320"/>
            <a:ext cx="2819160" cy="3808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2): n = 2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590920" y="4267080"/>
            <a:ext cx="2819160" cy="38124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1): n = 1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590920" y="3886200"/>
            <a:ext cx="2819160" cy="3808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0): n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6095880" y="4038480"/>
            <a:ext cx="1901880" cy="378000"/>
            <a:chOff x="6095880" y="4038480"/>
            <a:chExt cx="1901880" cy="378000"/>
          </a:xfrm>
        </p:grpSpPr>
        <p:sp>
          <p:nvSpPr>
            <p:cNvPr id="240" name="Text Box 10"/>
            <p:cNvSpPr/>
            <p:nvPr/>
          </p:nvSpPr>
          <p:spPr>
            <a:xfrm>
              <a:off x="6095880" y="4038480"/>
              <a:ext cx="1901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return 1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Group 11"/>
          <p:cNvGrpSpPr/>
          <p:nvPr/>
        </p:nvGrpSpPr>
        <p:grpSpPr>
          <a:xfrm>
            <a:off x="6095880" y="4425840"/>
            <a:ext cx="1901880" cy="378000"/>
            <a:chOff x="6095880" y="4425840"/>
            <a:chExt cx="1901880" cy="378000"/>
          </a:xfrm>
        </p:grpSpPr>
        <p:sp>
          <p:nvSpPr>
            <p:cNvPr id="242" name="Text Box 13"/>
            <p:cNvSpPr/>
            <p:nvPr/>
          </p:nvSpPr>
          <p:spPr>
            <a:xfrm>
              <a:off x="6095880" y="4425840"/>
              <a:ext cx="1901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return n*h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6095880" y="4807080"/>
            <a:ext cx="1901880" cy="377640"/>
            <a:chOff x="6095880" y="4807080"/>
            <a:chExt cx="1901880" cy="377640"/>
          </a:xfrm>
        </p:grpSpPr>
        <p:sp>
          <p:nvSpPr>
            <p:cNvPr id="244" name="Text Box 16"/>
            <p:cNvSpPr/>
            <p:nvPr/>
          </p:nvSpPr>
          <p:spPr>
            <a:xfrm>
              <a:off x="6095880" y="4807080"/>
              <a:ext cx="1901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return n*h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6095880" y="5187960"/>
            <a:ext cx="1901880" cy="377640"/>
            <a:chOff x="6095880" y="5187960"/>
            <a:chExt cx="1901880" cy="377640"/>
          </a:xfrm>
        </p:grpSpPr>
        <p:sp>
          <p:nvSpPr>
            <p:cNvPr id="246" name="Text Box 19"/>
            <p:cNvSpPr/>
            <p:nvPr/>
          </p:nvSpPr>
          <p:spPr>
            <a:xfrm>
              <a:off x="6095880" y="5187960"/>
              <a:ext cx="1901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return n*h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20"/>
          <p:cNvGrpSpPr/>
          <p:nvPr/>
        </p:nvGrpSpPr>
        <p:grpSpPr>
          <a:xfrm>
            <a:off x="6095880" y="5568840"/>
            <a:ext cx="1901880" cy="378000"/>
            <a:chOff x="6095880" y="5568840"/>
            <a:chExt cx="1901880" cy="378000"/>
          </a:xfrm>
        </p:grpSpPr>
        <p:sp>
          <p:nvSpPr>
            <p:cNvPr id="248" name="Text Box 22"/>
            <p:cNvSpPr/>
            <p:nvPr/>
          </p:nvSpPr>
          <p:spPr>
            <a:xfrm>
              <a:off x="6095880" y="5568840"/>
              <a:ext cx="1901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return n*h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Group 23"/>
          <p:cNvGrpSpPr/>
          <p:nvPr/>
        </p:nvGrpSpPr>
        <p:grpSpPr>
          <a:xfrm>
            <a:off x="2514600" y="3809880"/>
            <a:ext cx="2968560" cy="835200"/>
            <a:chOff x="2514600" y="3809880"/>
            <a:chExt cx="2968560" cy="835200"/>
          </a:xfrm>
        </p:grpSpPr>
        <p:sp>
          <p:nvSpPr>
            <p:cNvPr id="250" name="Text Box 24"/>
            <p:cNvSpPr/>
            <p:nvPr/>
          </p:nvSpPr>
          <p:spPr>
            <a:xfrm>
              <a:off x="2590920" y="4267080"/>
              <a:ext cx="2816280" cy="3780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1): n = 1, h = </a:t>
              </a:r>
              <a:r>
                <a:rPr b="0" lang="de-DE" sz="20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25"/>
            <p:cNvSpPr/>
            <p:nvPr/>
          </p:nvSpPr>
          <p:spPr>
            <a:xfrm>
              <a:off x="2514600" y="3809880"/>
              <a:ext cx="2968560" cy="4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Group 26"/>
          <p:cNvGrpSpPr/>
          <p:nvPr/>
        </p:nvGrpSpPr>
        <p:grpSpPr>
          <a:xfrm>
            <a:off x="2514600" y="4267080"/>
            <a:ext cx="2968560" cy="758880"/>
            <a:chOff x="2514600" y="4267080"/>
            <a:chExt cx="2968560" cy="758880"/>
          </a:xfrm>
        </p:grpSpPr>
        <p:sp>
          <p:nvSpPr>
            <p:cNvPr id="253" name="Text Box 27"/>
            <p:cNvSpPr/>
            <p:nvPr/>
          </p:nvSpPr>
          <p:spPr>
            <a:xfrm>
              <a:off x="2590920" y="4648320"/>
              <a:ext cx="2816280" cy="37764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2): n = 2, h = </a:t>
              </a:r>
              <a:r>
                <a:rPr b="0" lang="de-DE" sz="20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28"/>
            <p:cNvSpPr/>
            <p:nvPr/>
          </p:nvSpPr>
          <p:spPr>
            <a:xfrm>
              <a:off x="2514600" y="4267080"/>
              <a:ext cx="29685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29"/>
          <p:cNvGrpSpPr/>
          <p:nvPr/>
        </p:nvGrpSpPr>
        <p:grpSpPr>
          <a:xfrm>
            <a:off x="2514600" y="4648320"/>
            <a:ext cx="2968560" cy="758880"/>
            <a:chOff x="2514600" y="4648320"/>
            <a:chExt cx="2968560" cy="758880"/>
          </a:xfrm>
        </p:grpSpPr>
        <p:sp>
          <p:nvSpPr>
            <p:cNvPr id="256" name="Text Box 30"/>
            <p:cNvSpPr/>
            <p:nvPr/>
          </p:nvSpPr>
          <p:spPr>
            <a:xfrm>
              <a:off x="2590920" y="5029200"/>
              <a:ext cx="2816280" cy="3780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3): n = 3, h = </a:t>
              </a:r>
              <a:r>
                <a:rPr b="0" lang="de-DE" sz="20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31"/>
            <p:cNvSpPr/>
            <p:nvPr/>
          </p:nvSpPr>
          <p:spPr>
            <a:xfrm>
              <a:off x="2514600" y="4648320"/>
              <a:ext cx="296856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Group 32"/>
          <p:cNvGrpSpPr/>
          <p:nvPr/>
        </p:nvGrpSpPr>
        <p:grpSpPr>
          <a:xfrm>
            <a:off x="2514600" y="5029200"/>
            <a:ext cx="2968560" cy="758880"/>
            <a:chOff x="2514600" y="5029200"/>
            <a:chExt cx="2968560" cy="758880"/>
          </a:xfrm>
        </p:grpSpPr>
        <p:sp>
          <p:nvSpPr>
            <p:cNvPr id="259" name="Text Box 33"/>
            <p:cNvSpPr/>
            <p:nvPr/>
          </p:nvSpPr>
          <p:spPr>
            <a:xfrm>
              <a:off x="2590920" y="5410080"/>
              <a:ext cx="2816280" cy="3780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fak(4): n = 4, h = </a:t>
              </a:r>
              <a:r>
                <a:rPr b="0" lang="de-DE" sz="20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34"/>
            <p:cNvSpPr/>
            <p:nvPr/>
          </p:nvSpPr>
          <p:spPr>
            <a:xfrm>
              <a:off x="2514600" y="5029200"/>
              <a:ext cx="296856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Text Box 35"/>
          <p:cNvSpPr/>
          <p:nvPr/>
        </p:nvSpPr>
        <p:spPr>
          <a:xfrm>
            <a:off x="518148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Stack a volan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63" name="Group 2"/>
          <p:cNvGrpSpPr/>
          <p:nvPr/>
        </p:nvGrpSpPr>
        <p:grpSpPr>
          <a:xfrm>
            <a:off x="1371240" y="3429000"/>
            <a:ext cx="5864760" cy="3294720"/>
            <a:chOff x="1371240" y="3429000"/>
            <a:chExt cx="5864760" cy="3294720"/>
          </a:xfrm>
        </p:grpSpPr>
        <p:grpSp>
          <p:nvGrpSpPr>
            <p:cNvPr id="264" name="Group 3"/>
            <p:cNvGrpSpPr/>
            <p:nvPr/>
          </p:nvGrpSpPr>
          <p:grpSpPr>
            <a:xfrm>
              <a:off x="3352680" y="3733920"/>
              <a:ext cx="454320" cy="2435040"/>
              <a:chOff x="3352680" y="3733920"/>
              <a:chExt cx="454320" cy="2435040"/>
            </a:xfrm>
          </p:grpSpPr>
          <p:sp>
            <p:nvSpPr>
              <p:cNvPr id="265" name="Rectangle 4"/>
              <p:cNvSpPr/>
              <p:nvPr/>
            </p:nvSpPr>
            <p:spPr>
              <a:xfrm>
                <a:off x="3352680" y="4191120"/>
                <a:ext cx="301680" cy="197784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Text Box 5"/>
              <p:cNvSpPr/>
              <p:nvPr/>
            </p:nvSpPr>
            <p:spPr>
              <a:xfrm>
                <a:off x="3352680" y="3733920"/>
                <a:ext cx="454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6"/>
            <p:cNvGrpSpPr/>
            <p:nvPr/>
          </p:nvGrpSpPr>
          <p:grpSpPr>
            <a:xfrm>
              <a:off x="4495680" y="4038480"/>
              <a:ext cx="454320" cy="1901880"/>
              <a:chOff x="4495680" y="4038480"/>
              <a:chExt cx="454320" cy="1901880"/>
            </a:xfrm>
          </p:grpSpPr>
          <p:sp>
            <p:nvSpPr>
              <p:cNvPr id="268" name="Rectangle 7"/>
              <p:cNvSpPr/>
              <p:nvPr/>
            </p:nvSpPr>
            <p:spPr>
              <a:xfrm>
                <a:off x="4495680" y="4495680"/>
                <a:ext cx="301680" cy="144468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Text Box 8"/>
              <p:cNvSpPr/>
              <p:nvPr/>
            </p:nvSpPr>
            <p:spPr>
              <a:xfrm>
                <a:off x="4495680" y="4038480"/>
                <a:ext cx="454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9"/>
            <p:cNvGrpSpPr/>
            <p:nvPr/>
          </p:nvGrpSpPr>
          <p:grpSpPr>
            <a:xfrm>
              <a:off x="5638680" y="4343400"/>
              <a:ext cx="454320" cy="1368360"/>
              <a:chOff x="5638680" y="4343400"/>
              <a:chExt cx="454320" cy="1368360"/>
            </a:xfrm>
          </p:grpSpPr>
          <p:sp>
            <p:nvSpPr>
              <p:cNvPr id="271" name="Rectangle 10"/>
              <p:cNvSpPr/>
              <p:nvPr/>
            </p:nvSpPr>
            <p:spPr>
              <a:xfrm>
                <a:off x="5638680" y="4800600"/>
                <a:ext cx="301680" cy="91116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Text Box 11"/>
              <p:cNvSpPr/>
              <p:nvPr/>
            </p:nvSpPr>
            <p:spPr>
              <a:xfrm>
                <a:off x="5638680" y="4343400"/>
                <a:ext cx="454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2"/>
            <p:cNvGrpSpPr/>
            <p:nvPr/>
          </p:nvGrpSpPr>
          <p:grpSpPr>
            <a:xfrm>
              <a:off x="1371600" y="3429000"/>
              <a:ext cx="987480" cy="453960"/>
              <a:chOff x="1371600" y="3429000"/>
              <a:chExt cx="987480" cy="453960"/>
            </a:xfrm>
          </p:grpSpPr>
          <p:sp>
            <p:nvSpPr>
              <p:cNvPr id="274" name="Line 13"/>
              <p:cNvSpPr/>
              <p:nvPr/>
            </p:nvSpPr>
            <p:spPr>
              <a:xfrm>
                <a:off x="1371600" y="3882960"/>
                <a:ext cx="83520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14"/>
              <p:cNvSpPr/>
              <p:nvPr/>
            </p:nvSpPr>
            <p:spPr>
              <a:xfrm>
                <a:off x="1447920" y="342900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(4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5"/>
            <p:cNvGrpSpPr/>
            <p:nvPr/>
          </p:nvGrpSpPr>
          <p:grpSpPr>
            <a:xfrm>
              <a:off x="2209680" y="3429000"/>
              <a:ext cx="454320" cy="2968560"/>
              <a:chOff x="2209680" y="3429000"/>
              <a:chExt cx="454320" cy="2968560"/>
            </a:xfrm>
          </p:grpSpPr>
          <p:sp>
            <p:nvSpPr>
              <p:cNvPr id="277" name="Text Box 16"/>
              <p:cNvSpPr/>
              <p:nvPr/>
            </p:nvSpPr>
            <p:spPr>
              <a:xfrm>
                <a:off x="2209680" y="3429000"/>
                <a:ext cx="454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17"/>
              <p:cNvSpPr/>
              <p:nvPr/>
            </p:nvSpPr>
            <p:spPr>
              <a:xfrm>
                <a:off x="2209680" y="3886200"/>
                <a:ext cx="301680" cy="251136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18"/>
            <p:cNvSpPr/>
            <p:nvPr/>
          </p:nvSpPr>
          <p:spPr>
            <a:xfrm>
              <a:off x="2209680" y="3886200"/>
              <a:ext cx="301680" cy="301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19"/>
            <p:cNvSpPr/>
            <p:nvPr/>
          </p:nvSpPr>
          <p:spPr>
            <a:xfrm>
              <a:off x="3352680" y="4191120"/>
              <a:ext cx="301680" cy="301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20"/>
            <p:cNvSpPr/>
            <p:nvPr/>
          </p:nvSpPr>
          <p:spPr>
            <a:xfrm>
              <a:off x="4495680" y="4495680"/>
              <a:ext cx="301680" cy="301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21"/>
            <p:cNvSpPr/>
            <p:nvPr/>
          </p:nvSpPr>
          <p:spPr>
            <a:xfrm>
              <a:off x="5638680" y="4800600"/>
              <a:ext cx="301680" cy="301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3" name="Group 22"/>
            <p:cNvGrpSpPr/>
            <p:nvPr/>
          </p:nvGrpSpPr>
          <p:grpSpPr>
            <a:xfrm>
              <a:off x="2514600" y="3733920"/>
              <a:ext cx="987480" cy="453960"/>
              <a:chOff x="2514600" y="3733920"/>
              <a:chExt cx="987480" cy="453960"/>
            </a:xfrm>
          </p:grpSpPr>
          <p:sp>
            <p:nvSpPr>
              <p:cNvPr id="284" name="Line 23"/>
              <p:cNvSpPr/>
              <p:nvPr/>
            </p:nvSpPr>
            <p:spPr>
              <a:xfrm>
                <a:off x="2514600" y="4187880"/>
                <a:ext cx="83520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Text Box 24"/>
              <p:cNvSpPr/>
              <p:nvPr/>
            </p:nvSpPr>
            <p:spPr>
              <a:xfrm>
                <a:off x="2590920" y="373392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(3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25"/>
            <p:cNvGrpSpPr/>
            <p:nvPr/>
          </p:nvGrpSpPr>
          <p:grpSpPr>
            <a:xfrm>
              <a:off x="3657600" y="4038480"/>
              <a:ext cx="987480" cy="454320"/>
              <a:chOff x="3657600" y="4038480"/>
              <a:chExt cx="987480" cy="454320"/>
            </a:xfrm>
          </p:grpSpPr>
          <p:sp>
            <p:nvSpPr>
              <p:cNvPr id="287" name="Line 26"/>
              <p:cNvSpPr/>
              <p:nvPr/>
            </p:nvSpPr>
            <p:spPr>
              <a:xfrm>
                <a:off x="3657600" y="4492800"/>
                <a:ext cx="83520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Text Box 27"/>
              <p:cNvSpPr/>
              <p:nvPr/>
            </p:nvSpPr>
            <p:spPr>
              <a:xfrm>
                <a:off x="3733920" y="403848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(2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28"/>
            <p:cNvGrpSpPr/>
            <p:nvPr/>
          </p:nvGrpSpPr>
          <p:grpSpPr>
            <a:xfrm>
              <a:off x="4800600" y="4343400"/>
              <a:ext cx="987480" cy="453960"/>
              <a:chOff x="4800600" y="4343400"/>
              <a:chExt cx="987480" cy="453960"/>
            </a:xfrm>
          </p:grpSpPr>
          <p:sp>
            <p:nvSpPr>
              <p:cNvPr id="290" name="Line 29"/>
              <p:cNvSpPr/>
              <p:nvPr/>
            </p:nvSpPr>
            <p:spPr>
              <a:xfrm>
                <a:off x="4800600" y="4797360"/>
                <a:ext cx="83520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Text Box 30"/>
              <p:cNvSpPr/>
              <p:nvPr/>
            </p:nvSpPr>
            <p:spPr>
              <a:xfrm>
                <a:off x="4876920" y="434340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(1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31"/>
            <p:cNvGrpSpPr/>
            <p:nvPr/>
          </p:nvGrpSpPr>
          <p:grpSpPr>
            <a:xfrm>
              <a:off x="5943600" y="4648320"/>
              <a:ext cx="987480" cy="453960"/>
              <a:chOff x="5943600" y="4648320"/>
              <a:chExt cx="987480" cy="453960"/>
            </a:xfrm>
          </p:grpSpPr>
          <p:sp>
            <p:nvSpPr>
              <p:cNvPr id="293" name="Line 32"/>
              <p:cNvSpPr/>
              <p:nvPr/>
            </p:nvSpPr>
            <p:spPr>
              <a:xfrm>
                <a:off x="5943600" y="5102280"/>
                <a:ext cx="83520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33"/>
              <p:cNvSpPr/>
              <p:nvPr/>
            </p:nvSpPr>
            <p:spPr>
              <a:xfrm>
                <a:off x="6019920" y="464832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(0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34"/>
            <p:cNvGrpSpPr/>
            <p:nvPr/>
          </p:nvGrpSpPr>
          <p:grpSpPr>
            <a:xfrm>
              <a:off x="1371240" y="6019920"/>
              <a:ext cx="1139760" cy="703800"/>
              <a:chOff x="1371240" y="6019920"/>
              <a:chExt cx="1139760" cy="703800"/>
            </a:xfrm>
          </p:grpSpPr>
          <p:sp>
            <p:nvSpPr>
              <p:cNvPr id="296" name="Rectangle 35"/>
              <p:cNvSpPr/>
              <p:nvPr/>
            </p:nvSpPr>
            <p:spPr>
              <a:xfrm>
                <a:off x="2210040" y="6172200"/>
                <a:ext cx="300960" cy="22536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36"/>
              <p:cNvSpPr/>
              <p:nvPr/>
            </p:nvSpPr>
            <p:spPr>
              <a:xfrm flipH="1">
                <a:off x="1371240" y="6400800"/>
                <a:ext cx="83844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Text Box 37"/>
              <p:cNvSpPr/>
              <p:nvPr/>
            </p:nvSpPr>
            <p:spPr>
              <a:xfrm>
                <a:off x="1602720" y="6019920"/>
                <a:ext cx="377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38"/>
            <p:cNvGrpSpPr/>
            <p:nvPr/>
          </p:nvGrpSpPr>
          <p:grpSpPr>
            <a:xfrm>
              <a:off x="2514240" y="5791320"/>
              <a:ext cx="1139760" cy="398880"/>
              <a:chOff x="2514240" y="5791320"/>
              <a:chExt cx="1139760" cy="398880"/>
            </a:xfrm>
          </p:grpSpPr>
          <p:sp>
            <p:nvSpPr>
              <p:cNvPr id="300" name="Rectangle 39"/>
              <p:cNvSpPr/>
              <p:nvPr/>
            </p:nvSpPr>
            <p:spPr>
              <a:xfrm>
                <a:off x="3353040" y="5943600"/>
                <a:ext cx="300960" cy="22536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Line 40"/>
              <p:cNvSpPr/>
              <p:nvPr/>
            </p:nvSpPr>
            <p:spPr>
              <a:xfrm flipH="1">
                <a:off x="2514240" y="6172200"/>
                <a:ext cx="83844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Text Box 41"/>
              <p:cNvSpPr/>
              <p:nvPr/>
            </p:nvSpPr>
            <p:spPr>
              <a:xfrm>
                <a:off x="2745720" y="5791320"/>
                <a:ext cx="3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42"/>
            <p:cNvGrpSpPr/>
            <p:nvPr/>
          </p:nvGrpSpPr>
          <p:grpSpPr>
            <a:xfrm>
              <a:off x="3657240" y="5562720"/>
              <a:ext cx="1139760" cy="398880"/>
              <a:chOff x="3657240" y="5562720"/>
              <a:chExt cx="1139760" cy="398880"/>
            </a:xfrm>
          </p:grpSpPr>
          <p:sp>
            <p:nvSpPr>
              <p:cNvPr id="304" name="Rectangle 43"/>
              <p:cNvSpPr/>
              <p:nvPr/>
            </p:nvSpPr>
            <p:spPr>
              <a:xfrm>
                <a:off x="4496040" y="5715000"/>
                <a:ext cx="300960" cy="22536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44"/>
              <p:cNvSpPr/>
              <p:nvPr/>
            </p:nvSpPr>
            <p:spPr>
              <a:xfrm flipH="1">
                <a:off x="3657240" y="5943600"/>
                <a:ext cx="83844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Text Box 45"/>
              <p:cNvSpPr/>
              <p:nvPr/>
            </p:nvSpPr>
            <p:spPr>
              <a:xfrm>
                <a:off x="3888720" y="5562720"/>
                <a:ext cx="3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46"/>
            <p:cNvGrpSpPr/>
            <p:nvPr/>
          </p:nvGrpSpPr>
          <p:grpSpPr>
            <a:xfrm>
              <a:off x="4800240" y="5334120"/>
              <a:ext cx="1139760" cy="398880"/>
              <a:chOff x="4800240" y="5334120"/>
              <a:chExt cx="1139760" cy="398880"/>
            </a:xfrm>
          </p:grpSpPr>
          <p:sp>
            <p:nvSpPr>
              <p:cNvPr id="308" name="Rectangle 47"/>
              <p:cNvSpPr/>
              <p:nvPr/>
            </p:nvSpPr>
            <p:spPr>
              <a:xfrm>
                <a:off x="5639040" y="5486400"/>
                <a:ext cx="300960" cy="22536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48"/>
              <p:cNvSpPr/>
              <p:nvPr/>
            </p:nvSpPr>
            <p:spPr>
              <a:xfrm flipH="1">
                <a:off x="4800240" y="5715000"/>
                <a:ext cx="83844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Text Box 49"/>
              <p:cNvSpPr/>
              <p:nvPr/>
            </p:nvSpPr>
            <p:spPr>
              <a:xfrm>
                <a:off x="5031720" y="5334120"/>
                <a:ext cx="3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50"/>
            <p:cNvGrpSpPr/>
            <p:nvPr/>
          </p:nvGrpSpPr>
          <p:grpSpPr>
            <a:xfrm>
              <a:off x="6781680" y="4648320"/>
              <a:ext cx="454320" cy="834840"/>
              <a:chOff x="6781680" y="4648320"/>
              <a:chExt cx="454320" cy="834840"/>
            </a:xfrm>
          </p:grpSpPr>
          <p:sp>
            <p:nvSpPr>
              <p:cNvPr id="312" name="Text Box 51"/>
              <p:cNvSpPr/>
              <p:nvPr/>
            </p:nvSpPr>
            <p:spPr>
              <a:xfrm>
                <a:off x="6781680" y="4648320"/>
                <a:ext cx="454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fa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52"/>
              <p:cNvSpPr/>
              <p:nvPr/>
            </p:nvSpPr>
            <p:spPr>
              <a:xfrm>
                <a:off x="6781680" y="5105520"/>
                <a:ext cx="301680" cy="37764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53"/>
            <p:cNvGrpSpPr/>
            <p:nvPr/>
          </p:nvGrpSpPr>
          <p:grpSpPr>
            <a:xfrm>
              <a:off x="5943240" y="5105520"/>
              <a:ext cx="1139760" cy="398880"/>
              <a:chOff x="5943240" y="5105520"/>
              <a:chExt cx="1139760" cy="398880"/>
            </a:xfrm>
          </p:grpSpPr>
          <p:sp>
            <p:nvSpPr>
              <p:cNvPr id="315" name="Line 54"/>
              <p:cNvSpPr/>
              <p:nvPr/>
            </p:nvSpPr>
            <p:spPr>
              <a:xfrm flipH="1">
                <a:off x="5943240" y="5486400"/>
                <a:ext cx="83844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Text Box 55"/>
              <p:cNvSpPr/>
              <p:nvPr/>
            </p:nvSpPr>
            <p:spPr>
              <a:xfrm>
                <a:off x="6174720" y="5105520"/>
                <a:ext cx="3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56"/>
              <p:cNvSpPr/>
              <p:nvPr/>
            </p:nvSpPr>
            <p:spPr>
              <a:xfrm>
                <a:off x="6782040" y="5105520"/>
                <a:ext cx="300960" cy="37764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" name="Text Box 57"/>
          <p:cNvSpPr/>
          <p:nvPr/>
        </p:nvSpPr>
        <p:spPr>
          <a:xfrm rot="5400000">
            <a:off x="1145880" y="1981080"/>
            <a:ext cx="2514600" cy="380880"/>
          </a:xfrm>
          <a:prstGeom prst="rect">
            <a:avLst/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4): n = 4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58"/>
          <p:cNvSpPr/>
          <p:nvPr/>
        </p:nvSpPr>
        <p:spPr>
          <a:xfrm rot="5400000">
            <a:off x="2212200" y="1981080"/>
            <a:ext cx="2514600" cy="381240"/>
          </a:xfrm>
          <a:prstGeom prst="rect">
            <a:avLst/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3): n = 3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59"/>
          <p:cNvSpPr/>
          <p:nvPr/>
        </p:nvSpPr>
        <p:spPr>
          <a:xfrm rot="5400000">
            <a:off x="3355560" y="1981080"/>
            <a:ext cx="2514600" cy="381240"/>
          </a:xfrm>
          <a:prstGeom prst="rect">
            <a:avLst/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2): n = 2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60"/>
          <p:cNvSpPr/>
          <p:nvPr/>
        </p:nvSpPr>
        <p:spPr>
          <a:xfrm rot="5400000">
            <a:off x="4498560" y="1981080"/>
            <a:ext cx="2514600" cy="381240"/>
          </a:xfrm>
          <a:prstGeom prst="rect">
            <a:avLst/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1): n = 1, h =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61"/>
          <p:cNvSpPr/>
          <p:nvPr/>
        </p:nvSpPr>
        <p:spPr>
          <a:xfrm rot="5400000">
            <a:off x="5641560" y="1981080"/>
            <a:ext cx="2514600" cy="381240"/>
          </a:xfrm>
          <a:prstGeom prst="rect">
            <a:avLst/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ak(0): n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62"/>
          <p:cNvSpPr/>
          <p:nvPr/>
        </p:nvSpPr>
        <p:spPr>
          <a:xfrm>
            <a:off x="1046160" y="3425760"/>
            <a:ext cx="6649920" cy="1832040"/>
          </a:xfrm>
          <a:custGeom>
            <a:avLst/>
            <a:gdLst/>
            <a:ahLst/>
            <a:rect l="l" t="t" r="r" b="b"/>
            <a:pathLst>
              <a:path w="4189" h="1154">
                <a:moveTo>
                  <a:pt x="4189" y="1154"/>
                </a:moveTo>
                <a:lnTo>
                  <a:pt x="0" y="1152"/>
                </a:lnTo>
                <a:lnTo>
                  <a:pt x="0" y="0"/>
                </a:lnTo>
                <a:lnTo>
                  <a:pt x="3810" y="0"/>
                </a:ln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1-03-02T10:02:49Z</dcterms:modified>
  <cp:revision>278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