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1"/>
          <p:cNvSpPr/>
          <p:nvPr/>
        </p:nvSpPr>
        <p:spPr>
          <a:xfrm>
            <a:off x="0" y="0"/>
            <a:ext cx="6746760" cy="991404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4040"/>
              <a:gd name="textAreaBottom" fmla="*/ 9913680 h 9914040"/>
            </a:gdLst>
            <a:ahLst/>
            <a:rect l="textAreaLeft" t="textAreaTop" r="textAreaRight" b="textAreaBottom"/>
            <a:pathLst>
              <a:path w="21600" h="31740">
                <a:moveTo>
                  <a:pt x="5" y="0"/>
                </a:moveTo>
                <a:arcTo wR="5" hR="5" stAng="16200000" swAng="-5400000"/>
                <a:lnTo>
                  <a:pt x="0" y="31735"/>
                </a:lnTo>
                <a:arcTo wR="5" hR="5" stAng="10800000" swAng="-5400000"/>
                <a:lnTo>
                  <a:pt x="21595" y="31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0" y="0"/>
            <a:ext cx="6746760" cy="991404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4040"/>
              <a:gd name="textAreaBottom" fmla="*/ 9913680 h 9914040"/>
            </a:gdLst>
            <a:ahLst/>
            <a:rect l="textAreaLeft" t="textAreaTop" r="textAreaRight" b="textAreaBottom"/>
            <a:pathLst>
              <a:path w="21600" h="31740">
                <a:moveTo>
                  <a:pt x="5" y="0"/>
                </a:moveTo>
                <a:arcTo wR="5" hR="5" stAng="16200000" swAng="-5400000"/>
                <a:lnTo>
                  <a:pt x="0" y="31735"/>
                </a:lnTo>
                <a:arcTo wR="5" hR="5" stAng="10800000" swAng="-5400000"/>
                <a:lnTo>
                  <a:pt x="21595" y="31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2284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4960" y="742680"/>
            <a:ext cx="495468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0000" y="4708080"/>
            <a:ext cx="4943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941832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22840" y="941832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1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986A00-1749-4A5D-98DD-A177788B6152}" type="slidenum">
              <a:rPr b="1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A3D073-91DB-4D4D-9A7C-34DEB385E321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C768B9-FEC1-4C74-9015-BE6C98E1188D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243D8C-AFA0-47E4-8CC0-A69227FD0F16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3C919A-0996-421F-B7F7-DB2FE1A290D4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8E1B8B-448E-4FBF-928D-60886C4B4688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BC7201-4092-43D6-9FB8-20EE890C3CAC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B17278-4C5A-44DE-A96D-4E7F36846963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354988-5060-4D9C-AC95-0C5B9B588E48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6368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652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164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572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164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572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283-EBBA-4AE3-B5BE-9C0398C3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56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938-0B16-4FC9-94C2-65C7EDC6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56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790-10A5-4FF0-89BA-24576BD0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9C8-EDE8-44D4-9EB8-E0EB6FA5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6D1-687F-4DDB-BA09-E8A82E5D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33C-5818-4C7E-9B02-87F46FA2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74F-8819-4208-BFB3-0D09ACF3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56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652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252-F90A-4CDA-ACB4-A1E10AA7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906-5F3B-422D-81EF-E9132762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6368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939-BE78-4150-9BB3-27947A07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652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82C-1330-4BC8-A830-EC35FCC4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164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572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164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572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BF81-E11E-4D0D-8A76-3A9BBBE7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56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652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56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18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133720" y="3886200"/>
            <a:ext cx="639756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Kliknúť na vloženie tex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711000" y="6229440"/>
            <a:ext cx="1927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49280" y="6229440"/>
            <a:ext cx="2841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440"/>
            <a:ext cx="18259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4B4EDE-D050-4841-848E-E9D0E6C6D6AF}" type="slidenum">
              <a: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8.6 Glob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áln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emenn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oposiaľ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Dekl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ráci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menných iba vo funkciá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lok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álne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premenné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esp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parametre funkci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Teraz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Dekla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ácia premenných mimo funkci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glob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álne premen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762120" y="2286000"/>
            <a:ext cx="55623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 glob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áln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emenn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public class Binomialkoefi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 public static int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ocitadlo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= 0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public static int fak(int 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 int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ysledok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for (int i = 1; i &lt;= n; i++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ysledok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ysledok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* i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ocitadlo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ocitadlo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+ 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ysledok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914400" y="4495680"/>
            <a:ext cx="7467480" cy="838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 (String[] ar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int n = Integer.parseInt(args[0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k = Integer.parseInt(args[1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ysledok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= fak(n) / ( fak(k) * fak(n – k) 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“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ysledok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: “ +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ysledok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(“Funk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ci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fak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bol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“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ociatadlo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+ “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krat zavolan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 glob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áln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emenn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Glob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áln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emenn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ob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álna premenná môže byť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užitá v každej funkcii programu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j zmena v jednej funkcii je viditeľná v ostatných funkciá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mocou globálnych premenných si môžu funkcie jednoducho odovzdávať hodnot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 deklarácii je globálnej premennej priradená automaticky preddefinovaná hodno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3657600" y="2895480"/>
            <a:ext cx="99072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762120" y="2209680"/>
            <a:ext cx="36576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 Black"/>
              </a:rPr>
              <a:t>„</a:t>
            </a:r>
            <a:r>
              <a:rPr b="1" lang="sk-SK" sz="4000" spc="-1" strike="noStrike">
                <a:solidFill>
                  <a:srgbClr val="ff0000"/>
                </a:solidFill>
                <a:latin typeface="Arial Black"/>
              </a:rPr>
              <a:t>Proti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“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class Bubble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public static int[]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sort() 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iadny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boolean so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rted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       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Usporiada VZ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 { sort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= true;   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ol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a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 int i = 0; i &lt; a.length - 1; i++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if ( a[i] &gt; a[i+1]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int h 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[i]   = a[i+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[i+1] = 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= false; }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 while ( !sort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)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Glob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álne premenné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Odporúčan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rátenie hodnoty pomocou globálnej premennej sa neodporúč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mysluplné použitie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lob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álnej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mennej je napr.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čítad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ebug-Modus (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ďalši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F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 Debug-Mod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88568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public class Binomialkoefi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public static boolean debug = tru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public static int fak(int 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 int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ysledok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if (debu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System.out.println(“</a:t>
            </a:r>
            <a:r>
              <a:rPr b="1" lang="sk-SK" sz="2400" spc="-1" strike="noStrike">
                <a:solidFill>
                  <a:srgbClr val="ff0000"/>
                </a:solidFill>
                <a:latin typeface="Courier New"/>
              </a:rPr>
              <a:t>Pred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: n = “ + n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for (int i = 1; i &lt;= n; i++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if (debu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System.out.println(“</a:t>
            </a:r>
            <a:r>
              <a:rPr b="1" lang="sk-SK" sz="2400" spc="-1" strike="noStrike">
                <a:solidFill>
                  <a:srgbClr val="ff0000"/>
                </a:solidFill>
                <a:latin typeface="Courier New"/>
              </a:rPr>
              <a:t>Vnutri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: i = “ + i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ysledok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ysledok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* i;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553080" y="175248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fals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ff0000"/>
                </a:solidFill>
                <a:latin typeface="Arial Black"/>
              </a:rPr>
              <a:t>Platnosť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62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o funkcii môže byť deklarovaná lokálna premenná s rovnakým názvom ako globálna premenná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 takomto prípade globálna premenná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je lokálnou premenno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39164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ff0000"/>
                </a:solidFill>
                <a:latin typeface="Tahoma"/>
              </a:rPr>
              <a:t>zatiene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4T13:59:44Z</dcterms:created>
  <dc:creator>mga121</dc:creator>
  <dc:description/>
  <dc:language>en-US</dc:language>
  <cp:lastModifiedBy>Gabriel Juhás</cp:lastModifiedBy>
  <dcterms:modified xsi:type="dcterms:W3CDTF">2021-03-02T10:02:42Z</dcterms:modified>
  <cp:revision>278</cp:revision>
  <dc:subject/>
  <dc:title>Programmiertechnik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Test.html</vt:lpwstr>
  </property>
  <property fmtid="{D5CDD505-2E9C-101B-9397-08002B2CF9AE}" pid="9" name="LinkColor">
    <vt:r8>16711782</vt:r8>
  </property>
  <property fmtid="{D5CDD505-2E9C-101B-9397-08002B2CF9AE}" pid="10" name="MailAddress">
    <vt:lpwstr>Kindler@xxx.de</vt:lpwstr>
  </property>
  <property fmtid="{D5CDD505-2E9C-101B-9397-08002B2CF9AE}" pid="11" name="NavBtnPos">
    <vt:r8>1</vt:r8>
  </property>
  <property fmtid="{D5CDD505-2E9C-101B-9397-08002B2CF9AE}" pid="12" name="OutputDir">
    <vt:lpwstr>C:\WINNT\Profiles\mga121\Eigene Dateien\HTML</vt:lpwstr>
  </property>
  <property fmtid="{D5CDD505-2E9C-101B-9397-08002B2CF9AE}" pid="13" name="ScreenSize">
    <vt:r8>2</vt:r8>
  </property>
  <property fmtid="{D5CDD505-2E9C-101B-9397-08002B2CF9AE}" pid="14" name="ScreenUsage">
    <vt:r8>1</vt:r8>
  </property>
  <property fmtid="{D5CDD505-2E9C-101B-9397-08002B2CF9AE}" pid="15" name="ShowNotes">
    <vt:bool>0</vt:bool>
  </property>
  <property fmtid="{D5CDD505-2E9C-101B-9397-08002B2CF9AE}" pid="16" name="TemplateType">
    <vt:r8>1</vt:r8>
  </property>
  <property fmtid="{D5CDD505-2E9C-101B-9397-08002B2CF9AE}" pid="17" name="TextColor">
    <vt:r8>0</vt:r8>
  </property>
  <property fmtid="{D5CDD505-2E9C-101B-9397-08002B2CF9AE}" pid="18" name="TransparentButton">
    <vt:r8>0</vt:r8>
  </property>
  <property fmtid="{D5CDD505-2E9C-101B-9397-08002B2CF9AE}" pid="19" name="UseBrowserColor">
    <vt:bool>1</vt:bool>
  </property>
  <property fmtid="{D5CDD505-2E9C-101B-9397-08002B2CF9AE}" pid="20" name="VisitedColor">
    <vt:r8>10040268</vt:r8>
  </property>
</Properties>
</file>